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arrow.wav" ContentType="audio/x-wav"/>
  <Override PartName="/ppt/media/image1.png" ContentType="image/png"/>
  <Override PartName="/ppt/media/bomb.wav" ContentType="audio/x-wav"/>
  <Override PartName="/ppt/media/image6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8.png" ContentType="image/png"/>
  <Override PartName="/ppt/media/image5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01F-0F99-4ED5-AF96-C4C9563A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4DA-0BA0-450A-AF29-8AECCBC9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465-F20E-4A47-9D20-1BB412C6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1DC-91AF-40C7-B8C7-C196001B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6853-3948-47FC-8008-9947DA06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585A-CA10-43BF-A09E-CC7A54A5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8EC8-61B4-45D7-8481-0C7545CB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1E81-A22B-4968-9815-26289E6D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D157-E63B-4A99-864C-3E79677A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47C9-AAB1-4943-A71A-C47EF4F3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25AC-A6B2-446C-9AEE-0F2CF6E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939-F943-40F9-AE19-410719EF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C5CA-1A1A-41BC-9D61-9839B66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055F-5635-44BB-84A7-F0948B5D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57FE-A57C-497C-BE65-DE6690AA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93EA-94E4-4C09-BE54-13B779D2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2BDE-8AED-4AB4-8E6C-5704228C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C111F-915A-4BB9-89FD-8D3984EE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BCFE7-E65C-416A-9375-0971A812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3CE4D-6610-4F60-A562-731D3D93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F2268-F04B-47A4-9829-AF72EA74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88ADA-6256-4041-98E4-F741AEAE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DE8-8C37-4178-B887-BC055DE9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6B9DC-B176-4F93-BADD-D303A16C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5C373-D187-41A5-B063-913AB22C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1B12A-501A-4503-8872-133BC10D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855EC-75FF-4120-930E-8274FDB7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66B22-7DE9-43A1-B195-7C589709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3DC85-8305-430E-8F7F-EC3B03F1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0E1ED-8240-4050-BCAA-65C89EA3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7E088-4692-4069-A36D-03477FFD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B61A9-73A1-4632-B344-15159881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A409-9717-4539-9C31-5B65D36A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802-9AFD-4B47-A111-20C888FB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4B55-7C80-4013-82A0-2C32ABD0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3BC27-B0E3-42AE-8CC1-CB893823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9D0B3-D955-4ADF-B058-360877D2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54D5-39BB-4FE2-931A-FE2ED7A9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80721-9D4E-4F66-9A8C-3E8FA1E7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ACABB-D22F-4AB1-B4E4-98D2CFD9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1146-8E2F-4ADC-9ADA-EA7321B5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8568F-5F16-45F5-B68A-0CDE14F9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5A16-4DF6-4C6A-8F1D-EB60BF6C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51D1C-5A11-49F5-9CBF-8A300FDA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312-2876-40E5-9824-74E47F8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3725A-41FE-4851-BE6E-06A28C8A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7CF0B-3D6B-4EC1-924A-5E8F6E4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986EB-400D-4D1B-BB91-F8CB841E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E8B75-EED1-4379-A3A9-A7EAA046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6B49F-807A-4BE5-AC13-D68F0A28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78E9D-7A55-4F78-BB20-06EBF54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050C0-1E8D-406C-93F2-14B1A536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74F02-4C00-42DD-85F6-F6A9E350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83BA5-6CB4-428A-8F0D-00486C32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60ABA-AEF5-4D64-81D2-5E4BB2FB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9C1-7397-458A-BBF9-9CE19884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9FD99-89DF-4397-8554-BABCE112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D68AA-C0CB-4718-822B-ADB42D49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A1129-0E54-49CA-A39E-450B611D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65AF7-B985-4F71-B427-FA7464F8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3CC09-55DD-4C53-BD27-9AE4DD7C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7EBED-9299-46BB-9831-24240D2A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8E8D0-53F2-487B-8FC1-A730EECF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0699A-B4D3-47A8-9723-EB3AE289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0A5B5-7892-4145-8D4A-30A45E15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24BBF-5075-4C05-9038-CC21D7D6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C35-4D23-4318-9DA0-D60ED9BC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6E141-0847-4D8D-A3D3-823EBAAD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47E53-6A15-4CEC-A15E-7FDE8817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7247B-3B11-43EC-AA5F-5DAD01E4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62D2F-DF25-4232-9E2F-4492D668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EBA23-9F70-47C5-AB0B-14386C99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F7097-D21E-4111-A734-7A9BDA88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3599A-9749-470F-BFC3-B10E4839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DB1C8-036F-4CD1-BA79-2C019C17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45CF3-30F4-4029-92D3-8FE8898C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2BDD1-AEB2-4AB4-A4A1-89687E0B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50C-E843-4EDF-9089-BBA4B1CB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333D0-117F-4265-894B-A23BE0A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E951B-4B81-4F8B-8938-37ED169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57E78-64FC-45B5-92CD-E338705E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2B425-4EC9-44C0-A0CB-F1CD9630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9C9FC-6A2A-4D30-8F60-F5EB3A4F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3019-E046-40D7-B7CF-80D738D2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C21E9-702C-4B24-8EDF-CAAF8FFA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A5AC3-D9C8-46B7-A91B-8B280DEC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FD517-6CC7-465D-9586-19A2B414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2EB6-C026-4431-86E3-3075BC3A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41B-BB1B-4947-B1C4-5A0C086D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6C8CB-1091-48CC-A546-B34D759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96105-22A9-4228-99A9-5BB1CBE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A7675-72F4-4E1B-8D56-5286E7DE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C6BDE-863F-4D41-AD36-2BF7EBD7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A5BCD-6C47-4C10-BC65-A302E4ED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2919C-9CBE-4655-89C7-6043D16A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210AD-9650-4E27-A1B6-1372A631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464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CC02-9F2F-48F5-944B-235D6580F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078D-128C-4D1F-86BE-094B4833F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E583-2AEC-439C-99AB-A227D68325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731E-EF2B-45D5-A886-78E8B6E182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AAB9-2BFD-4CBE-A323-F0EA5D98FD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770E-438A-415A-B8DB-B58ED4164B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9916-77C0-4CD9-AC02-9859B8BA04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B7B8-3E43-4932-A248-B712FF68B9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384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PURPOSE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31640" y="3500280"/>
            <a:ext cx="655308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, Scope,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atures of Net Mod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0AB64-2271-4FEE-A38A-1308FD7FC1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000400" cy="47624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476360" y="58770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gular composition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-cycles:             a multi-purpose structure arising from 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6F1D8-6D64-4CFF-8499-B81D51EF1F8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A3B7-3889-4EE2-8F18-458BFF528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Purpose and Scop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s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re a tool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3600" spc="-1" strike="noStrike">
                <a:solidFill>
                  <a:srgbClr val="ff5050"/>
                </a:solidFill>
                <a:latin typeface="Arial"/>
              </a:rPr>
              <a:t>describe</a:t>
            </a:r>
            <a:r>
              <a:rPr b="0" lang="de-DE" sz="36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ff5050"/>
                </a:solidFill>
                <a:latin typeface="Arial"/>
              </a:rPr>
              <a:t> /   </a:t>
            </a:r>
            <a:r>
              <a:rPr b="1" lang="de-DE" sz="3600" spc="-1" strike="noStrike">
                <a:solidFill>
                  <a:srgbClr val="ff5050"/>
                </a:solidFill>
                <a:latin typeface="Arial"/>
              </a:rPr>
              <a:t>plan</a:t>
            </a:r>
            <a:r>
              <a:rPr b="0" lang="de-DE" sz="36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ff5050"/>
                </a:solidFill>
                <a:latin typeface="Arial"/>
              </a:rPr>
              <a:t> /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600" spc="-1" strike="noStrike">
                <a:solidFill>
                  <a:srgbClr val="ff5050"/>
                </a:solidFill>
                <a:latin typeface="Arial"/>
              </a:rPr>
              <a:t>analyze</a:t>
            </a:r>
            <a:r>
              <a:rPr b="0" lang="de-DE" sz="32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1" lang="de-DE" sz="3600" spc="-1" strike="noStrike">
                <a:solidFill>
                  <a:srgbClr val="003399"/>
                </a:solidFill>
                <a:latin typeface="Arial"/>
              </a:rPr>
              <a:t>O R G A N I Z E D   A C T I V I T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f people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3200" spc="-1" strike="noStrike">
                <a:solidFill>
                  <a:srgbClr val="669900"/>
                </a:solidFill>
                <a:latin typeface="Arial"/>
              </a:rPr>
              <a:t>of groups of peopl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artefacts ser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munication and contr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de-DE" sz="3200" spc="-1" strike="noStrike">
                <a:solidFill>
                  <a:srgbClr val="669900"/>
                </a:solidFill>
                <a:latin typeface="Arial"/>
              </a:rPr>
              <a:t>and in </a:t>
            </a:r>
            <a:r>
              <a:rPr b="1" lang="de-DE" sz="3200" spc="-1" strike="noStrike">
                <a:solidFill>
                  <a:srgbClr val="669900"/>
                </a:solidFill>
                <a:latin typeface="Arial"/>
              </a:rPr>
              <a:t>Natur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sage</a:t>
            </a:r>
            <a:r>
              <a:rPr b="1" i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f</a:t>
            </a:r>
            <a:r>
              <a:rPr b="1" i="1" lang="en-US" sz="44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escription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re graph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r in matrix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600" spc="-1" strike="noStrike">
                <a:solidFill>
                  <a:srgbClr val="cc0000"/>
                </a:solidFill>
                <a:latin typeface="Arial"/>
              </a:rPr>
              <a:t>Net</a:t>
            </a:r>
            <a:r>
              <a:rPr b="0" lang="de-DE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cc0000"/>
                </a:solidFill>
                <a:latin typeface="Arial"/>
              </a:rPr>
              <a:t>analysis</a:t>
            </a:r>
            <a:r>
              <a:rPr b="0" lang="de-DE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s  done </a:t>
            </a:r>
            <a:r>
              <a:rPr b="0" lang="de-DE" sz="2800" spc="-1" strike="noStrike">
                <a:solidFill>
                  <a:srgbClr val="669900"/>
                </a:solidFill>
                <a:latin typeface="Arial"/>
              </a:rPr>
              <a:t>on pap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or small nets,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d on </a:t>
            </a:r>
            <a:r>
              <a:rPr b="0" lang="de-DE" sz="2800" spc="-1" strike="noStrike">
                <a:solidFill>
                  <a:srgbClr val="3333ff"/>
                </a:solidFill>
                <a:latin typeface="Arial"/>
              </a:rPr>
              <a:t>computer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or large 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0066ff"/>
                </a:solidFill>
                <a:latin typeface="Arial"/>
              </a:rPr>
              <a:t>Net</a:t>
            </a:r>
            <a:r>
              <a:rPr b="0" lang="de-DE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0066ff"/>
                </a:solidFill>
                <a:latin typeface="Arial"/>
              </a:rPr>
              <a:t>simulation</a:t>
            </a:r>
            <a:r>
              <a:rPr b="0" lang="de-DE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ows arbitrary extensions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ules; it is performed on </a:t>
            </a:r>
            <a:r>
              <a:rPr b="0" lang="de-DE" sz="2400" spc="-1" strike="noStrike">
                <a:solidFill>
                  <a:srgbClr val="3333ff"/>
                </a:solidFill>
                <a:latin typeface="Arial"/>
              </a:rPr>
              <a:t>computer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de-DE" sz="2400" spc="-1" strike="noStrike">
                <a:solidFill>
                  <a:srgbClr val="669900"/>
                </a:solidFill>
                <a:latin typeface="Arial"/>
              </a:rPr>
              <a:t>Often, its results are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de-DE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conclusive</a:t>
            </a:r>
            <a:r>
              <a:rPr b="0" lang="de-DE" sz="2400" spc="-1" strike="noStrike">
                <a:solidFill>
                  <a:srgbClr val="66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99"/>
                </a:solidFill>
                <a:latin typeface="Arial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77080" y="155736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101080" y="1557360"/>
            <a:ext cx="360360" cy="35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24720" y="1557360"/>
            <a:ext cx="287280" cy="289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36000" y="17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812000" y="17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48360" y="2060640"/>
            <a:ext cx="144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36000" y="2060640"/>
            <a:ext cx="86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24720" y="2060640"/>
            <a:ext cx="287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48360" y="227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48360" y="249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aptop"/>
          <p:cNvSpPr/>
          <p:nvPr/>
        </p:nvSpPr>
        <p:spPr>
          <a:xfrm>
            <a:off x="900000" y="5516640"/>
            <a:ext cx="1513080" cy="1081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5661000"/>
            <a:ext cx="720720" cy="432000"/>
          </a:xfrm>
          <a:custGeom>
            <a:avLst/>
            <a:gdLst>
              <a:gd name="textAreaLeft" fmla="*/ 180000 w 720720"/>
              <a:gd name="textAreaRight" fmla="*/ 540720 w 720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aptop"/>
          <p:cNvSpPr/>
          <p:nvPr/>
        </p:nvSpPr>
        <p:spPr>
          <a:xfrm>
            <a:off x="900000" y="3645000"/>
            <a:ext cx="1513080" cy="1152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58920" y="3645000"/>
            <a:ext cx="792000" cy="433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6752f"/>
              </a:gs>
              <a:gs pos="50000">
                <a:srgbClr val="99ff66"/>
              </a:gs>
              <a:gs pos="100000">
                <a:srgbClr val="4675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42920" y="2060640"/>
            <a:ext cx="1297080" cy="576360"/>
          </a:xfrm>
          <a:custGeom>
            <a:avLst/>
            <a:gdLst>
              <a:gd name="textAreaLeft" fmla="*/ 0 w 1297080"/>
              <a:gd name="textAreaRight" fmla="*/ 1297440 w 129708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rcRect l="0" t="0" r="5373" b="0"/>
          <a:stretch/>
        </p:blipFill>
        <p:spPr>
          <a:xfrm>
            <a:off x="7270920" y="5010120"/>
            <a:ext cx="1873080" cy="184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3E48-BDAF-4A7F-A712-4CF1023FD3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72D9-220D-49CE-8B8A-AB435FE0D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Features of Net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    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Net Theory has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utterly simple rules 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(axiom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    Nets can express all basic system phenom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Concurrency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, partial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Independence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 of Acto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Conflict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, 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Confusion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,  Slack,  Track,  and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Rating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  and  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;   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effective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ontinuity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“safe”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“secur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et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n b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raise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to any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evel  /  Dim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0" y="501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0" y="1773360"/>
            <a:ext cx="57636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98508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0" y="1628640"/>
            <a:ext cx="11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844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Tahoma"/>
              </a:rPr>
              <a:t>&gt;&gt;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6C5F-AF7D-4EDC-967B-1A09469492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We can use a token        to denote …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"valid here and now"  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(as of "spring"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essage;  a bit;  a moving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a resource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a barrel of oil, a ton of coal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a car, a bag of money … 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partic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photon, an electron, an ato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light- or electric pu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9999"/>
                </a:solidFill>
                <a:latin typeface="Tahoma"/>
              </a:rPr>
              <a:t>a sign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tretch/>
        </p:blipFill>
        <p:spPr>
          <a:xfrm>
            <a:off x="0" y="198900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"/>
          <a:stretch/>
        </p:blipFill>
        <p:spPr>
          <a:xfrm>
            <a:off x="0" y="134136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6"/>
          <a:stretch/>
        </p:blipFill>
        <p:spPr>
          <a:xfrm>
            <a:off x="0" y="6093000"/>
            <a:ext cx="53964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710F7-EA6C-4708-BB15-8FBC492EB8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 Ancient Examp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a graphical Net description, the round shapes denote  </a:t>
            </a:r>
            <a:r>
              <a:rPr b="1" lang="de-DE" sz="2000" spc="-1" strike="noStrike">
                <a:solidFill>
                  <a:srgbClr val="3333ff"/>
                </a:solidFill>
                <a:latin typeface="Arial"/>
              </a:rPr>
              <a:t>Sta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 box shapes denote  </a:t>
            </a:r>
            <a:r>
              <a:rPr b="1" lang="de-DE" sz="2000" spc="-1" strike="noStrike">
                <a:solidFill>
                  <a:srgbClr val="3333ff"/>
                </a:solidFill>
                <a:latin typeface="Arial"/>
              </a:rPr>
              <a:t>Transitions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acts, activities, chan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08360" y="220500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8338-7EED-4A19-A70F-8F1A29E367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5000760" cy="4762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3564000" y="3240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d           wa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067280" y="4076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67280" y="2421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AE060-7F04-40E6-906C-71BB9BBCE9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5000760" cy="47624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627280" y="622620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ed o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-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BA90D-89AD-4A33-9BF7-278A6B3718A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9T18:43:25Z</dcterms:created>
  <dc:creator>Petri</dc:creator>
  <dc:description/>
  <dc:language>en-US</dc:language>
  <cp:lastModifiedBy>Petri</cp:lastModifiedBy>
  <dcterms:modified xsi:type="dcterms:W3CDTF">2004-09-24T21:53:43Z</dcterms:modified>
  <cp:revision>133</cp:revision>
  <dc:subject/>
  <dc:title>Slide 1</dc:title>
</cp:coreProperties>
</file>