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explode.wav" ContentType="audio/x-wav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9.png" ContentType="image/png"/>
  <Override PartName="/ppt/media/image28.png" ContentType="image/png"/>
  <Override PartName="/ppt/media/image30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29.png" ContentType="image/png"/>
  <Override PartName="/ppt/media/chimes.wav" ContentType="audio/x-wav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bomb.wav" ContentType="audio/x-wav"/>
  <Override PartName="/ppt/media/arrow.wav" ContentType="audio/x-wav"/>
  <Override PartName="/ppt/media/image23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34756-A5D8-4332-BAD5-D60EB3B18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367D6-518D-4CDF-ABA2-E767053B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14EAB-9F39-4777-BA3B-B44CD0115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F14D3-1073-4103-8209-68B21B61A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7E73-0559-46B4-8B1A-9900324B9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BA80-3D92-45B6-BE16-3BCBA8DE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6DA0-FBC8-48E3-8A2F-A52868DC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F0BA-F76F-4DC4-9493-84D1AA92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C3F3-0805-49F9-A3DB-45E88E2A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3237-5E8B-4F7F-89B4-4C506B0B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5E32-DC85-40AC-BDC4-FEB5A9A3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9E95C-47C0-4B6E-ACCE-8DA1B4BE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4FBA-A9AE-476A-BE2D-925B143F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7BFF-ACEA-4DDA-B08E-4EF8D190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42CE-133A-41EB-8FE9-C66F620B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09B0-4E8D-4866-AF2C-7DBB4E33C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2CC6-B2F7-4B01-A7DF-79206E298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8BFD2-B007-43F1-8235-0B7B864B1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00C3B-4E55-41A0-8485-5FF49088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E8B9B-BAFD-4417-BE99-C3338D5F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F00BD-6768-429C-99A1-E77E04C8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5198E-656F-4BF1-B23F-73A2B907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8DB77-7BCF-416C-B853-C3375584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1165A-8CB7-4AE1-8D0F-6BED21A1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08CA5-8A5E-4C8D-A1A0-88644CA8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A8DC6-4559-464B-99F6-BA6B9839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C9506-FAC8-45F7-818A-E1C83F64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7C1E8-E36A-4378-96A0-D23962E3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F8046-DBBA-4F18-B3B7-E99877E01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85AC6-1D0F-45E3-AE04-13B47A079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C4C93F-DDBB-4EDB-A35F-BA9399E54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D4D1F4-621E-4206-87BE-D2C9003B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7C3786-4DE5-42F6-BB6A-822F59F2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BCCFE-0833-4EC4-B251-39EA9E3D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3AA7B6-F976-4028-8FFE-0BE9AD13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2CF979-FCF9-443D-9431-69F39B96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90D04B-179E-44DE-A8A0-42035D68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DBACCB-7D60-4CE6-8595-4D0CF2C6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F5D222-4BB4-43F5-AC78-C3C9AE0B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F7E3D2-5661-47F8-A0BF-4430EE2F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D02209-C405-46E0-84EA-0721FF92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9638F5-E763-4DCE-AF7B-E4B142CA7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190605-3DEC-4D80-ACB6-47A114CE2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9B4CC-8F01-4699-B17A-6D5B878A6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15843-C52C-4B4A-9AB6-4E7A4E53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A2B41-ADCB-450D-8F8E-83D4EEA2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300A9-55DC-4300-BB93-1897589B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22B6A-6906-4042-A1E8-C2D3A839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45FF8-1D9F-4378-91FF-A2421E5D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63942-BC49-424A-9E5C-62631B42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7F4EC-F713-4071-AED1-3E50EF92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81F30-9CCF-4A8D-A39D-5946E68C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311A6-F0DA-45AA-8BC8-A1141163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3DD63-78F4-4B05-8DD6-4EDEFAD3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089DD-EC1F-40D1-8E2D-0457B60BC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9E3F7-72AF-4B99-A34E-203FC4EE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AA21E-E82D-4F93-8867-D45D5580C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77AD1-B472-4D11-B536-164859598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F23C6-8711-4A11-A19F-533F7B09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BB698-2D26-4F7E-9BB3-87B3924F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4B350-F0D8-487D-A82F-D53839DC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F941C-78D1-4ED0-966F-C964BD88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54945-EBAE-4AED-B3B5-A620CD77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1FE6D-5240-44B8-B19B-59781ED5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B21E0-286D-40AC-BC89-0D0FE943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9753C-AA2A-43FE-A1D8-08908943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1C8AF-4588-4754-A0D3-26111535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5E775-1550-4446-9DFD-6A5AEC4E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2FC71-222D-494A-BC80-E2FB59CD9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EE02C-C5D2-4A53-B387-C051F9D76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97689-C83F-428E-86AB-DA8161E47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927BB-9749-4486-B3A2-88BAC9C6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0701C-1D4D-439D-B1F3-CD2C5A9D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A4CD6-F0C3-4F0A-BFBB-C6F590F8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1AB20-08A9-443D-B2D0-E8EF2E43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2B816-7B60-47DB-9F3E-0778349F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834C2-7BAD-4990-92DD-FB2300DE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D55AB-3B6C-485A-BD92-33A29507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9A4BE-B8D6-49C1-B7BA-01D77923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CE55A-FC00-4388-AD5E-7D3CE4D9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AF1CE-0BD0-41EB-BE90-08F196DE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7F237-F0A3-4088-94EC-D7C9630AD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CE56D-1AD7-44CD-9CDF-04389E74E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D860D-C69A-4371-9ABA-D159B7478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FF6DF-237C-4ACA-BBB5-D4FDE5FB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A5032-BCCC-43E6-A917-BCC372EF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B53C5-E902-4BE2-897A-0E380B08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2D511-8A3A-4A53-BA80-8907BD46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C0BCE-8507-4AFC-ADDA-BF87A0F9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704F7-E044-4B22-B527-0AE388CC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84201-0711-4B04-A6DD-87CDC05D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63464-A9EA-49F3-8E99-A0A7FDA1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9819A-D72D-47BD-82B8-C5959173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AA5F4-7865-4CAD-A4E9-4FB71F98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BE912-52F6-4594-B5A0-3D997DB91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21BB3-D6A8-4F8D-B206-0B2448982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79A9-3CA7-4680-ACED-314F98429447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C3CE-F5F1-4744-9A34-8602A70C98EF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6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30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32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39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43C9-7C84-422A-BB5C-1D9C4C39EFAD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87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91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3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0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50FF-9D78-4B86-8795-79AC6E3B890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247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48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51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54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257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61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62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4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7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0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3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6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2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83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5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8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1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92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4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95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7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0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01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3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9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2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13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5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4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26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59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A29A-3E8A-4CA3-A91A-474610EFDF49}" type="slidenum">
              <a:rPr b="0" lang="en-GB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423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424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428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432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433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5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436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7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8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439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0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1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442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4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445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7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448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9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0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451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2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3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454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6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457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8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9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460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5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66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8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69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1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72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4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75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7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78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0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81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2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3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84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6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87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9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90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2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93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4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95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97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98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9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0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01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2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3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04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5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6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07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8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9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10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1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2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13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5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16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8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519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0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1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522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4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525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7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528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30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531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532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9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0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541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B26C-EBFE-47FF-B630-F9D809636238}" type="slidenum">
              <a:rPr b="0" lang="en-GB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596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9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600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3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625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BF5B-7E69-494E-BC5E-AF98E3C333F8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674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7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678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1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2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703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8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5B83-1EFA-4FE7-A61A-2A9A89F9FF85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5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2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7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8.png"/><Relationship Id="rId3" Type="http://schemas.openxmlformats.org/officeDocument/2006/relationships/image" Target="../media/image31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7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7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 txBox="1"/>
          <p:nvPr/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FE46-4CB6-4276-93CB-6A4E9D0B0356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1547640" y="549360"/>
            <a:ext cx="576108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Topology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pic>
        <p:nvPicPr>
          <p:cNvPr id="752" name="" descr=""/>
          <p:cNvPicPr/>
          <p:nvPr/>
        </p:nvPicPr>
        <p:blipFill>
          <a:blip r:embed="rId1"/>
          <a:stretch/>
        </p:blipFill>
        <p:spPr>
          <a:xfrm>
            <a:off x="4788000" y="3390840"/>
            <a:ext cx="3781440" cy="3467160"/>
          </a:xfrm>
          <a:prstGeom prst="rect">
            <a:avLst/>
          </a:prstGeom>
          <a:ln w="0">
            <a:noFill/>
          </a:ln>
        </p:spPr>
      </p:pic>
      <p:pic>
        <p:nvPicPr>
          <p:cNvPr id="753" name="" descr=""/>
          <p:cNvPicPr/>
          <p:nvPr/>
        </p:nvPicPr>
        <p:blipFill>
          <a:blip r:embed="rId2"/>
          <a:stretch/>
        </p:blipFill>
        <p:spPr>
          <a:xfrm>
            <a:off x="826920" y="3573360"/>
            <a:ext cx="3891240" cy="304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 txBox="1"/>
          <p:nvPr/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711F-2DCC-4AE3-AE02-3D07F4D8A721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68360" y="260280"/>
            <a:ext cx="7343640" cy="73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4f41"/>
                </a:solidFill>
                <a:latin typeface="Arial"/>
              </a:rPr>
              <a:t>          </a:t>
            </a:r>
            <a:r>
              <a:rPr b="1" lang="en-GB" sz="2800" spc="-1" strike="noStrike" u="sng">
                <a:solidFill>
                  <a:srgbClr val="ff4f41"/>
                </a:solidFill>
                <a:uFillTx/>
                <a:latin typeface="Arial"/>
              </a:rPr>
              <a:t>Resume  on  Net Topolog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finite connected Net is a </a:t>
            </a: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Continuous 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-elements are </a:t>
            </a: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OPE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singlet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-elements are </a:t>
            </a: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CLOSED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singlet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Closure of a subset </a:t>
            </a: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Y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of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is  </a:t>
            </a: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Y </a:t>
            </a: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A(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etMaps are continuous fun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  is "dense in X",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i.e.  Closure(S) =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1" lang="en-GB" sz="2400" spc="-1" strike="noStrike">
                <a:solidFill>
                  <a:srgbClr val="f8fc44"/>
                </a:solidFill>
                <a:latin typeface="Arial"/>
              </a:rPr>
              <a:t> DU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of a Net has the </a:t>
            </a:r>
            <a:r>
              <a:rPr b="1" lang="en-GB" sz="2400" spc="-1" strike="noStrike">
                <a:solidFill>
                  <a:srgbClr val="f8fc44"/>
                </a:solidFill>
                <a:latin typeface="Arial"/>
              </a:rPr>
              <a:t>dual Top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8fc44"/>
                </a:solidFill>
                <a:latin typeface="Arial"/>
              </a:rPr>
              <a:t>THE CONTINUUM can be mapped continuously        onto each finite connected (sub)Net of degree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b"/>
                </a:solidFill>
                <a:latin typeface="Arial"/>
              </a:rPr>
              <a:t>Def.: Two Nets are Isotopes of each other                                     </a:t>
            </a:r>
            <a:r>
              <a:rPr b="1" lang="en-GB" sz="2400" spc="-1" strike="noStrike">
                <a:solidFill>
                  <a:srgbClr val="7c8b69"/>
                </a:solidFill>
                <a:latin typeface="Arial"/>
              </a:rPr>
              <a:t>……...</a:t>
            </a:r>
            <a:r>
              <a:rPr b="1" lang="en-GB" sz="2400" spc="-1" strike="noStrike">
                <a:solidFill>
                  <a:srgbClr val="fffffb"/>
                </a:solidFill>
                <a:latin typeface="Arial"/>
              </a:rPr>
              <a:t>iff they have the same Top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6084720" y="292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" descr=""/>
          <p:cNvPicPr/>
          <p:nvPr/>
        </p:nvPicPr>
        <p:blipFill>
          <a:blip r:embed="rId1"/>
          <a:stretch/>
        </p:blipFill>
        <p:spPr>
          <a:xfrm>
            <a:off x="3635280" y="3573360"/>
            <a:ext cx="2143080" cy="3284640"/>
          </a:xfrm>
          <a:prstGeom prst="rect">
            <a:avLst/>
          </a:prstGeom>
          <a:ln w="0">
            <a:noFill/>
          </a:ln>
        </p:spPr>
      </p:pic>
      <p:sp>
        <p:nvSpPr>
          <p:cNvPr id="800" name=""/>
          <p:cNvSpPr/>
          <p:nvPr/>
        </p:nvSpPr>
        <p:spPr>
          <a:xfrm>
            <a:off x="5292720" y="3141720"/>
            <a:ext cx="1943280" cy="574560"/>
          </a:xfrm>
          <a:prstGeom prst="wedgeEllipseCallout">
            <a:avLst>
              <a:gd name="adj1" fmla="val -56453"/>
              <a:gd name="adj2" fmla="val 125416"/>
            </a:avLst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02000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602000"/>
                </a:solidFill>
                <a:latin typeface="Arial"/>
              </a:rPr>
              <a:t>please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E971E-1C53-4B19-80DB-DD784686C7B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" descr=""/>
          <p:cNvPicPr/>
          <p:nvPr/>
        </p:nvPicPr>
        <p:blipFill>
          <a:blip r:embed="rId1"/>
          <a:stretch/>
        </p:blipFill>
        <p:spPr>
          <a:xfrm>
            <a:off x="3635280" y="3573360"/>
            <a:ext cx="2143080" cy="3284640"/>
          </a:xfrm>
          <a:prstGeom prst="rect">
            <a:avLst/>
          </a:prstGeom>
          <a:ln w="0">
            <a:noFill/>
          </a:ln>
        </p:spPr>
      </p:pic>
      <p:sp>
        <p:nvSpPr>
          <p:cNvPr id="802" name=""/>
          <p:cNvSpPr/>
          <p:nvPr/>
        </p:nvSpPr>
        <p:spPr>
          <a:xfrm>
            <a:off x="5435640" y="3068640"/>
            <a:ext cx="2376360" cy="1152360"/>
          </a:xfrm>
          <a:prstGeom prst="wedgeEllipseCallout">
            <a:avLst>
              <a:gd name="adj1" fmla="val -62958"/>
              <a:gd name="adj2" fmla="val 54685"/>
            </a:avLst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02000"/>
                </a:solidFill>
                <a:latin typeface="Arial"/>
              </a:rPr>
              <a:t>… </a:t>
            </a:r>
            <a:r>
              <a:rPr b="1" lang="en-GB" sz="1800" spc="-1" strike="noStrike">
                <a:solidFill>
                  <a:srgbClr val="602000"/>
                </a:solidFill>
                <a:latin typeface="Arial"/>
              </a:rPr>
              <a:t>is  THE CONTINUUM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02000"/>
                </a:solidFill>
                <a:latin typeface="Arial"/>
              </a:rPr>
              <a:t>a  Net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D954A-956A-4906-9407-2E2BEE5672F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" descr=""/>
          <p:cNvPicPr/>
          <p:nvPr/>
        </p:nvPicPr>
        <p:blipFill>
          <a:blip r:embed="rId1"/>
          <a:srcRect l="5123" t="1566" r="4323" b="74150"/>
          <a:stretch/>
        </p:blipFill>
        <p:spPr>
          <a:xfrm>
            <a:off x="0" y="0"/>
            <a:ext cx="9144000" cy="4221000"/>
          </a:xfrm>
          <a:prstGeom prst="rect">
            <a:avLst/>
          </a:prstGeom>
          <a:ln w="0">
            <a:noFill/>
          </a:ln>
        </p:spPr>
      </p:pic>
      <p:sp>
        <p:nvSpPr>
          <p:cNvPr id="804" name=""/>
          <p:cNvSpPr/>
          <p:nvPr/>
        </p:nvSpPr>
        <p:spPr>
          <a:xfrm>
            <a:off x="8532720" y="620640"/>
            <a:ext cx="611280" cy="432000"/>
          </a:xfrm>
          <a:prstGeom prst="ellipse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5" name="" descr=""/>
          <p:cNvPicPr/>
          <p:nvPr/>
        </p:nvPicPr>
        <p:blipFill>
          <a:blip r:embed="rId2"/>
          <a:stretch/>
        </p:blipFill>
        <p:spPr>
          <a:xfrm>
            <a:off x="3635280" y="3573360"/>
            <a:ext cx="2143080" cy="3284640"/>
          </a:xfrm>
          <a:prstGeom prst="rect">
            <a:avLst/>
          </a:prstGeom>
          <a:ln w="0">
            <a:noFill/>
          </a:ln>
        </p:spPr>
      </p:pic>
      <p:sp>
        <p:nvSpPr>
          <p:cNvPr id="806" name=""/>
          <p:cNvSpPr/>
          <p:nvPr/>
        </p:nvSpPr>
        <p:spPr>
          <a:xfrm>
            <a:off x="900000" y="494172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GB" sz="3200" spc="-1" strike="noStrike">
                <a:solidFill>
                  <a:srgbClr val="c0c0c0"/>
                </a:solidFill>
                <a:latin typeface="Arial"/>
              </a:rPr>
              <a:t>But it's all                 for the cat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532720" y="0"/>
            <a:ext cx="611280" cy="476280"/>
          </a:xfrm>
          <a:prstGeom prst="ellipse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4221000"/>
            <a:ext cx="2340000" cy="0"/>
          </a:xfrm>
          <a:prstGeom prst="line">
            <a:avLst/>
          </a:prstGeom>
          <a:ln w="76320">
            <a:solidFill>
              <a:srgbClr val="ff4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AA0E8-7B05-4D7B-BBD7-82AA36545B4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" descr=""/>
          <p:cNvPicPr/>
          <p:nvPr/>
        </p:nvPicPr>
        <p:blipFill>
          <a:blip r:embed="rId1"/>
          <a:srcRect l="0" t="25813" r="0" b="0"/>
          <a:stretch/>
        </p:blipFill>
        <p:spPr>
          <a:xfrm>
            <a:off x="0" y="0"/>
            <a:ext cx="680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0" name="" descr=""/>
          <p:cNvPicPr/>
          <p:nvPr/>
        </p:nvPicPr>
        <p:blipFill>
          <a:blip r:embed="rId2"/>
          <a:stretch/>
        </p:blipFill>
        <p:spPr>
          <a:xfrm>
            <a:off x="7334280" y="3573360"/>
            <a:ext cx="1809720" cy="2773440"/>
          </a:xfrm>
          <a:prstGeom prst="rect">
            <a:avLst/>
          </a:prstGeom>
          <a:ln w="0">
            <a:noFill/>
          </a:ln>
        </p:spPr>
      </p:pic>
      <p:sp>
        <p:nvSpPr>
          <p:cNvPr id="811" name=""/>
          <p:cNvSpPr/>
          <p:nvPr/>
        </p:nvSpPr>
        <p:spPr>
          <a:xfrm>
            <a:off x="7020000" y="645336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t's for ME 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324000" y="198900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02000"/>
                </a:solidFill>
                <a:latin typeface="Arial"/>
              </a:rPr>
              <a:t>( 0,x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6EEFA-EDA2-47C3-AE41-25A64027E48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19640" cy="6858000"/>
          </a:xfrm>
          <a:prstGeom prst="rect">
            <a:avLst/>
          </a:prstGeom>
          <a:ln w="0">
            <a:noFill/>
          </a:ln>
        </p:spPr>
      </p:pic>
      <p:sp>
        <p:nvSpPr>
          <p:cNvPr id="814" name=""/>
          <p:cNvSpPr/>
          <p:nvPr/>
        </p:nvSpPr>
        <p:spPr>
          <a:xfrm>
            <a:off x="4788000" y="0"/>
            <a:ext cx="360360" cy="333360"/>
          </a:xfrm>
          <a:prstGeom prst="ellipse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5" name="" descr=""/>
          <p:cNvPicPr/>
          <p:nvPr/>
        </p:nvPicPr>
        <p:blipFill>
          <a:blip r:embed="rId2"/>
          <a:stretch/>
        </p:blipFill>
        <p:spPr>
          <a:xfrm>
            <a:off x="7329600" y="3573360"/>
            <a:ext cx="1814400" cy="2779920"/>
          </a:xfrm>
          <a:prstGeom prst="rect">
            <a:avLst/>
          </a:prstGeom>
          <a:ln w="0">
            <a:noFill/>
          </a:ln>
        </p:spPr>
      </p:pic>
      <p:sp>
        <p:nvSpPr>
          <p:cNvPr id="816" name=""/>
          <p:cNvSpPr/>
          <p:nvPr/>
        </p:nvSpPr>
        <p:spPr>
          <a:xfrm>
            <a:off x="7308720" y="6381720"/>
            <a:ext cx="18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ndeed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3"/>
          <a:srcRect l="0" t="0" r="8783" b="0"/>
          <a:stretch/>
        </p:blipFill>
        <p:spPr>
          <a:xfrm>
            <a:off x="6537240" y="549360"/>
            <a:ext cx="2606760" cy="2857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03A31-EF6D-4ADD-81F4-BA83450E3A0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581D-52A2-44AA-911B-9235E1D00D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19640" cy="6858000"/>
          </a:xfrm>
          <a:prstGeom prst="rect">
            <a:avLst/>
          </a:prstGeom>
          <a:ln w="0">
            <a:noFill/>
          </a:ln>
        </p:spPr>
      </p:pic>
      <p:pic>
        <p:nvPicPr>
          <p:cNvPr id="820" name="" descr=""/>
          <p:cNvPicPr/>
          <p:nvPr/>
        </p:nvPicPr>
        <p:blipFill>
          <a:blip r:embed="rId2"/>
          <a:srcRect l="0" t="0" r="8783" b="0"/>
          <a:stretch/>
        </p:blipFill>
        <p:spPr>
          <a:xfrm>
            <a:off x="6537240" y="549360"/>
            <a:ext cx="2606760" cy="2857320"/>
          </a:xfrm>
          <a:prstGeom prst="rect">
            <a:avLst/>
          </a:prstGeom>
          <a:ln w="0">
            <a:noFill/>
          </a:ln>
        </p:spPr>
      </p:pic>
      <p:sp>
        <p:nvSpPr>
          <p:cNvPr id="821" name=""/>
          <p:cNvSpPr/>
          <p:nvPr/>
        </p:nvSpPr>
        <p:spPr>
          <a:xfrm>
            <a:off x="4716360" y="0"/>
            <a:ext cx="432000" cy="333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7020000" y="5734080"/>
            <a:ext cx="1873080" cy="1123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3" name="" descr=""/>
          <p:cNvPicPr/>
          <p:nvPr/>
        </p:nvPicPr>
        <p:blipFill>
          <a:blip r:embed="rId3"/>
          <a:srcRect l="9060" t="0" r="18989" b="0"/>
          <a:stretch/>
        </p:blipFill>
        <p:spPr>
          <a:xfrm>
            <a:off x="7093080" y="2637000"/>
            <a:ext cx="1726920" cy="34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D168-B99D-4260-ACBD-CD560A3310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19640" cy="6858000"/>
          </a:xfrm>
          <a:prstGeom prst="rect">
            <a:avLst/>
          </a:prstGeom>
          <a:ln w="0">
            <a:noFill/>
          </a:ln>
        </p:spPr>
      </p:pic>
      <p:pic>
        <p:nvPicPr>
          <p:cNvPr id="826" name="" descr=""/>
          <p:cNvPicPr/>
          <p:nvPr/>
        </p:nvPicPr>
        <p:blipFill>
          <a:blip r:embed="rId2"/>
          <a:srcRect l="0" t="0" r="8783" b="0"/>
          <a:stretch/>
        </p:blipFill>
        <p:spPr>
          <a:xfrm>
            <a:off x="6537240" y="549360"/>
            <a:ext cx="2606760" cy="2857320"/>
          </a:xfrm>
          <a:prstGeom prst="rect">
            <a:avLst/>
          </a:prstGeom>
          <a:ln w="0">
            <a:noFill/>
          </a:ln>
        </p:spPr>
      </p:pic>
      <p:sp>
        <p:nvSpPr>
          <p:cNvPr id="827" name=""/>
          <p:cNvSpPr/>
          <p:nvPr/>
        </p:nvSpPr>
        <p:spPr>
          <a:xfrm>
            <a:off x="4716360" y="0"/>
            <a:ext cx="432000" cy="333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7020000" y="5734080"/>
            <a:ext cx="1873080" cy="1123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9" name="" descr=""/>
          <p:cNvPicPr/>
          <p:nvPr/>
        </p:nvPicPr>
        <p:blipFill>
          <a:blip r:embed="rId3"/>
          <a:srcRect l="9060" t="0" r="18989" b="0"/>
          <a:stretch/>
        </p:blipFill>
        <p:spPr>
          <a:xfrm>
            <a:off x="7093080" y="2637000"/>
            <a:ext cx="1726920" cy="3400200"/>
          </a:xfrm>
          <a:prstGeom prst="rect">
            <a:avLst/>
          </a:prstGeom>
          <a:ln w="0">
            <a:noFill/>
          </a:ln>
        </p:spPr>
      </p:pic>
      <p:pic>
        <p:nvPicPr>
          <p:cNvPr id="830" name="" descr=""/>
          <p:cNvPicPr/>
          <p:nvPr/>
        </p:nvPicPr>
        <p:blipFill>
          <a:blip r:embed="rId4"/>
          <a:srcRect l="5645" t="7667" r="19778" b="19734"/>
          <a:stretch/>
        </p:blipFill>
        <p:spPr>
          <a:xfrm>
            <a:off x="4859280" y="4365720"/>
            <a:ext cx="2521080" cy="163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1" name="" descr=""/>
          <p:cNvPicPr/>
          <p:nvPr/>
        </p:nvPicPr>
        <p:blipFill>
          <a:blip r:embed="rId1"/>
          <a:srcRect l="0" t="0" r="0" b="8107"/>
          <a:stretch/>
        </p:blipFill>
        <p:spPr>
          <a:xfrm>
            <a:off x="611280" y="4410000"/>
            <a:ext cx="2663640" cy="244800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971640" y="476280"/>
            <a:ext cx="72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c44"/>
                </a:solidFill>
                <a:latin typeface="Arial"/>
              </a:rPr>
              <a:t>Have  Nets  faile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to  represent                 the  Continuous  Flow of Time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3" name="" descr=""/>
          <p:cNvPicPr/>
          <p:nvPr/>
        </p:nvPicPr>
        <p:blipFill>
          <a:blip r:embed="rId2"/>
          <a:srcRect l="0" t="0" r="0" b="20811"/>
          <a:stretch/>
        </p:blipFill>
        <p:spPr>
          <a:xfrm>
            <a:off x="5651640" y="5589720"/>
            <a:ext cx="2376360" cy="1268280"/>
          </a:xfrm>
          <a:prstGeom prst="rect">
            <a:avLst/>
          </a:prstGeom>
          <a:ln w="0">
            <a:noFill/>
          </a:ln>
        </p:spPr>
      </p:pic>
      <p:sp>
        <p:nvSpPr>
          <p:cNvPr id="834" name=""/>
          <p:cNvSpPr/>
          <p:nvPr/>
        </p:nvSpPr>
        <p:spPr>
          <a:xfrm>
            <a:off x="4500720" y="5516640"/>
            <a:ext cx="1008000" cy="360360"/>
          </a:xfrm>
          <a:prstGeom prst="wedgeRoundRectCallout">
            <a:avLst>
              <a:gd name="adj1" fmla="val 90472"/>
              <a:gd name="adj2" fmla="val 94495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02000"/>
                </a:solidFill>
                <a:latin typeface="Arial"/>
              </a:rPr>
              <a:t>WAIT 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A1801-055C-4831-A692-C64E739011C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5" name="" descr=""/>
          <p:cNvPicPr/>
          <p:nvPr/>
        </p:nvPicPr>
        <p:blipFill>
          <a:blip r:embed="rId1"/>
          <a:srcRect l="2668" t="0" r="2739" b="82672"/>
          <a:stretch/>
        </p:blipFill>
        <p:spPr>
          <a:xfrm>
            <a:off x="0" y="1989000"/>
            <a:ext cx="9144000" cy="2689200"/>
          </a:xfrm>
          <a:prstGeom prst="rect">
            <a:avLst/>
          </a:prstGeom>
          <a:ln w="0">
            <a:noFill/>
          </a:ln>
        </p:spPr>
      </p:pic>
      <p:pic>
        <p:nvPicPr>
          <p:cNvPr id="836" name="" descr=""/>
          <p:cNvPicPr/>
          <p:nvPr/>
        </p:nvPicPr>
        <p:blipFill>
          <a:blip r:embed="rId2"/>
          <a:srcRect l="35056" t="0" r="0" b="8107"/>
          <a:stretch/>
        </p:blipFill>
        <p:spPr>
          <a:xfrm>
            <a:off x="0" y="4410000"/>
            <a:ext cx="1800360" cy="244800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971640" y="476280"/>
            <a:ext cx="72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c44"/>
                </a:solidFill>
                <a:latin typeface="Arial"/>
              </a:rPr>
              <a:t>Have  Nets  faile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to  represent                 the  Continuous  Flow of Time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8" name="" descr=""/>
          <p:cNvPicPr/>
          <p:nvPr/>
        </p:nvPicPr>
        <p:blipFill>
          <a:blip r:embed="rId3"/>
          <a:srcRect l="0" t="0" r="0" b="20811"/>
          <a:stretch/>
        </p:blipFill>
        <p:spPr>
          <a:xfrm>
            <a:off x="5651640" y="5589720"/>
            <a:ext cx="2376360" cy="1268280"/>
          </a:xfrm>
          <a:prstGeom prst="rect">
            <a:avLst/>
          </a:prstGeom>
          <a:ln w="0">
            <a:noFill/>
          </a:ln>
        </p:spPr>
      </p:pic>
      <p:sp>
        <p:nvSpPr>
          <p:cNvPr id="839" name=""/>
          <p:cNvSpPr/>
          <p:nvPr/>
        </p:nvSpPr>
        <p:spPr>
          <a:xfrm>
            <a:off x="8459640" y="2205000"/>
            <a:ext cx="684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F0C25-B97E-4D47-9E1B-13D6ED4B1AC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C43A-8DAA-4503-AF49-CEB425563759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1547640" y="1557360"/>
            <a:ext cx="576108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Topology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1"/>
          <a:stretch/>
        </p:blipFill>
        <p:spPr>
          <a:xfrm>
            <a:off x="4643280" y="3552840"/>
            <a:ext cx="3476880" cy="33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0" name="" descr=""/>
          <p:cNvPicPr/>
          <p:nvPr/>
        </p:nvPicPr>
        <p:blipFill>
          <a:blip r:embed="rId1"/>
          <a:srcRect l="0" t="14310" r="0" b="0"/>
          <a:stretch/>
        </p:blipFill>
        <p:spPr>
          <a:xfrm>
            <a:off x="0" y="0"/>
            <a:ext cx="6084720" cy="6858000"/>
          </a:xfrm>
          <a:prstGeom prst="rect">
            <a:avLst/>
          </a:prstGeom>
          <a:ln w="0">
            <a:noFill/>
          </a:ln>
        </p:spPr>
      </p:pic>
      <p:pic>
        <p:nvPicPr>
          <p:cNvPr id="841" name="" descr=""/>
          <p:cNvPicPr/>
          <p:nvPr/>
        </p:nvPicPr>
        <p:blipFill>
          <a:blip r:embed="rId2"/>
          <a:stretch/>
        </p:blipFill>
        <p:spPr>
          <a:xfrm>
            <a:off x="5580000" y="3201840"/>
            <a:ext cx="3348000" cy="3656160"/>
          </a:xfrm>
          <a:prstGeom prst="rect">
            <a:avLst/>
          </a:prstGeom>
          <a:ln w="0">
            <a:noFill/>
          </a:ln>
        </p:spPr>
      </p:pic>
      <p:sp>
        <p:nvSpPr>
          <p:cNvPr id="842" name=""/>
          <p:cNvSpPr/>
          <p:nvPr/>
        </p:nvSpPr>
        <p:spPr>
          <a:xfrm>
            <a:off x="5076720" y="6524640"/>
            <a:ext cx="863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75421-6A86-4DD7-BA6D-B1EA980EC30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7310520" cy="5084640"/>
          </a:xfrm>
          <a:prstGeom prst="rect">
            <a:avLst/>
          </a:prstGeom>
          <a:ln w="0">
            <a:noFill/>
          </a:ln>
        </p:spPr>
      </p:pic>
      <p:pic>
        <p:nvPicPr>
          <p:cNvPr id="844" name="" descr=""/>
          <p:cNvPicPr/>
          <p:nvPr/>
        </p:nvPicPr>
        <p:blipFill>
          <a:blip r:embed="rId2"/>
          <a:srcRect l="0" t="0" r="16885" b="0"/>
          <a:stretch/>
        </p:blipFill>
        <p:spPr>
          <a:xfrm>
            <a:off x="6921360" y="3068640"/>
            <a:ext cx="2222640" cy="3789360"/>
          </a:xfrm>
          <a:prstGeom prst="rect">
            <a:avLst/>
          </a:prstGeom>
          <a:ln w="0">
            <a:noFill/>
          </a:ln>
        </p:spPr>
      </p:pic>
      <p:sp>
        <p:nvSpPr>
          <p:cNvPr id="845" name=""/>
          <p:cNvSpPr/>
          <p:nvPr/>
        </p:nvSpPr>
        <p:spPr>
          <a:xfrm>
            <a:off x="0" y="0"/>
            <a:ext cx="644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c44"/>
                </a:solidFill>
                <a:latin typeface="Arial"/>
              </a:rPr>
              <a:t>Continuous Change is without  any effect unles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RTICULATED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3200" spc="-1" strike="noStrike">
                <a:solidFill>
                  <a:srgbClr val="f8fc44"/>
                </a:solidFill>
                <a:latin typeface="Arial"/>
              </a:rPr>
              <a:t>by a distinct ("non-zero")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4DEFA-5CC8-4B78-892F-373A465A25C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23e51"/>
            </a:gs>
            <a:gs pos="100000">
              <a:srgbClr val="918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5BE0-7341-44AF-A3A3-697E6402A2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258920" y="620640"/>
            <a:ext cx="727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t is it not part of our EXPERIENCE     that something can happen between                 any two nameable moments in time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843280" y="249228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c44"/>
                </a:solidFill>
                <a:latin typeface="Arial"/>
              </a:rPr>
              <a:t>( that Time Order is DENSE ?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258920" y="620640"/>
            <a:ext cx="727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c0c0"/>
                </a:solidFill>
                <a:latin typeface="Arial"/>
              </a:rPr>
              <a:t>. . . is it not part of our EXPERIENCE     that something can happen between                 any two nameable moments in time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843280" y="249228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be004"/>
                </a:solidFill>
                <a:latin typeface="Arial"/>
              </a:rPr>
              <a:t>( that Time Order is DENSE ?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468360" y="3573360"/>
            <a:ext cx="7343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is our HABIT to regard all Processes as     sequential and Time Order as OBJECTIVE and  LINEAR.                                          </a:t>
            </a:r>
            <a:r>
              <a:rPr b="0" lang="en-GB" sz="2800" spc="-1" strike="noStrike">
                <a:solidFill>
                  <a:srgbClr val="f8fc44"/>
                </a:solidFill>
                <a:latin typeface="Arial"/>
              </a:rPr>
              <a:t>When we map a </a:t>
            </a:r>
            <a:r>
              <a:rPr b="0" lang="en-GB" sz="2800" spc="-1" strike="noStrike">
                <a:solidFill>
                  <a:srgbClr val="00ffcc"/>
                </a:solidFill>
                <a:latin typeface="Arial"/>
              </a:rPr>
              <a:t>non-sequential process</a:t>
            </a:r>
            <a:r>
              <a:rPr b="0" lang="en-GB" sz="2800" spc="-1" strike="noStrike">
                <a:solidFill>
                  <a:srgbClr val="f8fc44"/>
                </a:solidFill>
                <a:latin typeface="Arial"/>
              </a:rPr>
              <a:t>            onto a Linear Scale, we must indeed reserve points between scale points for projecting    events</a:t>
            </a:r>
            <a:r>
              <a:rPr b="0" lang="en-GB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GB" sz="2800" spc="-1" strike="noStrike" u="sng">
                <a:solidFill>
                  <a:srgbClr val="ffcc66"/>
                </a:solidFill>
                <a:uFillTx/>
                <a:latin typeface="Arial"/>
              </a:rPr>
              <a:t>concurrent</a:t>
            </a:r>
            <a:r>
              <a:rPr b="0" lang="en-GB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8fc44"/>
                </a:solidFill>
                <a:latin typeface="Arial"/>
              </a:rPr>
              <a:t>to the scale poi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0750C-9B63-40BE-96C0-EAD4A8D9D6A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14E2-3E67-472E-9BC2-5C31EBE19C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843280" y="26028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c44"/>
                </a:solidFill>
                <a:latin typeface="Arial"/>
              </a:rPr>
              <a:t>( Is Time Order  DENSE ?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4" name="" descr=""/>
          <p:cNvPicPr/>
          <p:nvPr/>
        </p:nvPicPr>
        <p:blipFill>
          <a:blip r:embed="rId1"/>
          <a:srcRect l="8783" t="11668" r="10559" b="10219"/>
          <a:stretch/>
        </p:blipFill>
        <p:spPr>
          <a:xfrm>
            <a:off x="0" y="0"/>
            <a:ext cx="2305080" cy="2232000"/>
          </a:xfrm>
          <a:prstGeom prst="rect">
            <a:avLst/>
          </a:prstGeom>
          <a:ln w="0">
            <a:noFill/>
          </a:ln>
        </p:spPr>
      </p:pic>
      <p:sp>
        <p:nvSpPr>
          <p:cNvPr id="855" name=""/>
          <p:cNvSpPr/>
          <p:nvPr/>
        </p:nvSpPr>
        <p:spPr>
          <a:xfrm>
            <a:off x="2340000" y="112536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2268360" y="1413000"/>
            <a:ext cx="648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 Combinatorial Modelling, there is no need for a linear ordering of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all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vents -   we study instead the </a:t>
            </a:r>
            <a:r>
              <a:rPr b="0" lang="en-GB" sz="2800" spc="-1" strike="noStrike">
                <a:solidFill>
                  <a:srgbClr val="f8fc44"/>
                </a:solidFill>
                <a:latin typeface="Arial"/>
              </a:rPr>
              <a:t>CAUSAL ORDER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8fc44"/>
                </a:solidFill>
                <a:latin typeface="Arial"/>
              </a:rPr>
              <a:t>directly,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and that is a PARTIAL 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1042920" y="3573360"/>
            <a:ext cx="72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a60e02"/>
                </a:solidFill>
                <a:latin typeface="Arial"/>
              </a:rPr>
              <a:t>There is no reason to assume that  Causal  Order  is  Den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E11B-EEE6-43C6-8BC2-9993053127F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9" name="" descr=""/>
          <p:cNvPicPr/>
          <p:nvPr/>
        </p:nvPicPr>
        <p:blipFill>
          <a:blip r:embed="rId1"/>
          <a:srcRect l="19166" t="23866" r="10559" b="10219"/>
          <a:stretch/>
        </p:blipFill>
        <p:spPr>
          <a:xfrm>
            <a:off x="0" y="0"/>
            <a:ext cx="4500720" cy="4221000"/>
          </a:xfrm>
          <a:prstGeom prst="rect">
            <a:avLst/>
          </a:prstGeom>
          <a:ln w="0">
            <a:noFill/>
          </a:ln>
        </p:spPr>
      </p:pic>
      <p:sp>
        <p:nvSpPr>
          <p:cNvPr id="860" name=""/>
          <p:cNvSpPr/>
          <p:nvPr/>
        </p:nvSpPr>
        <p:spPr>
          <a:xfrm>
            <a:off x="2340000" y="112536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042920" y="3573360"/>
            <a:ext cx="81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here is no reason to assume that  Causal  Order  is  Den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/>
          <p:nvPr/>
        </p:nvSpPr>
        <p:spPr>
          <a:xfrm>
            <a:off x="1042920" y="907920"/>
            <a:ext cx="6913800" cy="54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et us regard a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CAUSAL STRUCTUR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         as a Signal- (Particle-Trajectory-) Structure composed of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world line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"  =  NETS of Degree 1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Transition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occurring exactly where                    world lines  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 intersect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or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 meet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or 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pl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cc"/>
                </a:solidFill>
                <a:latin typeface="Arial"/>
              </a:rPr>
              <a:t>The sections of world lines between neighboured  transitions are then the    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tates</a:t>
            </a:r>
            <a:r>
              <a:rPr b="1" lang="en-GB" sz="2400" spc="-1" strike="noStrike">
                <a:solidFill>
                  <a:srgbClr val="00ffcc"/>
                </a:solidFill>
                <a:latin typeface="Arial"/>
              </a:rPr>
              <a:t> of Signals / Parti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3A537-8DED-4CCD-B163-E1B72EAC5F4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7EFD-22CE-4622-9619-ED0DB01011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1"/>
          <a:srcRect l="8783" t="11668" r="10559" b="10219"/>
          <a:stretch/>
        </p:blipFill>
        <p:spPr>
          <a:xfrm>
            <a:off x="0" y="0"/>
            <a:ext cx="2305080" cy="2232000"/>
          </a:xfrm>
          <a:prstGeom prst="rect">
            <a:avLst/>
          </a:prstGeom>
          <a:ln w="0">
            <a:noFill/>
          </a:ln>
        </p:spPr>
      </p:pic>
      <p:sp>
        <p:nvSpPr>
          <p:cNvPr id="865" name=""/>
          <p:cNvSpPr/>
          <p:nvPr/>
        </p:nvSpPr>
        <p:spPr>
          <a:xfrm>
            <a:off x="2340000" y="112536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556000" y="260280"/>
            <a:ext cx="626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only initial difficulty is  to visualize     non-sequential behaviour in systems of many act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395280" y="2492280"/>
            <a:ext cx="388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at requires              some exerc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8" name="" descr=""/>
          <p:cNvPicPr/>
          <p:nvPr/>
        </p:nvPicPr>
        <p:blipFill>
          <a:blip r:embed="rId2"/>
          <a:stretch/>
        </p:blipFill>
        <p:spPr>
          <a:xfrm>
            <a:off x="4572000" y="2809800"/>
            <a:ext cx="2057400" cy="4048200"/>
          </a:xfrm>
          <a:prstGeom prst="rect">
            <a:avLst/>
          </a:prstGeom>
          <a:ln w="0">
            <a:noFill/>
          </a:ln>
        </p:spPr>
      </p:pic>
      <p:sp>
        <p:nvSpPr>
          <p:cNvPr id="869" name=""/>
          <p:cNvSpPr/>
          <p:nvPr/>
        </p:nvSpPr>
        <p:spPr>
          <a:xfrm>
            <a:off x="6948360" y="3789360"/>
            <a:ext cx="12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8C69-75AC-4B44-971C-09795048B53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1" name="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2143080" cy="4047840"/>
          </a:xfrm>
          <a:prstGeom prst="rect">
            <a:avLst/>
          </a:prstGeom>
          <a:ln w="0">
            <a:noFill/>
          </a:ln>
        </p:spPr>
      </p:pic>
      <p:pic>
        <p:nvPicPr>
          <p:cNvPr id="872" name="" descr=""/>
          <p:cNvPicPr/>
          <p:nvPr/>
        </p:nvPicPr>
        <p:blipFill>
          <a:blip r:embed="rId2"/>
          <a:stretch/>
        </p:blipFill>
        <p:spPr>
          <a:xfrm>
            <a:off x="3564000" y="2349360"/>
            <a:ext cx="1971720" cy="3695760"/>
          </a:xfrm>
          <a:prstGeom prst="rect">
            <a:avLst/>
          </a:prstGeom>
          <a:ln w="0">
            <a:noFill/>
          </a:ln>
        </p:spPr>
      </p:pic>
      <p:pic>
        <p:nvPicPr>
          <p:cNvPr id="873" name="" descr=""/>
          <p:cNvPicPr/>
          <p:nvPr/>
        </p:nvPicPr>
        <p:blipFill>
          <a:blip r:embed="rId3"/>
          <a:stretch/>
        </p:blipFill>
        <p:spPr>
          <a:xfrm>
            <a:off x="6588000" y="2349360"/>
            <a:ext cx="200052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7825-0886-43A8-B74F-550D68591F7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5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2143080" cy="4047840"/>
          </a:xfrm>
          <a:prstGeom prst="rect">
            <a:avLst/>
          </a:prstGeom>
          <a:ln w="0">
            <a:noFill/>
          </a:ln>
        </p:spPr>
      </p:pic>
      <p:pic>
        <p:nvPicPr>
          <p:cNvPr id="876" name="" descr=""/>
          <p:cNvPicPr/>
          <p:nvPr/>
        </p:nvPicPr>
        <p:blipFill>
          <a:blip r:embed="rId2"/>
          <a:stretch/>
        </p:blipFill>
        <p:spPr>
          <a:xfrm>
            <a:off x="3348000" y="2133720"/>
            <a:ext cx="2143080" cy="4047840"/>
          </a:xfrm>
          <a:prstGeom prst="rect">
            <a:avLst/>
          </a:prstGeom>
          <a:ln w="0">
            <a:noFill/>
          </a:ln>
        </p:spPr>
      </p:pic>
      <p:pic>
        <p:nvPicPr>
          <p:cNvPr id="877" name="" descr=""/>
          <p:cNvPicPr/>
          <p:nvPr/>
        </p:nvPicPr>
        <p:blipFill>
          <a:blip r:embed="rId3"/>
          <a:stretch/>
        </p:blipFill>
        <p:spPr>
          <a:xfrm>
            <a:off x="6084720" y="2133720"/>
            <a:ext cx="2143440" cy="40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 txBox="1"/>
          <p:nvPr/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2DCC-1070-47A0-B779-AD023A84B2B0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1547640" y="1557360"/>
            <a:ext cx="576108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Topology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1"/>
          <a:stretch/>
        </p:blipFill>
        <p:spPr>
          <a:xfrm>
            <a:off x="4643280" y="3552840"/>
            <a:ext cx="3476880" cy="33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8" name="" descr=""/>
          <p:cNvPicPr/>
          <p:nvPr/>
        </p:nvPicPr>
        <p:blipFill>
          <a:blip r:embed="rId1"/>
          <a:srcRect l="0" t="0" r="0" b="44668"/>
          <a:stretch/>
        </p:blipFill>
        <p:spPr>
          <a:xfrm>
            <a:off x="611280" y="2276640"/>
            <a:ext cx="2143080" cy="2239920"/>
          </a:xfrm>
          <a:prstGeom prst="rect">
            <a:avLst/>
          </a:prstGeom>
          <a:ln w="0">
            <a:noFill/>
          </a:ln>
        </p:spPr>
      </p:pic>
      <p:pic>
        <p:nvPicPr>
          <p:cNvPr id="879" name="" descr=""/>
          <p:cNvPicPr/>
          <p:nvPr/>
        </p:nvPicPr>
        <p:blipFill>
          <a:blip r:embed="rId2"/>
          <a:srcRect l="0" t="0" r="0" b="44668"/>
          <a:stretch/>
        </p:blipFill>
        <p:spPr>
          <a:xfrm>
            <a:off x="3203640" y="2276640"/>
            <a:ext cx="2143080" cy="2239920"/>
          </a:xfrm>
          <a:prstGeom prst="rect">
            <a:avLst/>
          </a:prstGeom>
          <a:ln w="0">
            <a:noFill/>
          </a:ln>
        </p:spPr>
      </p:pic>
      <p:pic>
        <p:nvPicPr>
          <p:cNvPr id="880" name="" descr=""/>
          <p:cNvPicPr/>
          <p:nvPr/>
        </p:nvPicPr>
        <p:blipFill>
          <a:blip r:embed="rId3"/>
          <a:srcRect l="0" t="0" r="0" b="43067"/>
          <a:stretch/>
        </p:blipFill>
        <p:spPr>
          <a:xfrm>
            <a:off x="5796000" y="2276640"/>
            <a:ext cx="2143080" cy="230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3E87A-F2F1-4467-8EC3-9227BC9AFC8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1" name="" descr=""/>
          <p:cNvPicPr/>
          <p:nvPr/>
        </p:nvPicPr>
        <p:blipFill>
          <a:blip r:embed="rId1"/>
          <a:srcRect l="0" t="0" r="0" b="9058"/>
          <a:stretch/>
        </p:blipFill>
        <p:spPr>
          <a:xfrm>
            <a:off x="1486080" y="0"/>
            <a:ext cx="678636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C65DC-6F73-47F4-9801-06BD63B176FE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2843280" y="2060640"/>
            <a:ext cx="576360" cy="576360"/>
          </a:xfrm>
          <a:prstGeom prst="rect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5508720" y="3500280"/>
            <a:ext cx="576000" cy="576360"/>
          </a:xfrm>
          <a:prstGeom prst="rect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3203640" y="3141720"/>
            <a:ext cx="576360" cy="576360"/>
          </a:xfrm>
          <a:prstGeom prst="rect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5651640" y="1844640"/>
            <a:ext cx="576000" cy="576360"/>
          </a:xfrm>
          <a:prstGeom prst="rect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 rot="20252400">
            <a:off x="2432160" y="2570040"/>
            <a:ext cx="598320" cy="1216080"/>
          </a:xfrm>
          <a:custGeom>
            <a:avLst/>
            <a:gdLst>
              <a:gd name="textAreaLeft" fmla="*/ 79920 w 598320"/>
              <a:gd name="textAreaRight" fmla="*/ 518400 w 598320"/>
              <a:gd name="textAreaTop" fmla="*/ 212760 h 1216080"/>
              <a:gd name="textAreaBottom" fmla="*/ 88164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rot="239400">
            <a:off x="6156360" y="2058840"/>
            <a:ext cx="863640" cy="2089440"/>
          </a:xfrm>
          <a:custGeom>
            <a:avLst/>
            <a:gdLst>
              <a:gd name="textAreaLeft" fmla="*/ 115560 w 863640"/>
              <a:gd name="textAreaRight" fmla="*/ 748080 w 863640"/>
              <a:gd name="textAreaTop" fmla="*/ 378360 h 2089440"/>
              <a:gd name="textAreaBottom" fmla="*/ 1501920 h 208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827" stAng="-5400000" swAng="5400000"/>
                <a:lnTo>
                  <a:pt x="21600" y="11614"/>
                </a:lnTo>
                <a:arcTo wR="21600" hR="7827" stAng="0" swAng="2024137"/>
                <a:lnTo>
                  <a:pt x="10301" y="20653"/>
                </a:lnTo>
                <a:lnTo>
                  <a:pt x="0" y="17547"/>
                </a:lnTo>
                <a:lnTo>
                  <a:pt x="10301" y="12546"/>
                </a:lnTo>
                <a:lnTo>
                  <a:pt x="10301" y="14706"/>
                </a:lnTo>
                <a:arcTo wR="21600" hR="7827" stAng="2024137" swAng="-1714392"/>
                <a:lnTo>
                  <a:pt x="20958" y="9720"/>
                </a:lnTo>
                <a:arcTo wR="21600" hR="7827" stAng="-309746" swAng="-5090254"/>
                <a:close/>
              </a:path>
              <a:path fill="darkenLess" w="21600" h="21600">
                <a:moveTo>
                  <a:pt x="0" y="0"/>
                </a:moveTo>
                <a:arcTo wR="21600" hR="7827" stAng="-5400000" swAng="5400000"/>
                <a:lnTo>
                  <a:pt x="21600" y="11614"/>
                </a:lnTo>
                <a:arcTo wR="21600" hR="7827" stAng="0" swAng="-309746"/>
                <a:lnTo>
                  <a:pt x="20958" y="9720"/>
                </a:lnTo>
                <a:arcTo wR="21600" hR="7827" stAng="-309746" swAng="-5090254"/>
                <a:close/>
              </a:path>
            </a:pathLst>
          </a:cu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 rot="19806600">
            <a:off x="3639960" y="2595600"/>
            <a:ext cx="2163960" cy="585720"/>
          </a:xfrm>
          <a:prstGeom prst="leftArrow">
            <a:avLst>
              <a:gd name="adj1" fmla="val 50000"/>
              <a:gd name="adj2" fmla="val 92363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 rot="12496800">
            <a:off x="3276360" y="2780640"/>
            <a:ext cx="2376360" cy="647640"/>
          </a:xfrm>
          <a:prstGeom prst="leftArrow">
            <a:avLst>
              <a:gd name="adj1" fmla="val 50000"/>
              <a:gd name="adj2" fmla="val 91732"/>
            </a:avLst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826920" y="33336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imple enough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F7351-2EB9-42EB-A03E-9B465EE52349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2843280" y="2060640"/>
            <a:ext cx="576360" cy="576360"/>
          </a:xfrm>
          <a:prstGeom prst="rect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508720" y="3500280"/>
            <a:ext cx="576000" cy="576360"/>
          </a:xfrm>
          <a:prstGeom prst="rect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3203640" y="3141720"/>
            <a:ext cx="576360" cy="576360"/>
          </a:xfrm>
          <a:prstGeom prst="rect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651640" y="1844640"/>
            <a:ext cx="576000" cy="576360"/>
          </a:xfrm>
          <a:prstGeom prst="rect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 rot="20252400">
            <a:off x="2432160" y="2570040"/>
            <a:ext cx="598320" cy="1216080"/>
          </a:xfrm>
          <a:custGeom>
            <a:avLst/>
            <a:gdLst>
              <a:gd name="textAreaLeft" fmla="*/ 79920 w 598320"/>
              <a:gd name="textAreaRight" fmla="*/ 518400 w 598320"/>
              <a:gd name="textAreaTop" fmla="*/ 212760 h 1216080"/>
              <a:gd name="textAreaBottom" fmla="*/ 88164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 rot="239400">
            <a:off x="6156360" y="2058840"/>
            <a:ext cx="863640" cy="2089440"/>
          </a:xfrm>
          <a:custGeom>
            <a:avLst/>
            <a:gdLst>
              <a:gd name="textAreaLeft" fmla="*/ 115560 w 863640"/>
              <a:gd name="textAreaRight" fmla="*/ 748080 w 863640"/>
              <a:gd name="textAreaTop" fmla="*/ 378360 h 2089440"/>
              <a:gd name="textAreaBottom" fmla="*/ 1501920 h 208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827" stAng="-5400000" swAng="5400000"/>
                <a:lnTo>
                  <a:pt x="21600" y="11614"/>
                </a:lnTo>
                <a:arcTo wR="21600" hR="7827" stAng="0" swAng="2024137"/>
                <a:lnTo>
                  <a:pt x="10301" y="20653"/>
                </a:lnTo>
                <a:lnTo>
                  <a:pt x="0" y="17547"/>
                </a:lnTo>
                <a:lnTo>
                  <a:pt x="10301" y="12546"/>
                </a:lnTo>
                <a:lnTo>
                  <a:pt x="10301" y="14706"/>
                </a:lnTo>
                <a:arcTo wR="21600" hR="7827" stAng="2024137" swAng="-1714392"/>
                <a:lnTo>
                  <a:pt x="20958" y="9720"/>
                </a:lnTo>
                <a:arcTo wR="21600" hR="7827" stAng="-309746" swAng="-5090254"/>
                <a:close/>
              </a:path>
              <a:path fill="darkenLess" w="21600" h="21600">
                <a:moveTo>
                  <a:pt x="0" y="0"/>
                </a:moveTo>
                <a:arcTo wR="21600" hR="7827" stAng="-5400000" swAng="5400000"/>
                <a:lnTo>
                  <a:pt x="21600" y="11614"/>
                </a:lnTo>
                <a:arcTo wR="21600" hR="7827" stAng="0" swAng="-309746"/>
                <a:lnTo>
                  <a:pt x="20958" y="9720"/>
                </a:lnTo>
                <a:arcTo wR="21600" hR="7827" stAng="-309746" swAng="-5090254"/>
                <a:close/>
              </a:path>
            </a:pathLst>
          </a:cu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rot="19806600">
            <a:off x="3639960" y="2595600"/>
            <a:ext cx="2163960" cy="585720"/>
          </a:xfrm>
          <a:prstGeom prst="leftArrow">
            <a:avLst>
              <a:gd name="adj1" fmla="val 50000"/>
              <a:gd name="adj2" fmla="val 92363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 rot="12496800">
            <a:off x="3276360" y="2780640"/>
            <a:ext cx="2376360" cy="647640"/>
          </a:xfrm>
          <a:prstGeom prst="leftArrow">
            <a:avLst>
              <a:gd name="adj1" fmla="val 50000"/>
              <a:gd name="adj2" fmla="val 91732"/>
            </a:avLst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429000" y="1960560"/>
            <a:ext cx="2228760" cy="325440"/>
          </a:xfrm>
          <a:custGeom>
            <a:avLst/>
            <a:gdLst/>
            <a:ahLst/>
            <a:rect l="l" t="t" r="r" b="b"/>
            <a:pathLst>
              <a:path w="1404" h="205">
                <a:moveTo>
                  <a:pt x="0" y="205"/>
                </a:moveTo>
                <a:cubicBezTo>
                  <a:pt x="16" y="181"/>
                  <a:pt x="32" y="157"/>
                  <a:pt x="48" y="133"/>
                </a:cubicBezTo>
                <a:cubicBezTo>
                  <a:pt x="62" y="112"/>
                  <a:pt x="96" y="117"/>
                  <a:pt x="120" y="109"/>
                </a:cubicBezTo>
                <a:cubicBezTo>
                  <a:pt x="132" y="105"/>
                  <a:pt x="156" y="97"/>
                  <a:pt x="156" y="97"/>
                </a:cubicBezTo>
                <a:cubicBezTo>
                  <a:pt x="167" y="100"/>
                  <a:pt x="226" y="113"/>
                  <a:pt x="240" y="121"/>
                </a:cubicBezTo>
                <a:cubicBezTo>
                  <a:pt x="364" y="190"/>
                  <a:pt x="267" y="154"/>
                  <a:pt x="348" y="181"/>
                </a:cubicBezTo>
                <a:cubicBezTo>
                  <a:pt x="351" y="180"/>
                  <a:pt x="424" y="163"/>
                  <a:pt x="432" y="157"/>
                </a:cubicBezTo>
                <a:cubicBezTo>
                  <a:pt x="443" y="148"/>
                  <a:pt x="445" y="130"/>
                  <a:pt x="456" y="121"/>
                </a:cubicBezTo>
                <a:cubicBezTo>
                  <a:pt x="478" y="102"/>
                  <a:pt x="528" y="73"/>
                  <a:pt x="528" y="73"/>
                </a:cubicBezTo>
                <a:cubicBezTo>
                  <a:pt x="590" y="83"/>
                  <a:pt x="621" y="87"/>
                  <a:pt x="672" y="121"/>
                </a:cubicBezTo>
                <a:cubicBezTo>
                  <a:pt x="712" y="117"/>
                  <a:pt x="753" y="118"/>
                  <a:pt x="792" y="109"/>
                </a:cubicBezTo>
                <a:cubicBezTo>
                  <a:pt x="843" y="97"/>
                  <a:pt x="817" y="77"/>
                  <a:pt x="852" y="49"/>
                </a:cubicBezTo>
                <a:cubicBezTo>
                  <a:pt x="873" y="32"/>
                  <a:pt x="902" y="28"/>
                  <a:pt x="924" y="13"/>
                </a:cubicBezTo>
                <a:cubicBezTo>
                  <a:pt x="1157" y="39"/>
                  <a:pt x="958" y="0"/>
                  <a:pt x="1068" y="49"/>
                </a:cubicBezTo>
                <a:cubicBezTo>
                  <a:pt x="1091" y="59"/>
                  <a:pt x="1140" y="73"/>
                  <a:pt x="1140" y="73"/>
                </a:cubicBezTo>
                <a:cubicBezTo>
                  <a:pt x="1196" y="59"/>
                  <a:pt x="1216" y="49"/>
                  <a:pt x="1248" y="1"/>
                </a:cubicBezTo>
                <a:cubicBezTo>
                  <a:pt x="1291" y="15"/>
                  <a:pt x="1356" y="49"/>
                  <a:pt x="1404" y="49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rot="21081000">
            <a:off x="3779640" y="3573000"/>
            <a:ext cx="1714320" cy="400320"/>
          </a:xfrm>
          <a:custGeom>
            <a:avLst/>
            <a:gdLst/>
            <a:ahLst/>
            <a:rect l="l" t="t" r="r" b="b"/>
            <a:pathLst>
              <a:path w="1080" h="252">
                <a:moveTo>
                  <a:pt x="0" y="0"/>
                </a:moveTo>
                <a:cubicBezTo>
                  <a:pt x="48" y="16"/>
                  <a:pt x="68" y="30"/>
                  <a:pt x="96" y="72"/>
                </a:cubicBezTo>
                <a:cubicBezTo>
                  <a:pt x="157" y="57"/>
                  <a:pt x="169" y="65"/>
                  <a:pt x="204" y="12"/>
                </a:cubicBezTo>
                <a:cubicBezTo>
                  <a:pt x="233" y="19"/>
                  <a:pt x="267" y="22"/>
                  <a:pt x="288" y="48"/>
                </a:cubicBezTo>
                <a:cubicBezTo>
                  <a:pt x="296" y="58"/>
                  <a:pt x="294" y="73"/>
                  <a:pt x="300" y="84"/>
                </a:cubicBezTo>
                <a:cubicBezTo>
                  <a:pt x="306" y="97"/>
                  <a:pt x="316" y="108"/>
                  <a:pt x="324" y="120"/>
                </a:cubicBezTo>
                <a:cubicBezTo>
                  <a:pt x="394" y="110"/>
                  <a:pt x="425" y="109"/>
                  <a:pt x="480" y="72"/>
                </a:cubicBezTo>
                <a:cubicBezTo>
                  <a:pt x="500" y="76"/>
                  <a:pt x="521" y="77"/>
                  <a:pt x="540" y="84"/>
                </a:cubicBezTo>
                <a:cubicBezTo>
                  <a:pt x="591" y="103"/>
                  <a:pt x="565" y="109"/>
                  <a:pt x="600" y="144"/>
                </a:cubicBezTo>
                <a:cubicBezTo>
                  <a:pt x="623" y="167"/>
                  <a:pt x="643" y="170"/>
                  <a:pt x="672" y="180"/>
                </a:cubicBezTo>
                <a:cubicBezTo>
                  <a:pt x="787" y="157"/>
                  <a:pt x="761" y="144"/>
                  <a:pt x="840" y="168"/>
                </a:cubicBezTo>
                <a:cubicBezTo>
                  <a:pt x="864" y="175"/>
                  <a:pt x="912" y="192"/>
                  <a:pt x="912" y="192"/>
                </a:cubicBezTo>
                <a:cubicBezTo>
                  <a:pt x="916" y="204"/>
                  <a:pt x="914" y="221"/>
                  <a:pt x="924" y="228"/>
                </a:cubicBezTo>
                <a:cubicBezTo>
                  <a:pt x="945" y="243"/>
                  <a:pt x="996" y="252"/>
                  <a:pt x="996" y="252"/>
                </a:cubicBezTo>
                <a:cubicBezTo>
                  <a:pt x="1035" y="239"/>
                  <a:pt x="1061" y="230"/>
                  <a:pt x="1080" y="19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26920" y="620640"/>
            <a:ext cx="1965600" cy="216000"/>
          </a:xfrm>
          <a:custGeom>
            <a:avLst/>
            <a:gdLst/>
            <a:ahLst/>
            <a:rect l="l" t="t" r="r" b="b"/>
            <a:pathLst>
              <a:path w="1382" h="168">
                <a:moveTo>
                  <a:pt x="0" y="96"/>
                </a:moveTo>
                <a:cubicBezTo>
                  <a:pt x="25" y="59"/>
                  <a:pt x="55" y="42"/>
                  <a:pt x="96" y="24"/>
                </a:cubicBezTo>
                <a:cubicBezTo>
                  <a:pt x="119" y="14"/>
                  <a:pt x="168" y="0"/>
                  <a:pt x="168" y="0"/>
                </a:cubicBezTo>
                <a:cubicBezTo>
                  <a:pt x="194" y="9"/>
                  <a:pt x="221" y="14"/>
                  <a:pt x="240" y="36"/>
                </a:cubicBezTo>
                <a:cubicBezTo>
                  <a:pt x="319" y="127"/>
                  <a:pt x="250" y="95"/>
                  <a:pt x="324" y="120"/>
                </a:cubicBezTo>
                <a:cubicBezTo>
                  <a:pt x="399" y="111"/>
                  <a:pt x="457" y="96"/>
                  <a:pt x="528" y="72"/>
                </a:cubicBezTo>
                <a:cubicBezTo>
                  <a:pt x="567" y="59"/>
                  <a:pt x="597" y="25"/>
                  <a:pt x="636" y="12"/>
                </a:cubicBezTo>
                <a:cubicBezTo>
                  <a:pt x="686" y="29"/>
                  <a:pt x="703" y="52"/>
                  <a:pt x="744" y="84"/>
                </a:cubicBezTo>
                <a:cubicBezTo>
                  <a:pt x="767" y="102"/>
                  <a:pt x="816" y="132"/>
                  <a:pt x="816" y="132"/>
                </a:cubicBezTo>
                <a:cubicBezTo>
                  <a:pt x="874" y="126"/>
                  <a:pt x="952" y="124"/>
                  <a:pt x="1008" y="96"/>
                </a:cubicBezTo>
                <a:cubicBezTo>
                  <a:pt x="1021" y="90"/>
                  <a:pt x="1031" y="78"/>
                  <a:pt x="1044" y="72"/>
                </a:cubicBezTo>
                <a:cubicBezTo>
                  <a:pt x="1044" y="72"/>
                  <a:pt x="1134" y="42"/>
                  <a:pt x="1152" y="36"/>
                </a:cubicBezTo>
                <a:cubicBezTo>
                  <a:pt x="1164" y="32"/>
                  <a:pt x="1188" y="24"/>
                  <a:pt x="1188" y="24"/>
                </a:cubicBezTo>
                <a:cubicBezTo>
                  <a:pt x="1200" y="28"/>
                  <a:pt x="1213" y="30"/>
                  <a:pt x="1224" y="36"/>
                </a:cubicBezTo>
                <a:cubicBezTo>
                  <a:pt x="1237" y="42"/>
                  <a:pt x="1247" y="54"/>
                  <a:pt x="1260" y="60"/>
                </a:cubicBezTo>
                <a:cubicBezTo>
                  <a:pt x="1283" y="70"/>
                  <a:pt x="1332" y="84"/>
                  <a:pt x="1332" y="84"/>
                </a:cubicBezTo>
                <a:cubicBezTo>
                  <a:pt x="1382" y="159"/>
                  <a:pt x="1380" y="127"/>
                  <a:pt x="1380" y="16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2916360" y="47628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joins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concurrent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e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24000" y="4797360"/>
            <a:ext cx="84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324000" y="501336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 is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MISLEADING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to assume that they must be either in some  temporal order, or else occur "at the same time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45BFB-DC98-474A-BE9F-7D6D36B2E021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2843280" y="2060640"/>
            <a:ext cx="576360" cy="576360"/>
          </a:xfrm>
          <a:prstGeom prst="rect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508720" y="3500280"/>
            <a:ext cx="576000" cy="576360"/>
          </a:xfrm>
          <a:prstGeom prst="rect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203640" y="3141720"/>
            <a:ext cx="576360" cy="576360"/>
          </a:xfrm>
          <a:prstGeom prst="rect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5651640" y="1844640"/>
            <a:ext cx="576000" cy="576360"/>
          </a:xfrm>
          <a:prstGeom prst="rect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rot="20252400">
            <a:off x="2432160" y="2570040"/>
            <a:ext cx="598320" cy="1216080"/>
          </a:xfrm>
          <a:custGeom>
            <a:avLst/>
            <a:gdLst>
              <a:gd name="textAreaLeft" fmla="*/ 79920 w 598320"/>
              <a:gd name="textAreaRight" fmla="*/ 518400 w 598320"/>
              <a:gd name="textAreaTop" fmla="*/ 212760 h 1216080"/>
              <a:gd name="textAreaBottom" fmla="*/ 88164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 rot="239400">
            <a:off x="6156360" y="2058840"/>
            <a:ext cx="863640" cy="2089440"/>
          </a:xfrm>
          <a:custGeom>
            <a:avLst/>
            <a:gdLst>
              <a:gd name="textAreaLeft" fmla="*/ 115560 w 863640"/>
              <a:gd name="textAreaRight" fmla="*/ 748080 w 863640"/>
              <a:gd name="textAreaTop" fmla="*/ 378360 h 2089440"/>
              <a:gd name="textAreaBottom" fmla="*/ 1501920 h 208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827" stAng="-5400000" swAng="5400000"/>
                <a:lnTo>
                  <a:pt x="21600" y="11614"/>
                </a:lnTo>
                <a:arcTo wR="21600" hR="7827" stAng="0" swAng="2024137"/>
                <a:lnTo>
                  <a:pt x="10301" y="20653"/>
                </a:lnTo>
                <a:lnTo>
                  <a:pt x="0" y="17547"/>
                </a:lnTo>
                <a:lnTo>
                  <a:pt x="10301" y="12546"/>
                </a:lnTo>
                <a:lnTo>
                  <a:pt x="10301" y="14706"/>
                </a:lnTo>
                <a:arcTo wR="21600" hR="7827" stAng="2024137" swAng="-1714392"/>
                <a:lnTo>
                  <a:pt x="20958" y="9720"/>
                </a:lnTo>
                <a:arcTo wR="21600" hR="7827" stAng="-309746" swAng="-5090254"/>
                <a:close/>
              </a:path>
              <a:path fill="darkenLess" w="21600" h="21600">
                <a:moveTo>
                  <a:pt x="0" y="0"/>
                </a:moveTo>
                <a:arcTo wR="21600" hR="7827" stAng="-5400000" swAng="5400000"/>
                <a:lnTo>
                  <a:pt x="21600" y="11614"/>
                </a:lnTo>
                <a:arcTo wR="21600" hR="7827" stAng="0" swAng="-309746"/>
                <a:lnTo>
                  <a:pt x="20958" y="9720"/>
                </a:lnTo>
                <a:arcTo wR="21600" hR="7827" stAng="-309746" swAng="-5090254"/>
                <a:close/>
              </a:path>
            </a:pathLst>
          </a:cu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 rot="19806600">
            <a:off x="3639960" y="2595600"/>
            <a:ext cx="2163960" cy="585720"/>
          </a:xfrm>
          <a:prstGeom prst="leftArrow">
            <a:avLst>
              <a:gd name="adj1" fmla="val 50000"/>
              <a:gd name="adj2" fmla="val 92363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 rot="12496800">
            <a:off x="3276360" y="2780640"/>
            <a:ext cx="2376360" cy="647640"/>
          </a:xfrm>
          <a:prstGeom prst="leftArrow">
            <a:avLst>
              <a:gd name="adj1" fmla="val 50000"/>
              <a:gd name="adj2" fmla="val 91732"/>
            </a:avLst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3429000" y="1960560"/>
            <a:ext cx="2228760" cy="325440"/>
          </a:xfrm>
          <a:custGeom>
            <a:avLst/>
            <a:gdLst/>
            <a:ahLst/>
            <a:rect l="l" t="t" r="r" b="b"/>
            <a:pathLst>
              <a:path w="1404" h="205">
                <a:moveTo>
                  <a:pt x="0" y="205"/>
                </a:moveTo>
                <a:cubicBezTo>
                  <a:pt x="16" y="181"/>
                  <a:pt x="32" y="157"/>
                  <a:pt x="48" y="133"/>
                </a:cubicBezTo>
                <a:cubicBezTo>
                  <a:pt x="62" y="112"/>
                  <a:pt x="96" y="117"/>
                  <a:pt x="120" y="109"/>
                </a:cubicBezTo>
                <a:cubicBezTo>
                  <a:pt x="132" y="105"/>
                  <a:pt x="156" y="97"/>
                  <a:pt x="156" y="97"/>
                </a:cubicBezTo>
                <a:cubicBezTo>
                  <a:pt x="167" y="100"/>
                  <a:pt x="226" y="113"/>
                  <a:pt x="240" y="121"/>
                </a:cubicBezTo>
                <a:cubicBezTo>
                  <a:pt x="364" y="190"/>
                  <a:pt x="267" y="154"/>
                  <a:pt x="348" y="181"/>
                </a:cubicBezTo>
                <a:cubicBezTo>
                  <a:pt x="351" y="180"/>
                  <a:pt x="424" y="163"/>
                  <a:pt x="432" y="157"/>
                </a:cubicBezTo>
                <a:cubicBezTo>
                  <a:pt x="443" y="148"/>
                  <a:pt x="445" y="130"/>
                  <a:pt x="456" y="121"/>
                </a:cubicBezTo>
                <a:cubicBezTo>
                  <a:pt x="478" y="102"/>
                  <a:pt x="528" y="73"/>
                  <a:pt x="528" y="73"/>
                </a:cubicBezTo>
                <a:cubicBezTo>
                  <a:pt x="590" y="83"/>
                  <a:pt x="621" y="87"/>
                  <a:pt x="672" y="121"/>
                </a:cubicBezTo>
                <a:cubicBezTo>
                  <a:pt x="712" y="117"/>
                  <a:pt x="753" y="118"/>
                  <a:pt x="792" y="109"/>
                </a:cubicBezTo>
                <a:cubicBezTo>
                  <a:pt x="843" y="97"/>
                  <a:pt x="817" y="77"/>
                  <a:pt x="852" y="49"/>
                </a:cubicBezTo>
                <a:cubicBezTo>
                  <a:pt x="873" y="32"/>
                  <a:pt x="902" y="28"/>
                  <a:pt x="924" y="13"/>
                </a:cubicBezTo>
                <a:cubicBezTo>
                  <a:pt x="1157" y="39"/>
                  <a:pt x="958" y="0"/>
                  <a:pt x="1068" y="49"/>
                </a:cubicBezTo>
                <a:cubicBezTo>
                  <a:pt x="1091" y="59"/>
                  <a:pt x="1140" y="73"/>
                  <a:pt x="1140" y="73"/>
                </a:cubicBezTo>
                <a:cubicBezTo>
                  <a:pt x="1196" y="59"/>
                  <a:pt x="1216" y="49"/>
                  <a:pt x="1248" y="1"/>
                </a:cubicBezTo>
                <a:cubicBezTo>
                  <a:pt x="1291" y="15"/>
                  <a:pt x="1356" y="49"/>
                  <a:pt x="1404" y="49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 rot="21081000">
            <a:off x="3779640" y="3573000"/>
            <a:ext cx="1714320" cy="400320"/>
          </a:xfrm>
          <a:custGeom>
            <a:avLst/>
            <a:gdLst/>
            <a:ahLst/>
            <a:rect l="l" t="t" r="r" b="b"/>
            <a:pathLst>
              <a:path w="1080" h="252">
                <a:moveTo>
                  <a:pt x="0" y="0"/>
                </a:moveTo>
                <a:cubicBezTo>
                  <a:pt x="48" y="16"/>
                  <a:pt x="68" y="30"/>
                  <a:pt x="96" y="72"/>
                </a:cubicBezTo>
                <a:cubicBezTo>
                  <a:pt x="157" y="57"/>
                  <a:pt x="169" y="65"/>
                  <a:pt x="204" y="12"/>
                </a:cubicBezTo>
                <a:cubicBezTo>
                  <a:pt x="233" y="19"/>
                  <a:pt x="267" y="22"/>
                  <a:pt x="288" y="48"/>
                </a:cubicBezTo>
                <a:cubicBezTo>
                  <a:pt x="296" y="58"/>
                  <a:pt x="294" y="73"/>
                  <a:pt x="300" y="84"/>
                </a:cubicBezTo>
                <a:cubicBezTo>
                  <a:pt x="306" y="97"/>
                  <a:pt x="316" y="108"/>
                  <a:pt x="324" y="120"/>
                </a:cubicBezTo>
                <a:cubicBezTo>
                  <a:pt x="394" y="110"/>
                  <a:pt x="425" y="109"/>
                  <a:pt x="480" y="72"/>
                </a:cubicBezTo>
                <a:cubicBezTo>
                  <a:pt x="500" y="76"/>
                  <a:pt x="521" y="77"/>
                  <a:pt x="540" y="84"/>
                </a:cubicBezTo>
                <a:cubicBezTo>
                  <a:pt x="591" y="103"/>
                  <a:pt x="565" y="109"/>
                  <a:pt x="600" y="144"/>
                </a:cubicBezTo>
                <a:cubicBezTo>
                  <a:pt x="623" y="167"/>
                  <a:pt x="643" y="170"/>
                  <a:pt x="672" y="180"/>
                </a:cubicBezTo>
                <a:cubicBezTo>
                  <a:pt x="787" y="157"/>
                  <a:pt x="761" y="144"/>
                  <a:pt x="840" y="168"/>
                </a:cubicBezTo>
                <a:cubicBezTo>
                  <a:pt x="864" y="175"/>
                  <a:pt x="912" y="192"/>
                  <a:pt x="912" y="192"/>
                </a:cubicBezTo>
                <a:cubicBezTo>
                  <a:pt x="916" y="204"/>
                  <a:pt x="914" y="221"/>
                  <a:pt x="924" y="228"/>
                </a:cubicBezTo>
                <a:cubicBezTo>
                  <a:pt x="945" y="243"/>
                  <a:pt x="996" y="252"/>
                  <a:pt x="996" y="252"/>
                </a:cubicBezTo>
                <a:cubicBezTo>
                  <a:pt x="1035" y="239"/>
                  <a:pt x="1061" y="230"/>
                  <a:pt x="1080" y="192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826920" y="620640"/>
            <a:ext cx="1965600" cy="216000"/>
          </a:xfrm>
          <a:custGeom>
            <a:avLst/>
            <a:gdLst/>
            <a:ahLst/>
            <a:rect l="l" t="t" r="r" b="b"/>
            <a:pathLst>
              <a:path w="1382" h="168">
                <a:moveTo>
                  <a:pt x="0" y="96"/>
                </a:moveTo>
                <a:cubicBezTo>
                  <a:pt x="25" y="59"/>
                  <a:pt x="55" y="42"/>
                  <a:pt x="96" y="24"/>
                </a:cubicBezTo>
                <a:cubicBezTo>
                  <a:pt x="119" y="14"/>
                  <a:pt x="168" y="0"/>
                  <a:pt x="168" y="0"/>
                </a:cubicBezTo>
                <a:cubicBezTo>
                  <a:pt x="194" y="9"/>
                  <a:pt x="221" y="14"/>
                  <a:pt x="240" y="36"/>
                </a:cubicBezTo>
                <a:cubicBezTo>
                  <a:pt x="319" y="127"/>
                  <a:pt x="250" y="95"/>
                  <a:pt x="324" y="120"/>
                </a:cubicBezTo>
                <a:cubicBezTo>
                  <a:pt x="399" y="111"/>
                  <a:pt x="457" y="96"/>
                  <a:pt x="528" y="72"/>
                </a:cubicBezTo>
                <a:cubicBezTo>
                  <a:pt x="567" y="59"/>
                  <a:pt x="597" y="25"/>
                  <a:pt x="636" y="12"/>
                </a:cubicBezTo>
                <a:cubicBezTo>
                  <a:pt x="686" y="29"/>
                  <a:pt x="703" y="52"/>
                  <a:pt x="744" y="84"/>
                </a:cubicBezTo>
                <a:cubicBezTo>
                  <a:pt x="767" y="102"/>
                  <a:pt x="816" y="132"/>
                  <a:pt x="816" y="132"/>
                </a:cubicBezTo>
                <a:cubicBezTo>
                  <a:pt x="874" y="126"/>
                  <a:pt x="952" y="124"/>
                  <a:pt x="1008" y="96"/>
                </a:cubicBezTo>
                <a:cubicBezTo>
                  <a:pt x="1021" y="90"/>
                  <a:pt x="1031" y="78"/>
                  <a:pt x="1044" y="72"/>
                </a:cubicBezTo>
                <a:cubicBezTo>
                  <a:pt x="1044" y="72"/>
                  <a:pt x="1134" y="42"/>
                  <a:pt x="1152" y="36"/>
                </a:cubicBezTo>
                <a:cubicBezTo>
                  <a:pt x="1164" y="32"/>
                  <a:pt x="1188" y="24"/>
                  <a:pt x="1188" y="24"/>
                </a:cubicBezTo>
                <a:cubicBezTo>
                  <a:pt x="1200" y="28"/>
                  <a:pt x="1213" y="30"/>
                  <a:pt x="1224" y="36"/>
                </a:cubicBezTo>
                <a:cubicBezTo>
                  <a:pt x="1237" y="42"/>
                  <a:pt x="1247" y="54"/>
                  <a:pt x="1260" y="60"/>
                </a:cubicBezTo>
                <a:cubicBezTo>
                  <a:pt x="1283" y="70"/>
                  <a:pt x="1332" y="84"/>
                  <a:pt x="1332" y="84"/>
                </a:cubicBezTo>
                <a:cubicBezTo>
                  <a:pt x="1382" y="159"/>
                  <a:pt x="1380" y="127"/>
                  <a:pt x="1380" y="168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2916360" y="47628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joins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concurrent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e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324000" y="4797360"/>
            <a:ext cx="84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324000" y="501336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 is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MISLEADING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to assume that they must be either in some  temporal order, or else occur "at the same time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324000" y="6381720"/>
            <a:ext cx="71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050"/>
                </a:solidFill>
                <a:latin typeface="Arial"/>
              </a:rPr>
              <a:t>That assumption has caused grave errors: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3733F-F357-4732-A94C-E13F97A3EC1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8DB8-CFB6-4060-9C08-080E84B023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95280" y="115920"/>
            <a:ext cx="8137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c0c0"/>
                </a:solidFill>
                <a:latin typeface="Arial"/>
              </a:rPr>
              <a:t>Errors induced by misunderstanding Concurrenc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)  In EE Engineering:    It has often been assumed     that cross-signalling leads to safe synchron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042920" y="1989000"/>
            <a:ext cx="6553440" cy="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042920" y="2852640"/>
            <a:ext cx="6481800" cy="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3564000" y="1989000"/>
            <a:ext cx="863640" cy="86364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3564000" y="1988640"/>
            <a:ext cx="792000" cy="863640"/>
          </a:xfrm>
          <a:prstGeom prst="line">
            <a:avLst/>
          </a:prstGeom>
          <a:ln w="76320">
            <a:solidFill>
              <a:srgbClr val="404b3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5508720" y="2708280"/>
            <a:ext cx="287280" cy="2872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5867280" y="1844640"/>
            <a:ext cx="287280" cy="2872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195640" y="1844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763640" y="27082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971640" y="378936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 is argued that all signals in the       position              are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ATER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than all signals in the       posi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5940360" y="4221000"/>
            <a:ext cx="287280" cy="2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940360" y="3860640"/>
            <a:ext cx="287280" cy="28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E2D6-30A4-4FA4-BF84-9B08FB9443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042920" y="1989000"/>
            <a:ext cx="6553440" cy="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1042920" y="2852640"/>
            <a:ext cx="6481800" cy="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3564000" y="1989000"/>
            <a:ext cx="863640" cy="86364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 flipV="1">
            <a:off x="3564000" y="1988640"/>
            <a:ext cx="792000" cy="863640"/>
          </a:xfrm>
          <a:prstGeom prst="line">
            <a:avLst/>
          </a:prstGeom>
          <a:ln w="76320">
            <a:solidFill>
              <a:srgbClr val="404b3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5508720" y="2708280"/>
            <a:ext cx="287280" cy="2872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867280" y="1844640"/>
            <a:ext cx="287280" cy="2872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2195640" y="184464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763640" y="270828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971640" y="378936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 is argued that all signals in the       position              are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ATER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than all signals in the       posi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5940360" y="4221000"/>
            <a:ext cx="287280" cy="2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5940360" y="3860640"/>
            <a:ext cx="287280" cy="28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24000" y="638172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5050"/>
                </a:solidFill>
                <a:latin typeface="Arial"/>
              </a:rPr>
              <a:t>That is obviously true for each separate use,    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BUT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83AF-9C45-4D00-A850-6CC86B379A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042920" y="1989000"/>
            <a:ext cx="6553440" cy="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835280" y="2852640"/>
            <a:ext cx="4824360" cy="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564000" y="1989000"/>
            <a:ext cx="863640" cy="86364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3564000" y="1988640"/>
            <a:ext cx="792000" cy="863640"/>
          </a:xfrm>
          <a:prstGeom prst="line">
            <a:avLst/>
          </a:prstGeom>
          <a:ln w="76320">
            <a:solidFill>
              <a:srgbClr val="404b3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8317080" y="602136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7380360" y="6021360"/>
            <a:ext cx="287280" cy="2872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3132000" y="184464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6948360" y="6021360"/>
            <a:ext cx="28764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7812000" y="602136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8101080" y="6021360"/>
            <a:ext cx="287280" cy="2872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659640" y="2852640"/>
            <a:ext cx="0" cy="129708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1834920" y="4149720"/>
            <a:ext cx="4824360" cy="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 flipV="1">
            <a:off x="1835280" y="2924280"/>
            <a:ext cx="0" cy="122544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7524720" y="1989000"/>
            <a:ext cx="0" cy="302436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971280" y="5013360"/>
            <a:ext cx="6553080" cy="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1042920" y="1989000"/>
            <a:ext cx="0" cy="295272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24000" y="2602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ut  the repeated use is not safe, even though the two cycles are safe before being linked.     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Watc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635280" y="24922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851280" y="27082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8604360" y="602136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8459640" y="6021360"/>
            <a:ext cx="287640" cy="2872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608D-8BA6-4D53-B218-E967E0F663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042920" y="1989000"/>
            <a:ext cx="6553440" cy="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835280" y="2852640"/>
            <a:ext cx="4824360" cy="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3564000" y="1989000"/>
            <a:ext cx="863640" cy="86364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 flipV="1">
            <a:off x="3564000" y="1988640"/>
            <a:ext cx="792000" cy="863640"/>
          </a:xfrm>
          <a:prstGeom prst="line">
            <a:avLst/>
          </a:prstGeom>
          <a:ln w="76320">
            <a:solidFill>
              <a:srgbClr val="404b3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659640" y="2852640"/>
            <a:ext cx="0" cy="129708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1834920" y="4149720"/>
            <a:ext cx="4824360" cy="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1835280" y="2924280"/>
            <a:ext cx="0" cy="122544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7524720" y="1989000"/>
            <a:ext cx="0" cy="302436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971280" y="5013360"/>
            <a:ext cx="6553080" cy="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1042920" y="1989000"/>
            <a:ext cx="0" cy="295272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516720" y="260280"/>
            <a:ext cx="194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Watc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3851280" y="184464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635280" y="24922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3851280" y="27082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3635280" y="206064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338C-B349-49CB-8D67-3CA63C2525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042920" y="1989000"/>
            <a:ext cx="6553440" cy="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1835280" y="2852640"/>
            <a:ext cx="4824360" cy="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564000" y="1989000"/>
            <a:ext cx="863640" cy="86364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 flipV="1">
            <a:off x="3564000" y="1988640"/>
            <a:ext cx="792000" cy="863640"/>
          </a:xfrm>
          <a:prstGeom prst="line">
            <a:avLst/>
          </a:prstGeom>
          <a:ln w="76320">
            <a:solidFill>
              <a:srgbClr val="404b3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6659640" y="2852640"/>
            <a:ext cx="0" cy="129708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flipH="1">
            <a:off x="1834920" y="4149720"/>
            <a:ext cx="4824360" cy="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 flipV="1">
            <a:off x="1835280" y="2924280"/>
            <a:ext cx="0" cy="122544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7524720" y="1989000"/>
            <a:ext cx="0" cy="302436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971280" y="5013360"/>
            <a:ext cx="6553080" cy="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1042920" y="1989000"/>
            <a:ext cx="0" cy="295272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6516720" y="260280"/>
            <a:ext cx="194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Watc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4716360" y="1916280"/>
            <a:ext cx="21600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851280" y="27082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708360" y="2133720"/>
            <a:ext cx="21600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B8DB-4719-4433-B74E-D49986A14DAB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1"/>
          <a:srcRect l="1112" t="5758" r="1201" b="65586"/>
          <a:stretch/>
        </p:blipFill>
        <p:spPr>
          <a:xfrm>
            <a:off x="0" y="1413000"/>
            <a:ext cx="9144000" cy="4537080"/>
          </a:xfrm>
          <a:prstGeom prst="rect">
            <a:avLst/>
          </a:prstGeom>
          <a:ln w="0">
            <a:noFill/>
          </a:ln>
        </p:spPr>
      </p:pic>
      <p:sp>
        <p:nvSpPr>
          <p:cNvPr id="762" name=""/>
          <p:cNvSpPr/>
          <p:nvPr/>
        </p:nvSpPr>
        <p:spPr>
          <a:xfrm>
            <a:off x="755640" y="26028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General Topolog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2"/>
          <a:stretch/>
        </p:blipFill>
        <p:spPr>
          <a:xfrm rot="20289600">
            <a:off x="6011640" y="5805000"/>
            <a:ext cx="2592360" cy="15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BD6D-2DB4-4449-A4D7-483524789E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042920" y="1989000"/>
            <a:ext cx="6553440" cy="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835280" y="2852640"/>
            <a:ext cx="4824360" cy="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564000" y="1989000"/>
            <a:ext cx="863640" cy="86364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 flipV="1">
            <a:off x="3564000" y="1988640"/>
            <a:ext cx="792000" cy="863640"/>
          </a:xfrm>
          <a:prstGeom prst="line">
            <a:avLst/>
          </a:prstGeom>
          <a:ln w="76320">
            <a:solidFill>
              <a:srgbClr val="404b3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6659640" y="2852640"/>
            <a:ext cx="0" cy="129708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 flipH="1">
            <a:off x="1834920" y="4149720"/>
            <a:ext cx="4824360" cy="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 flipV="1">
            <a:off x="1835280" y="2924280"/>
            <a:ext cx="0" cy="122544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7524720" y="1989000"/>
            <a:ext cx="0" cy="302436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 flipH="1">
            <a:off x="971280" y="5013360"/>
            <a:ext cx="6553080" cy="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1042920" y="1989000"/>
            <a:ext cx="0" cy="295272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6516720" y="260280"/>
            <a:ext cx="194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Watc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380360" y="342900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3851280" y="27082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3708360" y="2133720"/>
            <a:ext cx="21600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9951-17F1-44F7-8EC1-E147DB2CB5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042920" y="1989000"/>
            <a:ext cx="6553440" cy="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1835280" y="2852640"/>
            <a:ext cx="4824360" cy="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3564000" y="1989000"/>
            <a:ext cx="863640" cy="86364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3564000" y="1988640"/>
            <a:ext cx="792000" cy="863640"/>
          </a:xfrm>
          <a:prstGeom prst="line">
            <a:avLst/>
          </a:prstGeom>
          <a:ln w="76320">
            <a:solidFill>
              <a:srgbClr val="404b3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659640" y="2852640"/>
            <a:ext cx="0" cy="129708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 flipH="1">
            <a:off x="1834920" y="4149720"/>
            <a:ext cx="4824360" cy="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1835280" y="2924280"/>
            <a:ext cx="0" cy="122544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7524720" y="1989000"/>
            <a:ext cx="0" cy="302436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971280" y="5013360"/>
            <a:ext cx="6553080" cy="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1042920" y="1989000"/>
            <a:ext cx="0" cy="295272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6516720" y="260280"/>
            <a:ext cx="194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Watc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900000" y="24922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3851280" y="27082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708360" y="2133720"/>
            <a:ext cx="21600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4AD8-1FBE-4193-824E-1FDC077EDC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042920" y="1989000"/>
            <a:ext cx="6553440" cy="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1835280" y="2852640"/>
            <a:ext cx="4824360" cy="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3564000" y="1989000"/>
            <a:ext cx="863640" cy="86364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 flipV="1">
            <a:off x="3564000" y="1988640"/>
            <a:ext cx="792000" cy="863640"/>
          </a:xfrm>
          <a:prstGeom prst="line">
            <a:avLst/>
          </a:prstGeom>
          <a:ln w="76320">
            <a:solidFill>
              <a:srgbClr val="404b3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6659640" y="2852640"/>
            <a:ext cx="0" cy="129708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1834920" y="4149720"/>
            <a:ext cx="4824360" cy="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 flipV="1">
            <a:off x="1835280" y="2924280"/>
            <a:ext cx="0" cy="122544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7524720" y="1989000"/>
            <a:ext cx="0" cy="302436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971280" y="5013360"/>
            <a:ext cx="6553080" cy="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 flipV="1">
            <a:off x="1042920" y="1989000"/>
            <a:ext cx="0" cy="295272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6516720" y="260280"/>
            <a:ext cx="194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Watc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3635280" y="206064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851280" y="184464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851280" y="27082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3780000" y="2205000"/>
            <a:ext cx="21564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3348000" y="620640"/>
            <a:ext cx="720720" cy="1008000"/>
          </a:xfrm>
          <a:prstGeom prst="downArrow">
            <a:avLst>
              <a:gd name="adj1" fmla="val 50000"/>
              <a:gd name="adj2" fmla="val 3496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B934-F479-47B8-8193-61A2FCBFE1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042920" y="1989000"/>
            <a:ext cx="6553440" cy="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835280" y="2852640"/>
            <a:ext cx="4824360" cy="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3564000" y="1989000"/>
            <a:ext cx="863640" cy="86364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 flipV="1">
            <a:off x="3564000" y="1988640"/>
            <a:ext cx="792000" cy="863640"/>
          </a:xfrm>
          <a:prstGeom prst="line">
            <a:avLst/>
          </a:prstGeom>
          <a:ln w="76320">
            <a:solidFill>
              <a:srgbClr val="404b3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6659640" y="2852640"/>
            <a:ext cx="0" cy="129708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 flipH="1">
            <a:off x="1834920" y="4149720"/>
            <a:ext cx="4824360" cy="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1835280" y="2924280"/>
            <a:ext cx="0" cy="122544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7524720" y="1989000"/>
            <a:ext cx="0" cy="302436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 flipH="1">
            <a:off x="971280" y="5013360"/>
            <a:ext cx="6553080" cy="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 flipV="1">
            <a:off x="1042920" y="1989000"/>
            <a:ext cx="0" cy="295272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516720" y="260280"/>
            <a:ext cx="194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Watc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3635280" y="206064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3851280" y="184464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3851280" y="27082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780000" y="2205000"/>
            <a:ext cx="21564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187280" y="112536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Fusion of Signals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/>
          <p:nvPr/>
        </p:nvSpPr>
        <p:spPr>
          <a:xfrm>
            <a:off x="1042920" y="1989000"/>
            <a:ext cx="6553440" cy="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1835280" y="2852640"/>
            <a:ext cx="4824360" cy="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3564000" y="1989000"/>
            <a:ext cx="863640" cy="86364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3564000" y="1988640"/>
            <a:ext cx="792000" cy="86364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659640" y="2852640"/>
            <a:ext cx="0" cy="129708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1834920" y="4149720"/>
            <a:ext cx="4824360" cy="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1835280" y="2924280"/>
            <a:ext cx="0" cy="122544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7524720" y="1989000"/>
            <a:ext cx="0" cy="302436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 flipH="1">
            <a:off x="971280" y="5013360"/>
            <a:ext cx="6553080" cy="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 flipV="1">
            <a:off x="1042920" y="1989000"/>
            <a:ext cx="0" cy="295272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2556000" y="692280"/>
            <a:ext cx="30956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REPAIR: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2340000" y="184464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2340000" y="278136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4356000" y="1989000"/>
            <a:ext cx="792360" cy="86364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4356000" y="1988640"/>
            <a:ext cx="720720" cy="79236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82C1B-087E-4668-8059-DA9DD4C97FC3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AB6A-B3B8-490D-B510-85AD7AACA2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042920" y="1989000"/>
            <a:ext cx="6553440" cy="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835280" y="2852640"/>
            <a:ext cx="4824360" cy="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564000" y="1989000"/>
            <a:ext cx="863640" cy="863640"/>
          </a:xfrm>
          <a:prstGeom prst="line">
            <a:avLst/>
          </a:prstGeom>
          <a:ln w="7632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 flipV="1">
            <a:off x="3564000" y="1988640"/>
            <a:ext cx="792000" cy="863640"/>
          </a:xfrm>
          <a:prstGeom prst="line">
            <a:avLst/>
          </a:prstGeom>
          <a:ln w="76320">
            <a:solidFill>
              <a:srgbClr val="67659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6659640" y="2852640"/>
            <a:ext cx="0" cy="129708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 flipH="1">
            <a:off x="1834920" y="4149720"/>
            <a:ext cx="4824360" cy="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835280" y="2852280"/>
            <a:ext cx="0" cy="129708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7524720" y="1989000"/>
            <a:ext cx="0" cy="302436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971280" y="5013360"/>
            <a:ext cx="6553080" cy="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 flipV="1">
            <a:off x="1042920" y="1989000"/>
            <a:ext cx="0" cy="295272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395280" y="260280"/>
            <a:ext cx="8209080" cy="19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roof of Safety: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ach arc lies on a BASIC CYCLE                                     (a cycle with one signal only)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340000" y="184464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2340000" y="278136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4356000" y="1989000"/>
            <a:ext cx="720720" cy="792360"/>
          </a:xfrm>
          <a:prstGeom prst="line">
            <a:avLst/>
          </a:prstGeom>
          <a:ln w="76320">
            <a:solidFill>
              <a:srgbClr val="67659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 flipV="1">
            <a:off x="4356000" y="1988640"/>
            <a:ext cx="720720" cy="792360"/>
          </a:xfrm>
          <a:prstGeom prst="line">
            <a:avLst/>
          </a:prstGeom>
          <a:ln w="7632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468360" y="5229360"/>
            <a:ext cx="79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d the Transitions do not change                                the number of  Signals on a Cy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B5D9-AED2-41AB-B66E-B1A546EEF4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1042920" y="1989000"/>
            <a:ext cx="6553440" cy="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1835280" y="2852640"/>
            <a:ext cx="4824360" cy="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3564000" y="1989000"/>
            <a:ext cx="863640" cy="863640"/>
          </a:xfrm>
          <a:prstGeom prst="line">
            <a:avLst/>
          </a:prstGeom>
          <a:ln w="7632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3564000" y="1988640"/>
            <a:ext cx="792000" cy="863640"/>
          </a:xfrm>
          <a:prstGeom prst="line">
            <a:avLst/>
          </a:prstGeom>
          <a:ln w="76320">
            <a:solidFill>
              <a:srgbClr val="67659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6659640" y="2852640"/>
            <a:ext cx="0" cy="129708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 flipH="1">
            <a:off x="1834920" y="4149720"/>
            <a:ext cx="4824360" cy="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 flipV="1">
            <a:off x="1835280" y="2924280"/>
            <a:ext cx="0" cy="122544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7524720" y="1989000"/>
            <a:ext cx="0" cy="302436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 flipH="1">
            <a:off x="971280" y="5013360"/>
            <a:ext cx="6553080" cy="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V="1">
            <a:off x="1042920" y="1989000"/>
            <a:ext cx="0" cy="295272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395280" y="26028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627280" y="184464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2627280" y="278136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4356000" y="1989000"/>
            <a:ext cx="792360" cy="863640"/>
          </a:xfrm>
          <a:prstGeom prst="line">
            <a:avLst/>
          </a:prstGeom>
          <a:ln w="76320">
            <a:solidFill>
              <a:srgbClr val="67659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 flipV="1">
            <a:off x="4356000" y="1988640"/>
            <a:ext cx="720720" cy="792360"/>
          </a:xfrm>
          <a:prstGeom prst="line">
            <a:avLst/>
          </a:prstGeom>
          <a:ln w="7632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1" name="" descr=""/>
          <p:cNvPicPr/>
          <p:nvPr/>
        </p:nvPicPr>
        <p:blipFill>
          <a:blip r:embed="rId1"/>
          <a:stretch/>
        </p:blipFill>
        <p:spPr>
          <a:xfrm>
            <a:off x="1403280" y="0"/>
            <a:ext cx="938160" cy="1773360"/>
          </a:xfrm>
          <a:prstGeom prst="rect">
            <a:avLst/>
          </a:prstGeom>
          <a:ln w="0">
            <a:noFill/>
          </a:ln>
        </p:spPr>
      </p:pic>
      <p:pic>
        <p:nvPicPr>
          <p:cNvPr id="1112" name="" descr=""/>
          <p:cNvPicPr/>
          <p:nvPr/>
        </p:nvPicPr>
        <p:blipFill>
          <a:blip r:embed="rId2"/>
          <a:srcRect l="0" t="0" r="0" b="46633"/>
          <a:stretch/>
        </p:blipFill>
        <p:spPr>
          <a:xfrm>
            <a:off x="3564000" y="0"/>
            <a:ext cx="1685880" cy="1700280"/>
          </a:xfrm>
          <a:prstGeom prst="rect">
            <a:avLst/>
          </a:prstGeom>
          <a:ln w="0">
            <a:noFill/>
          </a:ln>
        </p:spPr>
      </p:pic>
      <p:pic>
        <p:nvPicPr>
          <p:cNvPr id="1113" name="" descr=""/>
          <p:cNvPicPr/>
          <p:nvPr/>
        </p:nvPicPr>
        <p:blipFill>
          <a:blip r:embed="rId3"/>
          <a:stretch/>
        </p:blipFill>
        <p:spPr>
          <a:xfrm>
            <a:off x="5940360" y="0"/>
            <a:ext cx="1725840" cy="1916280"/>
          </a:xfrm>
          <a:prstGeom prst="rect">
            <a:avLst/>
          </a:prstGeom>
          <a:ln w="0">
            <a:noFill/>
          </a:ln>
        </p:spPr>
      </p:pic>
      <p:sp>
        <p:nvSpPr>
          <p:cNvPr id="1114" name=""/>
          <p:cNvSpPr/>
          <p:nvPr/>
        </p:nvSpPr>
        <p:spPr>
          <a:xfrm>
            <a:off x="250920" y="5229360"/>
            <a:ext cx="842472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relevant substructure is that of a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full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ycle of oper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e shall study the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half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ycle closely later 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E5C9-23DA-4460-8F7A-D7FD41A595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042920" y="1989000"/>
            <a:ext cx="6553440" cy="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1835280" y="2852640"/>
            <a:ext cx="4824360" cy="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3564000" y="1988640"/>
            <a:ext cx="792000" cy="863640"/>
          </a:xfrm>
          <a:prstGeom prst="line">
            <a:avLst/>
          </a:prstGeom>
          <a:ln w="76320">
            <a:solidFill>
              <a:srgbClr val="67659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659640" y="2852640"/>
            <a:ext cx="0" cy="129708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 flipH="1">
            <a:off x="1834920" y="4149720"/>
            <a:ext cx="4824360" cy="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1835280" y="2852280"/>
            <a:ext cx="0" cy="129708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7524720" y="1989000"/>
            <a:ext cx="0" cy="302436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 flipH="1">
            <a:off x="971280" y="5013360"/>
            <a:ext cx="6553080" cy="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 flipV="1">
            <a:off x="1042920" y="1989000"/>
            <a:ext cx="0" cy="295272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0" y="26028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is simpler structure is also SAFE ( by the same proof )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Is anything wrong with this simpler solution ? 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2627280" y="184464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2627280" y="278136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4356000" y="1989000"/>
            <a:ext cx="792360" cy="863640"/>
          </a:xfrm>
          <a:prstGeom prst="line">
            <a:avLst/>
          </a:prstGeom>
          <a:ln w="76320">
            <a:solidFill>
              <a:srgbClr val="67659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9144000" y="0"/>
            <a:ext cx="6984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468360" y="6021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539640" y="630864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      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It is not SEC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1693-D005-4EF8-B885-5972C905C9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042920" y="1989000"/>
            <a:ext cx="6553440" cy="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1835280" y="2852640"/>
            <a:ext cx="4824360" cy="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3564000" y="1988640"/>
            <a:ext cx="792000" cy="863640"/>
          </a:xfrm>
          <a:prstGeom prst="line">
            <a:avLst/>
          </a:prstGeom>
          <a:ln w="76320">
            <a:solidFill>
              <a:srgbClr val="67659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6659640" y="2852640"/>
            <a:ext cx="0" cy="129708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H="1">
            <a:off x="1834920" y="4149720"/>
            <a:ext cx="4824360" cy="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 flipV="1">
            <a:off x="1835280" y="2852280"/>
            <a:ext cx="0" cy="129708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7524720" y="1989000"/>
            <a:ext cx="0" cy="302436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 flipH="1">
            <a:off x="971280" y="5013360"/>
            <a:ext cx="6553080" cy="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 flipV="1">
            <a:off x="1042920" y="1989000"/>
            <a:ext cx="0" cy="295272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0" y="26028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is simpler structure is also SAFE :   it is reliable as lo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s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ignals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ehave  like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Particles.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therwise . . 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2627280" y="184464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2627280" y="278136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4356000" y="1989000"/>
            <a:ext cx="792360" cy="863640"/>
          </a:xfrm>
          <a:prstGeom prst="line">
            <a:avLst/>
          </a:prstGeom>
          <a:ln w="76320">
            <a:solidFill>
              <a:srgbClr val="67659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9144000" y="0"/>
            <a:ext cx="6984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468360" y="6021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539640" y="630864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      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It is not SEC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F3D9-2E63-4B2A-822F-0FF5DC2F71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042920" y="1989000"/>
            <a:ext cx="6553440" cy="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1835280" y="2852640"/>
            <a:ext cx="4824360" cy="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3564000" y="1988640"/>
            <a:ext cx="792000" cy="863640"/>
          </a:xfrm>
          <a:prstGeom prst="line">
            <a:avLst/>
          </a:prstGeom>
          <a:ln w="76320">
            <a:solidFill>
              <a:srgbClr val="67659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6659640" y="2852640"/>
            <a:ext cx="0" cy="129708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 flipH="1">
            <a:off x="1834920" y="4149720"/>
            <a:ext cx="4824360" cy="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 flipV="1">
            <a:off x="1835280" y="2852280"/>
            <a:ext cx="0" cy="129708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7524720" y="1989000"/>
            <a:ext cx="0" cy="302436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 flipH="1">
            <a:off x="971280" y="5013360"/>
            <a:ext cx="6553080" cy="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 flipV="1">
            <a:off x="1042920" y="1989000"/>
            <a:ext cx="0" cy="295272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0" y="26028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. . . "Transjunction"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y occur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 -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Con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junction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 of  signals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cross  a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Trans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ion :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4716360" y="1844640"/>
            <a:ext cx="21600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3851280" y="2276640"/>
            <a:ext cx="216000" cy="215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4356000" y="1989000"/>
            <a:ext cx="792360" cy="863640"/>
          </a:xfrm>
          <a:prstGeom prst="line">
            <a:avLst/>
          </a:prstGeom>
          <a:ln w="76320">
            <a:solidFill>
              <a:srgbClr val="67659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9144000" y="0"/>
            <a:ext cx="6984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468360" y="6021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539640" y="630864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at system is not SEC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4211640" y="27082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211640" y="1844640"/>
            <a:ext cx="216000" cy="2160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971640" y="436572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lfunction due to interference threate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E15D-B4D2-48F6-825F-556DC1BE0A2D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5" name="" descr=""/>
          <p:cNvPicPr/>
          <p:nvPr/>
        </p:nvPicPr>
        <p:blipFill>
          <a:blip r:embed="rId1"/>
          <a:srcRect l="3398" t="20836" r="3673" b="43704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766" name=""/>
          <p:cNvSpPr/>
          <p:nvPr/>
        </p:nvSpPr>
        <p:spPr>
          <a:xfrm>
            <a:off x="468360" y="3333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ffff"/>
                </a:solidFill>
                <a:uFillTx/>
                <a:latin typeface="Arial"/>
              </a:rPr>
              <a:t>The Road to Ne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0" y="1268280"/>
            <a:ext cx="1547640" cy="360360"/>
          </a:xfrm>
          <a:prstGeom prst="rect">
            <a:avLst/>
          </a:prstGeom>
          <a:solidFill>
            <a:srgbClr val="fffffb"/>
          </a:solidFill>
          <a:ln w="936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588000" y="1268280"/>
            <a:ext cx="1440000" cy="360360"/>
          </a:xfrm>
          <a:prstGeom prst="rect">
            <a:avLst/>
          </a:prstGeom>
          <a:solidFill>
            <a:srgbClr val="fffffb"/>
          </a:solidFill>
          <a:ln w="936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D0ED-1C68-4CE7-969C-DB4BB83312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1042920" y="1989000"/>
            <a:ext cx="6553440" cy="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1835280" y="2852640"/>
            <a:ext cx="4824360" cy="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3564000" y="1989000"/>
            <a:ext cx="863640" cy="863640"/>
          </a:xfrm>
          <a:prstGeom prst="line">
            <a:avLst/>
          </a:prstGeom>
          <a:ln w="7632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 flipV="1">
            <a:off x="3564000" y="1988640"/>
            <a:ext cx="792000" cy="863640"/>
          </a:xfrm>
          <a:prstGeom prst="line">
            <a:avLst/>
          </a:prstGeom>
          <a:ln w="76320">
            <a:solidFill>
              <a:srgbClr val="67659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6659640" y="2852640"/>
            <a:ext cx="0" cy="129708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 flipH="1">
            <a:off x="1834920" y="4149720"/>
            <a:ext cx="4824360" cy="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 flipV="1">
            <a:off x="1835280" y="2924280"/>
            <a:ext cx="0" cy="122544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7524720" y="1989000"/>
            <a:ext cx="0" cy="302436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 flipH="1">
            <a:off x="971280" y="5013360"/>
            <a:ext cx="6553080" cy="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1042920" y="1989000"/>
            <a:ext cx="0" cy="295272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395280" y="26028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2627280" y="184464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2627280" y="278136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356000" y="1989000"/>
            <a:ext cx="792360" cy="863640"/>
          </a:xfrm>
          <a:prstGeom prst="line">
            <a:avLst/>
          </a:prstGeom>
          <a:ln w="76320">
            <a:solidFill>
              <a:srgbClr val="67659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 flipV="1">
            <a:off x="4356000" y="1988640"/>
            <a:ext cx="720720" cy="792360"/>
          </a:xfrm>
          <a:prstGeom prst="line">
            <a:avLst/>
          </a:prstGeom>
          <a:ln w="7632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250920" y="522936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is simple example shows the</a:t>
            </a:r>
            <a:r>
              <a:rPr b="1" lang="en-GB" sz="2000" spc="-1" strike="noStrike">
                <a:solidFill>
                  <a:srgbClr val="cc0066"/>
                </a:solidFill>
                <a:latin typeface="Arial"/>
              </a:rPr>
              <a:t> practical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necessity of combinatorial thinking;    how does </a:t>
            </a:r>
            <a:r>
              <a:rPr b="1" lang="en-GB" sz="2000" spc="-1" strike="noStrike">
                <a:solidFill>
                  <a:srgbClr val="cc0066"/>
                </a:solidFill>
                <a:latin typeface="Arial"/>
              </a:rPr>
              <a:t>Mathematic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help us in such basic affai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3071-E61A-43EA-B0CE-2D3E96DF53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1042920" y="1989000"/>
            <a:ext cx="6553440" cy="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1042920" y="2852640"/>
            <a:ext cx="6481800" cy="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3564000" y="1989000"/>
            <a:ext cx="863640" cy="86364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3564000" y="1988640"/>
            <a:ext cx="792000" cy="863640"/>
          </a:xfrm>
          <a:prstGeom prst="line">
            <a:avLst/>
          </a:prstGeom>
          <a:ln w="76320">
            <a:solidFill>
              <a:srgbClr val="404b3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826920" y="260280"/>
            <a:ext cx="68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nsider this structure mathematically as a  Strict Partial Ordering  (X,&lt;) where  &lt;  is irreflexive and transitiv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91BF-1D34-41B3-95EE-7C0546F851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843280" y="2060640"/>
            <a:ext cx="576360" cy="576360"/>
          </a:xfrm>
          <a:prstGeom prst="rect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5508720" y="3500280"/>
            <a:ext cx="576000" cy="576360"/>
          </a:xfrm>
          <a:prstGeom prst="rect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3203640" y="3141720"/>
            <a:ext cx="576360" cy="576360"/>
          </a:xfrm>
          <a:prstGeom prst="rect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5651640" y="1844640"/>
            <a:ext cx="576000" cy="576360"/>
          </a:xfrm>
          <a:prstGeom prst="rect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 rot="20252400">
            <a:off x="2432160" y="2570040"/>
            <a:ext cx="598320" cy="1216080"/>
          </a:xfrm>
          <a:custGeom>
            <a:avLst/>
            <a:gdLst>
              <a:gd name="textAreaLeft" fmla="*/ 79920 w 598320"/>
              <a:gd name="textAreaRight" fmla="*/ 518400 w 598320"/>
              <a:gd name="textAreaTop" fmla="*/ 212760 h 1216080"/>
              <a:gd name="textAreaBottom" fmla="*/ 88164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 rot="239400">
            <a:off x="6156360" y="2058840"/>
            <a:ext cx="863640" cy="2089440"/>
          </a:xfrm>
          <a:custGeom>
            <a:avLst/>
            <a:gdLst>
              <a:gd name="textAreaLeft" fmla="*/ 115560 w 863640"/>
              <a:gd name="textAreaRight" fmla="*/ 748080 w 863640"/>
              <a:gd name="textAreaTop" fmla="*/ 378360 h 2089440"/>
              <a:gd name="textAreaBottom" fmla="*/ 1501920 h 208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827" stAng="-5400000" swAng="5400000"/>
                <a:lnTo>
                  <a:pt x="21600" y="11614"/>
                </a:lnTo>
                <a:arcTo wR="21600" hR="7827" stAng="0" swAng="2024137"/>
                <a:lnTo>
                  <a:pt x="10301" y="20653"/>
                </a:lnTo>
                <a:lnTo>
                  <a:pt x="0" y="17547"/>
                </a:lnTo>
                <a:lnTo>
                  <a:pt x="10301" y="12546"/>
                </a:lnTo>
                <a:lnTo>
                  <a:pt x="10301" y="14706"/>
                </a:lnTo>
                <a:arcTo wR="21600" hR="7827" stAng="2024137" swAng="-1714392"/>
                <a:lnTo>
                  <a:pt x="20958" y="9720"/>
                </a:lnTo>
                <a:arcTo wR="21600" hR="7827" stAng="-309746" swAng="-5090254"/>
                <a:close/>
              </a:path>
              <a:path fill="darkenLess" w="21600" h="21600">
                <a:moveTo>
                  <a:pt x="0" y="0"/>
                </a:moveTo>
                <a:arcTo wR="21600" hR="7827" stAng="-5400000" swAng="5400000"/>
                <a:lnTo>
                  <a:pt x="21600" y="11614"/>
                </a:lnTo>
                <a:arcTo wR="21600" hR="7827" stAng="0" swAng="-309746"/>
                <a:lnTo>
                  <a:pt x="20958" y="9720"/>
                </a:lnTo>
                <a:arcTo wR="21600" hR="7827" stAng="-309746" swAng="-5090254"/>
                <a:close/>
              </a:path>
            </a:pathLst>
          </a:cu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 rot="19806600">
            <a:off x="3639960" y="2595600"/>
            <a:ext cx="2163960" cy="585720"/>
          </a:xfrm>
          <a:prstGeom prst="leftArrow">
            <a:avLst>
              <a:gd name="adj1" fmla="val 50000"/>
              <a:gd name="adj2" fmla="val 92363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 rot="12496800">
            <a:off x="3276360" y="2780640"/>
            <a:ext cx="2376360" cy="647640"/>
          </a:xfrm>
          <a:prstGeom prst="leftArrow">
            <a:avLst>
              <a:gd name="adj1" fmla="val 50000"/>
              <a:gd name="adj2" fmla="val 91732"/>
            </a:avLst>
          </a:prstGeom>
          <a:solidFill>
            <a:srgbClr val="404b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3429000" y="1960560"/>
            <a:ext cx="2228760" cy="325440"/>
          </a:xfrm>
          <a:custGeom>
            <a:avLst/>
            <a:gdLst/>
            <a:ahLst/>
            <a:rect l="l" t="t" r="r" b="b"/>
            <a:pathLst>
              <a:path w="1404" h="205">
                <a:moveTo>
                  <a:pt x="0" y="205"/>
                </a:moveTo>
                <a:cubicBezTo>
                  <a:pt x="16" y="181"/>
                  <a:pt x="32" y="157"/>
                  <a:pt x="48" y="133"/>
                </a:cubicBezTo>
                <a:cubicBezTo>
                  <a:pt x="62" y="112"/>
                  <a:pt x="96" y="117"/>
                  <a:pt x="120" y="109"/>
                </a:cubicBezTo>
                <a:cubicBezTo>
                  <a:pt x="132" y="105"/>
                  <a:pt x="156" y="97"/>
                  <a:pt x="156" y="97"/>
                </a:cubicBezTo>
                <a:cubicBezTo>
                  <a:pt x="167" y="100"/>
                  <a:pt x="226" y="113"/>
                  <a:pt x="240" y="121"/>
                </a:cubicBezTo>
                <a:cubicBezTo>
                  <a:pt x="364" y="190"/>
                  <a:pt x="267" y="154"/>
                  <a:pt x="348" y="181"/>
                </a:cubicBezTo>
                <a:cubicBezTo>
                  <a:pt x="351" y="180"/>
                  <a:pt x="424" y="163"/>
                  <a:pt x="432" y="157"/>
                </a:cubicBezTo>
                <a:cubicBezTo>
                  <a:pt x="443" y="148"/>
                  <a:pt x="445" y="130"/>
                  <a:pt x="456" y="121"/>
                </a:cubicBezTo>
                <a:cubicBezTo>
                  <a:pt x="478" y="102"/>
                  <a:pt x="528" y="73"/>
                  <a:pt x="528" y="73"/>
                </a:cubicBezTo>
                <a:cubicBezTo>
                  <a:pt x="590" y="83"/>
                  <a:pt x="621" y="87"/>
                  <a:pt x="672" y="121"/>
                </a:cubicBezTo>
                <a:cubicBezTo>
                  <a:pt x="712" y="117"/>
                  <a:pt x="753" y="118"/>
                  <a:pt x="792" y="109"/>
                </a:cubicBezTo>
                <a:cubicBezTo>
                  <a:pt x="843" y="97"/>
                  <a:pt x="817" y="77"/>
                  <a:pt x="852" y="49"/>
                </a:cubicBezTo>
                <a:cubicBezTo>
                  <a:pt x="873" y="32"/>
                  <a:pt x="902" y="28"/>
                  <a:pt x="924" y="13"/>
                </a:cubicBezTo>
                <a:cubicBezTo>
                  <a:pt x="1157" y="39"/>
                  <a:pt x="958" y="0"/>
                  <a:pt x="1068" y="49"/>
                </a:cubicBezTo>
                <a:cubicBezTo>
                  <a:pt x="1091" y="59"/>
                  <a:pt x="1140" y="73"/>
                  <a:pt x="1140" y="73"/>
                </a:cubicBezTo>
                <a:cubicBezTo>
                  <a:pt x="1196" y="59"/>
                  <a:pt x="1216" y="49"/>
                  <a:pt x="1248" y="1"/>
                </a:cubicBezTo>
                <a:cubicBezTo>
                  <a:pt x="1291" y="15"/>
                  <a:pt x="1356" y="49"/>
                  <a:pt x="1404" y="49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rot="21081000">
            <a:off x="3779640" y="3573000"/>
            <a:ext cx="1714320" cy="400320"/>
          </a:xfrm>
          <a:custGeom>
            <a:avLst/>
            <a:gdLst/>
            <a:ahLst/>
            <a:rect l="l" t="t" r="r" b="b"/>
            <a:pathLst>
              <a:path w="1080" h="252">
                <a:moveTo>
                  <a:pt x="0" y="0"/>
                </a:moveTo>
                <a:cubicBezTo>
                  <a:pt x="48" y="16"/>
                  <a:pt x="68" y="30"/>
                  <a:pt x="96" y="72"/>
                </a:cubicBezTo>
                <a:cubicBezTo>
                  <a:pt x="157" y="57"/>
                  <a:pt x="169" y="65"/>
                  <a:pt x="204" y="12"/>
                </a:cubicBezTo>
                <a:cubicBezTo>
                  <a:pt x="233" y="19"/>
                  <a:pt x="267" y="22"/>
                  <a:pt x="288" y="48"/>
                </a:cubicBezTo>
                <a:cubicBezTo>
                  <a:pt x="296" y="58"/>
                  <a:pt x="294" y="73"/>
                  <a:pt x="300" y="84"/>
                </a:cubicBezTo>
                <a:cubicBezTo>
                  <a:pt x="306" y="97"/>
                  <a:pt x="316" y="108"/>
                  <a:pt x="324" y="120"/>
                </a:cubicBezTo>
                <a:cubicBezTo>
                  <a:pt x="394" y="110"/>
                  <a:pt x="425" y="109"/>
                  <a:pt x="480" y="72"/>
                </a:cubicBezTo>
                <a:cubicBezTo>
                  <a:pt x="500" y="76"/>
                  <a:pt x="521" y="77"/>
                  <a:pt x="540" y="84"/>
                </a:cubicBezTo>
                <a:cubicBezTo>
                  <a:pt x="591" y="103"/>
                  <a:pt x="565" y="109"/>
                  <a:pt x="600" y="144"/>
                </a:cubicBezTo>
                <a:cubicBezTo>
                  <a:pt x="623" y="167"/>
                  <a:pt x="643" y="170"/>
                  <a:pt x="672" y="180"/>
                </a:cubicBezTo>
                <a:cubicBezTo>
                  <a:pt x="787" y="157"/>
                  <a:pt x="761" y="144"/>
                  <a:pt x="840" y="168"/>
                </a:cubicBezTo>
                <a:cubicBezTo>
                  <a:pt x="864" y="175"/>
                  <a:pt x="912" y="192"/>
                  <a:pt x="912" y="192"/>
                </a:cubicBezTo>
                <a:cubicBezTo>
                  <a:pt x="916" y="204"/>
                  <a:pt x="914" y="221"/>
                  <a:pt x="924" y="228"/>
                </a:cubicBezTo>
                <a:cubicBezTo>
                  <a:pt x="945" y="243"/>
                  <a:pt x="996" y="252"/>
                  <a:pt x="996" y="252"/>
                </a:cubicBezTo>
                <a:cubicBezTo>
                  <a:pt x="1035" y="239"/>
                  <a:pt x="1061" y="230"/>
                  <a:pt x="1080" y="192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826920" y="620640"/>
            <a:ext cx="1965600" cy="216000"/>
          </a:xfrm>
          <a:custGeom>
            <a:avLst/>
            <a:gdLst/>
            <a:ahLst/>
            <a:rect l="l" t="t" r="r" b="b"/>
            <a:pathLst>
              <a:path w="1382" h="168">
                <a:moveTo>
                  <a:pt x="0" y="96"/>
                </a:moveTo>
                <a:cubicBezTo>
                  <a:pt x="25" y="59"/>
                  <a:pt x="55" y="42"/>
                  <a:pt x="96" y="24"/>
                </a:cubicBezTo>
                <a:cubicBezTo>
                  <a:pt x="119" y="14"/>
                  <a:pt x="168" y="0"/>
                  <a:pt x="168" y="0"/>
                </a:cubicBezTo>
                <a:cubicBezTo>
                  <a:pt x="194" y="9"/>
                  <a:pt x="221" y="14"/>
                  <a:pt x="240" y="36"/>
                </a:cubicBezTo>
                <a:cubicBezTo>
                  <a:pt x="319" y="127"/>
                  <a:pt x="250" y="95"/>
                  <a:pt x="324" y="120"/>
                </a:cubicBezTo>
                <a:cubicBezTo>
                  <a:pt x="399" y="111"/>
                  <a:pt x="457" y="96"/>
                  <a:pt x="528" y="72"/>
                </a:cubicBezTo>
                <a:cubicBezTo>
                  <a:pt x="567" y="59"/>
                  <a:pt x="597" y="25"/>
                  <a:pt x="636" y="12"/>
                </a:cubicBezTo>
                <a:cubicBezTo>
                  <a:pt x="686" y="29"/>
                  <a:pt x="703" y="52"/>
                  <a:pt x="744" y="84"/>
                </a:cubicBezTo>
                <a:cubicBezTo>
                  <a:pt x="767" y="102"/>
                  <a:pt x="816" y="132"/>
                  <a:pt x="816" y="132"/>
                </a:cubicBezTo>
                <a:cubicBezTo>
                  <a:pt x="874" y="126"/>
                  <a:pt x="952" y="124"/>
                  <a:pt x="1008" y="96"/>
                </a:cubicBezTo>
                <a:cubicBezTo>
                  <a:pt x="1021" y="90"/>
                  <a:pt x="1031" y="78"/>
                  <a:pt x="1044" y="72"/>
                </a:cubicBezTo>
                <a:cubicBezTo>
                  <a:pt x="1044" y="72"/>
                  <a:pt x="1134" y="42"/>
                  <a:pt x="1152" y="36"/>
                </a:cubicBezTo>
                <a:cubicBezTo>
                  <a:pt x="1164" y="32"/>
                  <a:pt x="1188" y="24"/>
                  <a:pt x="1188" y="24"/>
                </a:cubicBezTo>
                <a:cubicBezTo>
                  <a:pt x="1200" y="28"/>
                  <a:pt x="1213" y="30"/>
                  <a:pt x="1224" y="36"/>
                </a:cubicBezTo>
                <a:cubicBezTo>
                  <a:pt x="1237" y="42"/>
                  <a:pt x="1247" y="54"/>
                  <a:pt x="1260" y="60"/>
                </a:cubicBezTo>
                <a:cubicBezTo>
                  <a:pt x="1283" y="70"/>
                  <a:pt x="1332" y="84"/>
                  <a:pt x="1332" y="84"/>
                </a:cubicBezTo>
                <a:cubicBezTo>
                  <a:pt x="1382" y="159"/>
                  <a:pt x="1380" y="127"/>
                  <a:pt x="1380" y="16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2916360" y="476280"/>
            <a:ext cx="56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joins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concurrent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etings                    =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unordered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pai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324000" y="4797360"/>
            <a:ext cx="84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0" y="458136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is is the essential substructure of the signal order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et it be composed of FOUR copies of THE CONTINUU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FA41-C8A5-41D1-8D3E-FC482F4473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843280" y="90792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4067280" y="2997360"/>
            <a:ext cx="215640" cy="21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4356000" y="2133720"/>
            <a:ext cx="216000" cy="21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5651640" y="836640"/>
            <a:ext cx="21564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2987640" y="1052640"/>
            <a:ext cx="1079640" cy="19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2987640" y="1052640"/>
            <a:ext cx="136836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 flipH="1">
            <a:off x="4500360" y="981000"/>
            <a:ext cx="115092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 flipH="1">
            <a:off x="4211640" y="981000"/>
            <a:ext cx="1512720" cy="201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33600" cy="1905120"/>
          </a:xfrm>
          <a:prstGeom prst="rect">
            <a:avLst/>
          </a:prstGeom>
          <a:ln w="0">
            <a:noFill/>
          </a:ln>
        </p:spPr>
      </p:pic>
      <p:sp>
        <p:nvSpPr>
          <p:cNvPr id="1217" name=""/>
          <p:cNvSpPr/>
          <p:nvPr/>
        </p:nvSpPr>
        <p:spPr>
          <a:xfrm>
            <a:off x="3348000" y="0"/>
            <a:ext cx="5796000" cy="30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efined the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MPLETENESS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 Linear 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y  the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bs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f   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JUM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1692360" y="3716280"/>
            <a:ext cx="0" cy="576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1692360" y="4869000"/>
            <a:ext cx="0" cy="431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2987640" y="3789360"/>
            <a:ext cx="0" cy="503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2987640" y="4724280"/>
            <a:ext cx="0" cy="505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4859280" y="3716280"/>
            <a:ext cx="0" cy="649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4859280" y="4724280"/>
            <a:ext cx="0" cy="433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6227640" y="3789360"/>
            <a:ext cx="0" cy="503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6227640" y="4724280"/>
            <a:ext cx="0" cy="505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8101080" y="3789360"/>
            <a:ext cx="0" cy="576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8101080" y="4581360"/>
            <a:ext cx="0" cy="576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8028000" y="4365720"/>
            <a:ext cx="216000" cy="215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6084720" y="4508640"/>
            <a:ext cx="216000" cy="215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4788000" y="4292640"/>
            <a:ext cx="215640" cy="216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1619280" y="4221000"/>
            <a:ext cx="216000" cy="216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0" y="4292640"/>
            <a:ext cx="11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U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826920" y="5445000"/>
            <a:ext cx="60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JUMP       GAP            "Continuations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7524720" y="522936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Filled G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1619280" y="4724280"/>
            <a:ext cx="216000" cy="216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7225-DC02-4FBC-BD6B-40F092C092B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843280" y="90792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4067280" y="2997360"/>
            <a:ext cx="215640" cy="21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4356000" y="2133720"/>
            <a:ext cx="216000" cy="21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5651640" y="836640"/>
            <a:ext cx="21564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2987640" y="1052640"/>
            <a:ext cx="1079640" cy="19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2987640" y="1052640"/>
            <a:ext cx="136836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 flipH="1">
            <a:off x="4500360" y="981000"/>
            <a:ext cx="115092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4211640" y="981000"/>
            <a:ext cx="1512720" cy="201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3348000" y="0"/>
            <a:ext cx="5796000" cy="30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efined the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MPLETENESS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 Linear 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y  the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bs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f   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JUM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0" y="3716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0" y="3789360"/>
            <a:ext cx="91440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His modern disciples have</a:t>
            </a:r>
            <a:r>
              <a:rPr b="1" lang="en-GB" sz="2800" spc="-1" strike="noStrike">
                <a:solidFill>
                  <a:srgbClr val="ffcc66"/>
                </a:solidFill>
                <a:latin typeface="Arial"/>
              </a:rPr>
              <a:t> "</a:t>
            </a:r>
            <a:r>
              <a:rPr b="1" lang="en-GB" sz="2800" spc="-1" strike="noStrike" u="sng">
                <a:solidFill>
                  <a:srgbClr val="404b3d"/>
                </a:solidFill>
                <a:uFillTx/>
                <a:latin typeface="Arial"/>
              </a:rPr>
              <a:t>generalized</a:t>
            </a:r>
            <a:r>
              <a:rPr b="1" lang="en-GB" sz="2800" spc="-1" strike="noStrike" u="sng">
                <a:solidFill>
                  <a:srgbClr val="ffcc66"/>
                </a:solidFill>
                <a:uFillTx/>
                <a:latin typeface="Arial"/>
              </a:rPr>
              <a:t>"</a:t>
            </a:r>
            <a:r>
              <a:rPr b="1" lang="en-GB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D-Cut</a:t>
            </a:r>
            <a:r>
              <a:rPr b="1" lang="en-GB" sz="2800" spc="-1" strike="noStrike">
                <a:solidFill>
                  <a:srgbClr val="dddddd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o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Partial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Orders, neglecting the clear principles      of Dedekind.  They take no notice of jumps, nor of bipartition, nor of order-strictness</a:t>
            </a:r>
            <a:r>
              <a:rPr b="1" lang="en-GB" sz="2800" spc="-1" strike="noStrike">
                <a:solidFill>
                  <a:srgbClr val="dddddd"/>
                </a:solidFill>
                <a:latin typeface="Arial"/>
              </a:rPr>
              <a:t> . .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Look it up in the Textbook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6680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7610-D3EC-4588-93B3-F154206E96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843280" y="90792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4067280" y="2997360"/>
            <a:ext cx="215640" cy="21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4356000" y="2133720"/>
            <a:ext cx="216000" cy="21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5651640" y="836640"/>
            <a:ext cx="21564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2987640" y="1052640"/>
            <a:ext cx="1079640" cy="19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2987640" y="1052640"/>
            <a:ext cx="136836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 flipH="1">
            <a:off x="4500360" y="981000"/>
            <a:ext cx="115092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 flipH="1">
            <a:off x="4211640" y="981000"/>
            <a:ext cx="1512720" cy="201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0" y="3716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684360" y="633888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Look it up in the Textbook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0" y="0"/>
            <a:ext cx="914400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y the </a:t>
            </a:r>
            <a:r>
              <a:rPr b="1" lang="en-GB" sz="3200" spc="-1" strike="noStrike">
                <a:solidFill>
                  <a:srgbClr val="dddddd"/>
                </a:solidFill>
                <a:latin typeface="Arial"/>
              </a:rPr>
              <a:t>modern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definition of the Dedekind Cut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is structure                             is decla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"incomplete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at Definition demands moreover the filling   of an asserted GAP by a new 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PRODUCING FOUR JUM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7524720" y="4365720"/>
            <a:ext cx="216000" cy="215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4859280" y="5445000"/>
            <a:ext cx="1297080" cy="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3" name="" descr=""/>
          <p:cNvPicPr/>
          <p:nvPr/>
        </p:nvPicPr>
        <p:blipFill>
          <a:blip r:embed="rId1"/>
          <a:stretch/>
        </p:blipFill>
        <p:spPr>
          <a:xfrm rot="20883000">
            <a:off x="6659280" y="4952880"/>
            <a:ext cx="166680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EB79-3407-47B2-B324-2C6009E07E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843280" y="90792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4067280" y="2997360"/>
            <a:ext cx="215640" cy="21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4356000" y="2133720"/>
            <a:ext cx="216000" cy="21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5651640" y="836640"/>
            <a:ext cx="21564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2987640" y="1052640"/>
            <a:ext cx="1079640" cy="19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2987640" y="1052640"/>
            <a:ext cx="136836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 flipH="1">
            <a:off x="4500360" y="981000"/>
            <a:ext cx="115092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4211640" y="981000"/>
            <a:ext cx="1512720" cy="201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0" y="3716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684360" y="633888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Look it up in the Textbook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0" y="0"/>
            <a:ext cx="914400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dddddd"/>
                </a:solidFill>
                <a:latin typeface="Arial"/>
              </a:rPr>
              <a:t>    </a:t>
            </a:r>
            <a:r>
              <a:rPr b="1" lang="en-GB" sz="3200" spc="-1" strike="noStrike">
                <a:solidFill>
                  <a:srgbClr val="dddddd"/>
                </a:solidFill>
                <a:latin typeface="Arial"/>
              </a:rPr>
              <a:t>Modern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definition of the Dedekind Cu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at Definition demands the filling                   .   of an asserted GAP by a new 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PRODUCING FOUR JUM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3995640" y="1413000"/>
            <a:ext cx="216000" cy="215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7956720" y="4365720"/>
            <a:ext cx="215640" cy="215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3059280" y="1052640"/>
            <a:ext cx="936360" cy="43164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 flipH="1">
            <a:off x="4211280" y="981000"/>
            <a:ext cx="1368360" cy="50328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4859280" y="5445000"/>
            <a:ext cx="1297080" cy="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4140360" y="1628640"/>
            <a:ext cx="287280" cy="50508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4067280" y="1628640"/>
            <a:ext cx="73080" cy="136872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3" name="" descr=""/>
          <p:cNvPicPr/>
          <p:nvPr/>
        </p:nvPicPr>
        <p:blipFill>
          <a:blip r:embed="rId1"/>
          <a:stretch/>
        </p:blipFill>
        <p:spPr>
          <a:xfrm rot="20812800">
            <a:off x="6659640" y="4952880"/>
            <a:ext cx="166680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"/>
          <p:cNvSpPr/>
          <p:nvPr/>
        </p:nvSpPr>
        <p:spPr>
          <a:xfrm>
            <a:off x="395280" y="260280"/>
            <a:ext cx="84978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at shortsighted definition had to be revised;   it concerns  the Foundations of Combinatorial Modelling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Isotopes of the shown "Synchronizer" are just the necessary and sufficient building-blocks for the construction of systems comprising information flow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395280" y="3716280"/>
            <a:ext cx="1512720" cy="144000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2627280" y="3357720"/>
            <a:ext cx="1584360" cy="792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5435640" y="3645000"/>
            <a:ext cx="793800" cy="1439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7020000" y="3645000"/>
            <a:ext cx="792000" cy="14396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2627280" y="4724280"/>
            <a:ext cx="1584360" cy="7905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11280" y="3933720"/>
            <a:ext cx="1079280" cy="100800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250920" y="530064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AUSAL   CY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2195640" y="422100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YNCHRON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2195640" y="558972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ISY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5435640" y="515772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AKE-              GIVE-         SLICE              SL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9CA4A-8D41-4D20-AA86-CACA98CC4E6C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"/>
          <p:cNvSpPr/>
          <p:nvPr/>
        </p:nvSpPr>
        <p:spPr>
          <a:xfrm>
            <a:off x="395280" y="0"/>
            <a:ext cx="84978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Isotopes of the shown "Synchronizer" are the  necessary and sufficient </a:t>
            </a: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building-block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for the construction of systems comprising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information flow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468360" y="1773360"/>
            <a:ext cx="1512720" cy="143964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2627280" y="3357720"/>
            <a:ext cx="1584360" cy="79200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5435640" y="3645000"/>
            <a:ext cx="793800" cy="1439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7020000" y="3645000"/>
            <a:ext cx="792000" cy="14396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2627280" y="4724280"/>
            <a:ext cx="1584360" cy="79056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684360" y="1989000"/>
            <a:ext cx="1079280" cy="1008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395280" y="335772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AUSAL   CY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2195640" y="422100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YNCHRON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2195640" y="558972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ISY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5435640" y="515772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AKE-              GIVE-         SLICE              SL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3635280" y="4869000"/>
            <a:ext cx="216000" cy="2156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6156360" y="5013360"/>
            <a:ext cx="21600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6156360" y="4581360"/>
            <a:ext cx="21600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6156360" y="4076640"/>
            <a:ext cx="21600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6156360" y="3573360"/>
            <a:ext cx="21600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4067280" y="3284640"/>
            <a:ext cx="215640" cy="2156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2556000" y="3284640"/>
            <a:ext cx="215640" cy="2156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1116000" y="2997360"/>
            <a:ext cx="216000" cy="2156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1763640" y="2349360"/>
            <a:ext cx="21600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116000" y="1773360"/>
            <a:ext cx="216000" cy="2156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468360" y="2349360"/>
            <a:ext cx="21600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6948360" y="4941720"/>
            <a:ext cx="21600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6948360" y="4508640"/>
            <a:ext cx="216000" cy="2156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6948360" y="4076640"/>
            <a:ext cx="21600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6948360" y="3573360"/>
            <a:ext cx="21600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2916360" y="4869000"/>
            <a:ext cx="215640" cy="2156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3276720" y="5373720"/>
            <a:ext cx="21564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3276720" y="4653000"/>
            <a:ext cx="21564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4067280" y="4005360"/>
            <a:ext cx="215640" cy="2156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556000" y="4005360"/>
            <a:ext cx="215640" cy="2156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3635280" y="3500280"/>
            <a:ext cx="216000" cy="2160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4067280" y="4653000"/>
            <a:ext cx="21564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484360" y="544500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4067280" y="5373720"/>
            <a:ext cx="21564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2484360" y="465300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1547640" y="1916280"/>
            <a:ext cx="216000" cy="21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684360" y="1916280"/>
            <a:ext cx="215640" cy="21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611280" y="2781360"/>
            <a:ext cx="21564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1547640" y="278136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7740720" y="494172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7740720" y="4508640"/>
            <a:ext cx="216000" cy="21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7740720" y="407664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7740720" y="357336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5364000" y="501336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5364000" y="458136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5364000" y="407664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5364000" y="357336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2916360" y="3500280"/>
            <a:ext cx="215640" cy="2160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3276720" y="4005360"/>
            <a:ext cx="215640" cy="215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3276720" y="3284640"/>
            <a:ext cx="215640" cy="215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6" name="" descr=""/>
          <p:cNvPicPr/>
          <p:nvPr/>
        </p:nvPicPr>
        <p:blipFill>
          <a:blip r:embed="rId1"/>
          <a:stretch/>
        </p:blipFill>
        <p:spPr>
          <a:xfrm>
            <a:off x="0" y="4989600"/>
            <a:ext cx="2050920" cy="1868400"/>
          </a:xfrm>
          <a:prstGeom prst="rect">
            <a:avLst/>
          </a:prstGeom>
          <a:ln w="0">
            <a:noFill/>
          </a:ln>
        </p:spPr>
      </p:pic>
      <p:pic>
        <p:nvPicPr>
          <p:cNvPr id="1347" name="" descr=""/>
          <p:cNvPicPr/>
          <p:nvPr/>
        </p:nvPicPr>
        <p:blipFill>
          <a:blip r:embed="rId2"/>
          <a:stretch/>
        </p:blipFill>
        <p:spPr>
          <a:xfrm>
            <a:off x="6948360" y="1557360"/>
            <a:ext cx="1901880" cy="191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79303-780E-4675-BA42-2D9E78E244DA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8" name="" descr=""/>
          <p:cNvPicPr/>
          <p:nvPr/>
        </p:nvPicPr>
        <p:blipFill>
          <a:blip r:embed="rId1"/>
          <a:stretch/>
        </p:blipFill>
        <p:spPr>
          <a:xfrm>
            <a:off x="6286680" y="126828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1349" name="" descr=""/>
          <p:cNvPicPr/>
          <p:nvPr/>
        </p:nvPicPr>
        <p:blipFill>
          <a:blip r:embed="rId2"/>
          <a:stretch/>
        </p:blipFill>
        <p:spPr>
          <a:xfrm>
            <a:off x="1332000" y="3390840"/>
            <a:ext cx="3781440" cy="3467160"/>
          </a:xfrm>
          <a:prstGeom prst="rect">
            <a:avLst/>
          </a:prstGeom>
          <a:ln w="0">
            <a:noFill/>
          </a:ln>
        </p:spPr>
      </p:pic>
      <p:pic>
        <p:nvPicPr>
          <p:cNvPr id="1350" name="" descr=""/>
          <p:cNvPicPr/>
          <p:nvPr/>
        </p:nvPicPr>
        <p:blipFill>
          <a:blip r:embed="rId3"/>
          <a:stretch/>
        </p:blipFill>
        <p:spPr>
          <a:xfrm rot="892800">
            <a:off x="4716000" y="5489640"/>
            <a:ext cx="1336680" cy="1368360"/>
          </a:xfrm>
          <a:prstGeom prst="rect">
            <a:avLst/>
          </a:prstGeom>
          <a:ln w="0">
            <a:noFill/>
          </a:ln>
        </p:spPr>
      </p:pic>
      <p:sp>
        <p:nvSpPr>
          <p:cNvPr id="1351" name=""/>
          <p:cNvSpPr/>
          <p:nvPr/>
        </p:nvSpPr>
        <p:spPr>
          <a:xfrm>
            <a:off x="250920" y="333360"/>
            <a:ext cx="2808360" cy="2664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65656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6012000" y="26028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er aspera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C7669-7312-46C4-AC6C-5BD8D0215CFC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D072-AFE1-4311-9419-E681A737E740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1"/>
          <a:srcRect l="1957" t="39125" r="3762" b="0"/>
          <a:stretch/>
        </p:blipFill>
        <p:spPr>
          <a:xfrm>
            <a:off x="0" y="0"/>
            <a:ext cx="7451640" cy="685800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2"/>
          <a:srcRect l="0" t="0" r="11812" b="0"/>
          <a:stretch/>
        </p:blipFill>
        <p:spPr>
          <a:xfrm>
            <a:off x="6804000" y="4948200"/>
            <a:ext cx="1873440" cy="1909800"/>
          </a:xfrm>
          <a:prstGeom prst="rect">
            <a:avLst/>
          </a:prstGeom>
          <a:ln w="0">
            <a:noFill/>
          </a:ln>
        </p:spPr>
      </p:pic>
      <p:sp>
        <p:nvSpPr>
          <p:cNvPr id="772" name=""/>
          <p:cNvSpPr/>
          <p:nvPr/>
        </p:nvSpPr>
        <p:spPr>
          <a:xfrm>
            <a:off x="6443640" y="4869000"/>
            <a:ext cx="647640" cy="574560"/>
          </a:xfrm>
          <a:prstGeom prst="ellipse">
            <a:avLst/>
          </a:prstGeom>
          <a:gradFill rotWithShape="0">
            <a:gsLst>
              <a:gs pos="0">
                <a:srgbClr val="ff4f41"/>
              </a:gs>
              <a:gs pos="100000">
                <a:srgbClr val="75241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516720" y="6453360"/>
            <a:ext cx="93492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72F6-7E34-449C-A997-A2CA933DD6F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4" name="" descr=""/>
          <p:cNvPicPr/>
          <p:nvPr/>
        </p:nvPicPr>
        <p:blipFill>
          <a:blip r:embed="rId1"/>
          <a:stretch/>
        </p:blipFill>
        <p:spPr>
          <a:xfrm>
            <a:off x="6286680" y="126828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1355" name="" descr=""/>
          <p:cNvPicPr/>
          <p:nvPr/>
        </p:nvPicPr>
        <p:blipFill>
          <a:blip r:embed="rId2"/>
          <a:stretch/>
        </p:blipFill>
        <p:spPr>
          <a:xfrm>
            <a:off x="1332000" y="3390840"/>
            <a:ext cx="3781440" cy="3467160"/>
          </a:xfrm>
          <a:prstGeom prst="rect">
            <a:avLst/>
          </a:prstGeom>
          <a:ln w="0">
            <a:noFill/>
          </a:ln>
        </p:spPr>
      </p:pic>
      <p:pic>
        <p:nvPicPr>
          <p:cNvPr id="1356" name="" descr=""/>
          <p:cNvPicPr/>
          <p:nvPr/>
        </p:nvPicPr>
        <p:blipFill>
          <a:blip r:embed="rId3"/>
          <a:stretch/>
        </p:blipFill>
        <p:spPr>
          <a:xfrm rot="892800">
            <a:off x="2626920" y="2781360"/>
            <a:ext cx="1336680" cy="1368360"/>
          </a:xfrm>
          <a:prstGeom prst="rect">
            <a:avLst/>
          </a:prstGeom>
          <a:ln w="0">
            <a:noFill/>
          </a:ln>
        </p:spPr>
      </p:pic>
      <p:sp>
        <p:nvSpPr>
          <p:cNvPr id="1357" name=""/>
          <p:cNvSpPr/>
          <p:nvPr/>
        </p:nvSpPr>
        <p:spPr>
          <a:xfrm>
            <a:off x="250920" y="333360"/>
            <a:ext cx="2808360" cy="266400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6156360" y="260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d ast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 txBox="1"/>
          <p:nvPr/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D454-6D70-48D8-AC03-3CBD2BFE783D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5" name="" descr=""/>
          <p:cNvPicPr/>
          <p:nvPr/>
        </p:nvPicPr>
        <p:blipFill>
          <a:blip r:embed="rId1"/>
          <a:srcRect l="1770" t="19947" r="5728" b="41775"/>
          <a:stretch/>
        </p:blipFill>
        <p:spPr>
          <a:xfrm>
            <a:off x="611280" y="2349360"/>
            <a:ext cx="7885080" cy="4508640"/>
          </a:xfrm>
          <a:prstGeom prst="rect">
            <a:avLst/>
          </a:prstGeom>
          <a:ln w="0">
            <a:noFill/>
          </a:ln>
        </p:spPr>
      </p:pic>
      <p:sp>
        <p:nvSpPr>
          <p:cNvPr id="776" name=""/>
          <p:cNvSpPr/>
          <p:nvPr/>
        </p:nvSpPr>
        <p:spPr>
          <a:xfrm>
            <a:off x="6372360" y="3429000"/>
            <a:ext cx="71280" cy="71280"/>
          </a:xfrm>
          <a:prstGeom prst="ellipse">
            <a:avLst/>
          </a:prstGeom>
          <a:solidFill>
            <a:srgbClr val="bdcd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835280" y="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cc"/>
                </a:solidFill>
                <a:uFillTx/>
                <a:latin typeface="Arial"/>
              </a:rPr>
              <a:t>Continu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0" y="620640"/>
            <a:ext cx="88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0" y="549360"/>
            <a:ext cx="914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 CONTINUUM  is the name commonly given to the set of  Real Numbers from 0 to 1, with the intervals l0,x), (x,y), (y,1l  for all  0&lt;x,y&lt;1 and all unions of such intervals defined as   the OpenSets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f  THE  CONTINUU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84360" y="3213000"/>
            <a:ext cx="468000" cy="432000"/>
          </a:xfrm>
          <a:prstGeom prst="ellipse">
            <a:avLst/>
          </a:prstGeom>
          <a:gradFill rotWithShape="0">
            <a:gsLst>
              <a:gs pos="0">
                <a:srgbClr val="ff4f41"/>
              </a:gs>
              <a:gs pos="100000">
                <a:srgbClr val="75241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84360" y="4005360"/>
            <a:ext cx="468000" cy="431640"/>
          </a:xfrm>
          <a:prstGeom prst="ellipse">
            <a:avLst/>
          </a:prstGeom>
          <a:gradFill rotWithShape="0">
            <a:gsLst>
              <a:gs pos="0">
                <a:srgbClr val="ff4f41"/>
              </a:gs>
              <a:gs pos="100000">
                <a:srgbClr val="75241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D225-BB08-45E3-9C75-502B3651570F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1"/>
          <a:srcRect l="0" t="19759" r="1957" b="26606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784" name=""/>
          <p:cNvSpPr/>
          <p:nvPr/>
        </p:nvSpPr>
        <p:spPr>
          <a:xfrm>
            <a:off x="0" y="3213000"/>
            <a:ext cx="9144000" cy="792360"/>
          </a:xfrm>
          <a:prstGeom prst="rect">
            <a:avLst/>
          </a:prstGeom>
          <a:gradFill rotWithShape="0">
            <a:gsLst>
              <a:gs pos="0">
                <a:srgbClr val="72741f"/>
              </a:gs>
              <a:gs pos="50000">
                <a:srgbClr val="f8fc44"/>
              </a:gs>
              <a:gs pos="100000">
                <a:srgbClr val="72741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2"/>
          <a:stretch/>
        </p:blipFill>
        <p:spPr>
          <a:xfrm>
            <a:off x="7956720" y="5670720"/>
            <a:ext cx="1187280" cy="1187280"/>
          </a:xfrm>
          <a:prstGeom prst="rect">
            <a:avLst/>
          </a:prstGeom>
          <a:ln w="0">
            <a:noFill/>
          </a:ln>
        </p:spPr>
      </p:pic>
      <p:sp>
        <p:nvSpPr>
          <p:cNvPr id="786" name=""/>
          <p:cNvSpPr/>
          <p:nvPr/>
        </p:nvSpPr>
        <p:spPr>
          <a:xfrm>
            <a:off x="250920" y="836640"/>
            <a:ext cx="504720" cy="431640"/>
          </a:xfrm>
          <a:prstGeom prst="ellipse">
            <a:avLst/>
          </a:prstGeom>
          <a:gradFill rotWithShape="0">
            <a:gsLst>
              <a:gs pos="0">
                <a:srgbClr val="ff4f41"/>
              </a:gs>
              <a:gs pos="100000">
                <a:srgbClr val="75241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50920" y="1700280"/>
            <a:ext cx="504720" cy="431640"/>
          </a:xfrm>
          <a:prstGeom prst="ellipse">
            <a:avLst/>
          </a:prstGeom>
          <a:gradFill rotWithShape="0">
            <a:gsLst>
              <a:gs pos="0">
                <a:srgbClr val="ff4f41"/>
              </a:gs>
              <a:gs pos="100000">
                <a:srgbClr val="75241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 txBox="1"/>
          <p:nvPr/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E6A8-CE18-48C9-A6B5-C52110F8E9D8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9" name="" descr=""/>
          <p:cNvPicPr/>
          <p:nvPr/>
        </p:nvPicPr>
        <p:blipFill>
          <a:blip r:embed="rId1"/>
          <a:srcRect l="845" t="57826" r="2553" b="1687"/>
          <a:stretch/>
        </p:blipFill>
        <p:spPr>
          <a:xfrm>
            <a:off x="0" y="549360"/>
            <a:ext cx="9144000" cy="5543640"/>
          </a:xfrm>
          <a:prstGeom prst="rect">
            <a:avLst/>
          </a:prstGeom>
          <a:ln w="0">
            <a:noFill/>
          </a:ln>
        </p:spPr>
      </p:pic>
      <p:sp>
        <p:nvSpPr>
          <p:cNvPr id="790" name=""/>
          <p:cNvSpPr/>
          <p:nvPr/>
        </p:nvSpPr>
        <p:spPr>
          <a:xfrm>
            <a:off x="0" y="5877000"/>
            <a:ext cx="9144000" cy="2887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2"/>
          <a:stretch/>
        </p:blipFill>
        <p:spPr>
          <a:xfrm>
            <a:off x="0" y="5586480"/>
            <a:ext cx="3851280" cy="127152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/>
          <p:cNvPicPr/>
          <p:nvPr/>
        </p:nvPicPr>
        <p:blipFill>
          <a:blip r:embed="rId3"/>
          <a:srcRect l="35533" t="0" r="0" b="0"/>
          <a:stretch/>
        </p:blipFill>
        <p:spPr>
          <a:xfrm>
            <a:off x="3924360" y="5661000"/>
            <a:ext cx="2482920" cy="119700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/>
          <p:cNvPicPr/>
          <p:nvPr/>
        </p:nvPicPr>
        <p:blipFill>
          <a:blip r:embed="rId4"/>
          <a:srcRect l="35490" t="0" r="0" b="0"/>
          <a:stretch/>
        </p:blipFill>
        <p:spPr>
          <a:xfrm>
            <a:off x="6443640" y="5586480"/>
            <a:ext cx="2484360" cy="1271520"/>
          </a:xfrm>
          <a:prstGeom prst="rect">
            <a:avLst/>
          </a:prstGeom>
          <a:ln w="0">
            <a:noFill/>
          </a:ln>
        </p:spPr>
      </p:pic>
      <p:sp>
        <p:nvSpPr>
          <p:cNvPr id="794" name=""/>
          <p:cNvSpPr/>
          <p:nvPr/>
        </p:nvSpPr>
        <p:spPr>
          <a:xfrm>
            <a:off x="0" y="4724280"/>
            <a:ext cx="250920" cy="649440"/>
          </a:xfrm>
          <a:prstGeom prst="rect">
            <a:avLst/>
          </a:prstGeom>
          <a:solidFill>
            <a:srgbClr val="fff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08000" y="4869000"/>
            <a:ext cx="8856720" cy="9363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8T15:28:57Z</dcterms:created>
  <dc:creator>C.A.Petri</dc:creator>
  <dc:description/>
  <dc:language>en-US</dc:language>
  <cp:lastModifiedBy>Petri</cp:lastModifiedBy>
  <dcterms:modified xsi:type="dcterms:W3CDTF">2004-09-23T12:01:44Z</dcterms:modified>
  <cp:revision>197</cp:revision>
  <dc:subject/>
  <dc:title>Net Modelling</dc:title>
</cp:coreProperties>
</file>