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2.png" ContentType="image/png"/>
  <Override PartName="/ppt/media/image51.png" ContentType="image/png"/>
  <Override PartName="/ppt/media/laser.wav" ContentType="audio/x-wav"/>
  <Override PartName="/ppt/media/image5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breeze.wav" ContentType="audio/x-wav"/>
  <Override PartName="/ppt/media/image4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2.png" ContentType="image/png"/>
  <Override PartName="/ppt/media/image59.png" ContentType="image/png"/>
  <Override PartName="/ppt/media/bomb.wav" ContentType="audio/x-wav"/>
  <Override PartName="/ppt/media/arrow.wav" ContentType="audio/x-wav"/>
  <Override PartName="/ppt/media/image22.png" ContentType="image/png"/>
  <Override PartName="/ppt/media/explode.wav" ContentType="audio/x-wav"/>
  <Override PartName="/ppt/media/image50.png" ContentType="image/png"/>
  <Override PartName="/ppt/media/image23.png" ContentType="image/png"/>
  <Override PartName="/ppt/media/image60.png" ContentType="image/png"/>
  <Override PartName="/ppt/media/image58.png" ContentType="image/png"/>
  <Override PartName="/ppt/media/image21.png" ContentType="image/png"/>
  <Override PartName="/ppt/media/image20.png" ContentType="image/png"/>
  <Override PartName="/ppt/media/hammer.wav" ContentType="audio/x-wav"/>
  <Override PartName="/ppt/media/image55.png" ContentType="image/png"/>
  <Override PartName="/ppt/media/image54.png" ContentType="image/png"/>
  <Override PartName="/ppt/media/image53.png" ContentType="image/png"/>
  <Override PartName="/ppt/media/image56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image1.png" ContentType="image/png"/>
  <Override PartName="/ppt/media/image13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C0AB-7D83-4540-84FA-A3515C79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35D4-44AB-45E6-BC6F-B284207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6DE0B-60AD-482B-BB76-15D89F5E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186D5-F888-4E30-8121-4887C9E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C88C6-1EB7-4087-9643-9F5B20E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4EC64-4A08-4A13-A719-7F5C72A1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1454A-9BA9-43EE-8244-663C569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E1B71-5887-4E32-86AD-20C32EE7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93364-3266-408E-BE48-E118A76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3BF2-2E0E-4E06-BEF4-11CE3540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21DB9-6C3F-4C48-BBAE-D794141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4317B-A087-408F-AEA5-5A34934A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C1E9-C109-4EC0-8F81-D3EF983A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9748B-9BCF-4D56-945F-012F2F3D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FEDB9-53B6-4B7E-8279-DD4AEEED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0E90D-FA39-4259-83B5-FE542A9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AD18A-0F32-4F96-9808-F354DEB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A2117-6FD0-428A-8612-C06B097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5C690-4143-4564-9A34-D44DBB5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85EAE-EEDB-4FD0-9ED3-564869B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28D47-ECD7-436D-94BD-B73369CC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A3F9D-BB70-4AF1-9F52-44E7474A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D6200-C074-4C42-BF59-9685967E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E68A-EBC7-47A6-BC11-CB48926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9E1A7-C004-4A2A-816C-0FAE52EC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F0EA3-571A-476B-85A6-0E19CAB0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55A73-CF8D-4960-9835-5AB738D6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208DD-6C8B-4707-89CD-8CCBC50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75C17-D55D-4063-A133-773727C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E035A-1B93-402D-8456-0A383075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B88E-7896-49B6-A1C6-586C318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CBC1-FAB9-489B-B7A2-CE48E911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117DA-611B-4CC5-9095-B204DD7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BDE7-3B31-4B21-8128-F958540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B1D8-A351-4DF1-9272-9C560A13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302C-8BB7-4038-8FFB-0AB59543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EEFC4-7216-445B-9F51-23810EDD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5AF44-3BEC-4474-AD6B-1B3EE1D7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5517F-BA8E-48DD-8C8B-239D3051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BF1E6-3633-41D9-9E34-FA798F56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22208-052C-41DA-B53F-8AD7451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E97CF-F627-4E62-A9CB-7D2E7A1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5EAC7-C3B0-4976-9FD0-37D1D367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ADD76-DD50-4CB2-8CBB-B2C6785A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4A33C-2D09-4025-9C40-2393DFB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039-4878-4C52-960D-DCD933B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D643-B2BC-484C-99E9-6DC292C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DCCD2-0825-400F-B5B2-FAE4537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F9541-AA57-405D-AA1A-38972C79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F7E62-7393-467A-89AA-1C5DDD91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136D8-BD06-4871-9D07-80828ECB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0782A-794E-46CF-AD64-C44AB95A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0267A-8303-4C53-8441-8E1D32B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55A28-E208-4794-85BF-2F31677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BE79B-AC02-445A-9A41-5CF2AB4E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02FE6-B374-44E5-A2F3-DDD4006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400-9946-4229-8FC0-DDA5938F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1EFCE-5058-4D9D-B902-0E60183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0C3C5-DE95-4D0C-ACB0-FB0DBF1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51E4C-5284-4220-8C65-AD1A9D7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E0A61-EE9E-454E-8501-459A3368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2D69C-442E-411F-A9D4-E43C42A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E9FFE-329F-4A13-802C-27B7189F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4B1F4-10CA-460B-8587-B02FAFDC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B339-9623-4E41-A660-C31780BD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64A1-4FB3-4CAE-8A44-E6AD0B3A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316-B1EE-49E3-A410-10DA900D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F81-617F-4B34-82F5-35D590B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1BE0-4F9E-4721-A3A1-733A8319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0AF2-4B74-4AFF-9741-DF51766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653-0601-4513-8BF1-42ED10AB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7FF-5E70-4D68-B292-3FC69052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BAA8-D485-4FE0-B3D3-02360306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FEE-1BF3-478A-9DC4-3D86EF4E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BDEC-B3A1-4307-AAD7-D98FB206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A34D-FC39-49F8-A03C-67E2E73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5087-E3F1-46B6-8548-703ED180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4407-0A80-4DBF-8F44-7246FC6A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FF0B-2E64-464B-A4B7-A7285DE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165E-34D7-47AF-934F-AAD86857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7719-EBCC-4494-A896-5833920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B147-B0D4-4FF9-BA69-6BF69E7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483C-A4B7-48A5-A552-761E69D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8386-3B06-4DA9-B85B-593A9E36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D323-E749-4823-92A9-756EFE4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EC91-F6F9-49A0-99F6-EA4DB34A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CB63-CE84-4FE8-BF36-7F74FF61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26ED-009C-4B16-AF9C-ECCAEBF5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2FDB-25D8-41E3-A73E-19AF3111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3C42-DE15-41CF-B1A9-17D9D879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ECB9-2C91-421A-8B7D-B4F097C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BBBF-60A4-472D-8290-232D45B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0014-753D-442E-B7B6-25FEBAF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CC51-8252-4C96-899D-8ED51B76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0CB4-A9AD-4967-88BF-2A3072E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BE47-3300-4468-BFE8-853D3B9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AA23-04D0-4C96-9244-BE1CF66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98FE-D0A7-4340-BA25-9768880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DD61-F7B6-4C81-83DD-56EB61A1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9EC6-F2CA-45B7-8641-7DA300C0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762D-0408-4344-846B-69716858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3C26-E153-47EC-BAF5-74372B03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EAC01-AB5B-419A-97AA-F8C4573B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F1BA3-6407-407E-B3B5-96EE0797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DD6B-91C3-4EB3-90E2-35CFF2E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D8C39-DED8-4D97-BEC8-A355D52B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0DD5E-456F-41C2-BBAC-7B35E53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AEA1-41E0-44EF-BC07-956B114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733D-5DFA-4D8E-9DF3-54AEBBF5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58931-48FB-42B8-BF45-876AC03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4380D-C501-49FA-943A-91E4375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CF3D-F6A4-44D5-A253-26BFC380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7169-3631-4525-8562-629137F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C9A3-0726-4681-9696-FD3FBBA3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69CB4-299E-4115-8917-540C0774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CA564-A37F-4439-949E-1BBDBC8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1FF0D-C017-42D0-810C-0704B4ED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6DDB8-DBBF-49FC-BA1D-6AA4129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0B29F-BBA1-43B9-A413-6AB2AAC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905A7-CF00-4DDD-8130-5EF9718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2F63E-0DE0-4D3E-9607-3639AD3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893D1-99E2-464A-89A8-4275E30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962FC-79F6-4496-8466-258AB251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4A29-FFB7-4823-980F-5A1E721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9F898-AC7F-4699-912F-A9625D0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76756-EF5D-4B9D-A757-8A8C5E09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223FC-BA98-4537-A1D8-6F4E755F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5616-AC8B-4F72-9802-52D96239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FEFE-C3B3-4938-AB9E-05E84C44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5A6B5-36F9-4A86-9233-E8022C9A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BA3E-4692-4836-8B5E-1893F2FD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CC8D-8E6B-4D29-B3E6-A8BA1D9F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60AE-CA3D-481B-A13A-3A9E703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A3D0-A862-4555-8E10-A2C0745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5283-9483-4433-8AF4-CECB36E8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281D-039E-4AE7-A350-C711859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12C2-1DF1-4A80-BF0B-34423A9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97FD-90AA-4845-A9D4-20F90E58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DA7C-2372-4661-8ECB-FABE5199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DB1EB-CA2E-4B6A-BC84-4F87D9FE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1AD34-76F3-445C-BEFC-01142E0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B2AD-1A00-4718-9E62-753FA736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9835A-7575-431E-A2E1-1076639F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9131-B364-47C1-84FA-81432185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96C24-7482-4FFC-94DC-CD77F79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40D7-DD21-46E9-AAB2-6983409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39978-FAFD-4E52-ABB8-8913C716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877C-5B0D-40E5-844F-91BEE22C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38AFA-1BC2-4525-B054-CC756BD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01AB3-D98D-4076-BEAB-9979356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698C-1AA3-43C1-BF1C-4EF3CCB8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C5F2-C9A9-4D8D-AC6D-EDF4CCB0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80968-47C1-4029-8DB2-96320BC4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C80BE-B4D6-4B7C-B12E-F2B5508B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D0E75-0886-4301-A045-9DDE75A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4D112-73CD-4AC4-8993-1940A06A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769-7EDF-4C46-8E64-766D66CCD8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00D6-7184-4925-B8B0-8565171DC3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dt" idx="3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7F1-DBDD-4616-B7F9-3E383D57C7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39E-F10F-4BEF-BFCA-B91FAEA119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02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E86-9406-464B-93F4-7D999D2ACB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AFA-6B44-4EA7-B926-C468085F62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E5BF-E34E-4274-9A3C-DF4BAABD47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797-26EF-47C7-A8B1-1EEC370BC9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8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8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9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642-3469-4C6E-B6C4-7E4B797A4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4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4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4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FC4F-E119-4AB8-8854-818C19E91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EB2A-3B2E-476C-A5EA-BC058F89A9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95A-2D80-4783-BC7B-B79C6464DD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560-2B84-4B1C-8E86-399EC5A916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0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ngs and Val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Matr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4859280" y="5445000"/>
            <a:ext cx="6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981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4360" y="1125360"/>
            <a:ext cx="19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ructure of the KEY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835280" y="1484280"/>
            <a:ext cx="518472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835280" y="1484280"/>
            <a:ext cx="4032000" cy="2881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867280" y="1484280"/>
            <a:ext cx="1152720" cy="288144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835280" y="4365720"/>
            <a:ext cx="4032000" cy="1871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867280" y="4365720"/>
            <a:ext cx="1152720" cy="1871640"/>
          </a:xfrm>
          <a:prstGeom prst="rect">
            <a:avLst/>
          </a:prstGeom>
          <a:solidFill>
            <a:srgbClr val="602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227640" y="4941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00360" y="5013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Key Ra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6225840" y="2492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000"/>
                </a:solidFill>
                <a:latin typeface="Tahoma"/>
              </a:rPr>
              <a:t>Key Val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5126760" y="286920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000"/>
                </a:solidFill>
                <a:latin typeface="Tahoma"/>
              </a:rPr>
              <a:t>Key Val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258920" y="645336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every  C: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K  is 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quare non-singular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867280" y="1484280"/>
            <a:ext cx="11527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835280" y="3357720"/>
            <a:ext cx="0" cy="100800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835280" y="4365720"/>
            <a:ext cx="0" cy="187164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835280" y="1484280"/>
            <a:ext cx="2016000" cy="1873440"/>
          </a:xfrm>
          <a:prstGeom prst="rect">
            <a:avLst/>
          </a:prstGeom>
          <a:solidFill>
            <a:srgbClr val="cc0000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51280" y="1484280"/>
            <a:ext cx="201600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924360" y="10526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66ffff"/>
                </a:solidFill>
                <a:latin typeface="Tahoma"/>
              </a:rPr>
              <a:t># Key Ratings       </a:t>
            </a:r>
            <a:r>
              <a:rPr b="0" lang="en-US" sz="1800" spc="-1" strike="noStrike">
                <a:solidFill>
                  <a:srgbClr val="99ff99"/>
                </a:solidFill>
                <a:latin typeface="Tahoma"/>
              </a:rPr>
              <a:t># Key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68360" y="3716280"/>
            <a:ext cx="136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ahoma"/>
              </a:rPr>
              <a:t># Key Val'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Tahoma"/>
              </a:rPr>
              <a:t># Key Rat'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68360" y="1052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nk of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436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nk of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" descr=""/>
          <p:cNvPicPr/>
          <p:nvPr/>
        </p:nvPicPr>
        <p:blipFill>
          <a:blip r:embed="rId1"/>
          <a:srcRect l="0" t="0" r="0" b="22201"/>
          <a:stretch/>
        </p:blipFill>
        <p:spPr>
          <a:xfrm>
            <a:off x="755640" y="404640"/>
            <a:ext cx="7488360" cy="537372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2"/>
          <a:srcRect l="0" t="90308" r="0" b="0"/>
          <a:stretch/>
        </p:blipFill>
        <p:spPr>
          <a:xfrm>
            <a:off x="755640" y="5734080"/>
            <a:ext cx="7488360" cy="6699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3780000" y="5516640"/>
            <a:ext cx="863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rcRect l="0" t="2808" r="15356" b="0"/>
          <a:stretch/>
        </p:blipFill>
        <p:spPr>
          <a:xfrm>
            <a:off x="7761240" y="4387680"/>
            <a:ext cx="1382760" cy="24703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2"/>
          <a:srcRect l="3762" t="0" r="0" b="28239"/>
          <a:stretch/>
        </p:blipFill>
        <p:spPr>
          <a:xfrm>
            <a:off x="1403280" y="0"/>
            <a:ext cx="625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" descr=""/>
          <p:cNvPicPr/>
          <p:nvPr/>
        </p:nvPicPr>
        <p:blipFill>
          <a:blip r:embed="rId1"/>
          <a:srcRect l="0" t="0" r="58533" b="0"/>
          <a:stretch/>
        </p:blipFill>
        <p:spPr>
          <a:xfrm>
            <a:off x="324000" y="4508640"/>
            <a:ext cx="826920" cy="234936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rcRect l="3762" t="33071" r="0" b="5256"/>
          <a:stretch/>
        </p:blipFill>
        <p:spPr>
          <a:xfrm>
            <a:off x="971640" y="0"/>
            <a:ext cx="730872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" descr=""/>
          <p:cNvPicPr/>
          <p:nvPr/>
        </p:nvPicPr>
        <p:blipFill>
          <a:blip r:embed="rId1"/>
          <a:srcRect l="13608" t="60661" r="59703" b="4536"/>
          <a:stretch/>
        </p:blipFill>
        <p:spPr>
          <a:xfrm>
            <a:off x="2987640" y="620640"/>
            <a:ext cx="2521080" cy="237672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6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209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451640" y="5805360"/>
            <a:ext cx="115272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524720" y="5950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24000" y="0"/>
            <a:ext cx="2303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l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0000" y="141300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5640" y="14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638172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 watched during simu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0" y="458136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= S.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" descr=""/>
          <p:cNvPicPr/>
          <p:nvPr/>
        </p:nvPicPr>
        <p:blipFill>
          <a:blip r:embed="rId1"/>
          <a:srcRect l="13608" t="60661" r="59703" b="4536"/>
          <a:stretch/>
        </p:blipFill>
        <p:spPr>
          <a:xfrm>
            <a:off x="2987640" y="620640"/>
            <a:ext cx="2521080" cy="23767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7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28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29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230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51640" y="5805360"/>
            <a:ext cx="115272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24720" y="5950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141300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95640" y="14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638172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ed dur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2"/>
          <a:srcRect l="0" t="0" r="0" b="36666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2627280" y="458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20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443640" y="4581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" descr=""/>
          <p:cNvPicPr/>
          <p:nvPr/>
        </p:nvPicPr>
        <p:blipFill>
          <a:blip r:embed="rId1"/>
          <a:srcRect l="13608" t="60661" r="59703" b="4536"/>
          <a:stretch/>
        </p:blipFill>
        <p:spPr>
          <a:xfrm>
            <a:off x="2987640" y="620640"/>
            <a:ext cx="2521080" cy="237672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50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51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52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253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451640" y="5805360"/>
            <a:ext cx="115272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524720" y="5950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780000" y="141300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195640" y="14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638172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ed dur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2"/>
          <a:srcRect l="0" t="0" r="0" b="36666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3"/>
          <a:stretch/>
        </p:blipFill>
        <p:spPr>
          <a:xfrm>
            <a:off x="4140360" y="692280"/>
            <a:ext cx="215640" cy="2156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3059280" y="4581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940360" y="4581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80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1"/>
          <a:srcRect l="13608" t="60661" r="59703" b="4536"/>
          <a:stretch/>
        </p:blipFill>
        <p:spPr>
          <a:xfrm>
            <a:off x="2987640" y="620640"/>
            <a:ext cx="2521080" cy="237672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3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276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451640" y="5805360"/>
            <a:ext cx="115272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7524720" y="5950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780000" y="141300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95640" y="14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638172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ed dur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2"/>
          <a:srcRect l="0" t="0" r="0" b="36666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289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90" name=""/>
          <p:cNvSpPr/>
          <p:nvPr/>
        </p:nvSpPr>
        <p:spPr>
          <a:xfrm>
            <a:off x="2771640" y="465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</a:rPr>
              <a:t>300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44364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" descr=""/>
          <p:cNvPicPr/>
          <p:nvPr/>
        </p:nvPicPr>
        <p:blipFill>
          <a:blip r:embed="rId1"/>
          <a:srcRect l="13608" t="60661" r="59703" b="4536"/>
          <a:stretch/>
        </p:blipFill>
        <p:spPr>
          <a:xfrm>
            <a:off x="2987640" y="620640"/>
            <a:ext cx="2521080" cy="2376720"/>
          </a:xfrm>
          <a:prstGeom prst="rect">
            <a:avLst/>
          </a:prstGeom>
          <a:ln w="0">
            <a:noFill/>
          </a:ln>
        </p:spPr>
      </p:pic>
      <p:sp>
        <p:nvSpPr>
          <p:cNvPr id="1293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6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97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298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299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451640" y="5805360"/>
            <a:ext cx="1152720" cy="720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7524720" y="5950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780000" y="141300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195640" y="14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6381720"/>
            <a:ext cx="66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ed during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2"/>
          <a:srcRect l="0" t="0" r="0" b="36666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3"/>
          <a:stretch/>
        </p:blipFill>
        <p:spPr>
          <a:xfrm>
            <a:off x="4140360" y="2637000"/>
            <a:ext cx="215640" cy="215640"/>
          </a:xfrm>
          <a:prstGeom prst="rect">
            <a:avLst/>
          </a:prstGeom>
          <a:ln w="0">
            <a:noFill/>
          </a:ln>
        </p:spPr>
      </p:pic>
      <p:sp>
        <p:nvSpPr>
          <p:cNvPr id="1313" name=""/>
          <p:cNvSpPr/>
          <p:nvPr/>
        </p:nvSpPr>
        <p:spPr>
          <a:xfrm>
            <a:off x="2268360" y="4581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100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516720" y="458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3416"/>
                </a:solidFill>
                <a:latin typeface="Arial"/>
              </a:rPr>
              <a:t>0.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05092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364000" y="4508640"/>
            <a:ext cx="1944720" cy="792000"/>
          </a:xfrm>
          <a:prstGeom prst="rect">
            <a:avLst/>
          </a:prstGeom>
          <a:solidFill>
            <a:srgbClr val="ff9999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2268360" y="1844640"/>
            <a:ext cx="1581120" cy="51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8" name=""/>
          <p:cNvCxnSpPr/>
          <p:nvPr/>
        </p:nvCxnSpPr>
        <p:spPr>
          <a:xfrm flipH="1" rot="16200000">
            <a:off x="3366000" y="1465920"/>
            <a:ext cx="3850560" cy="2159640"/>
          </a:xfrm>
          <a:prstGeom prst="curvedConnector5">
            <a:avLst>
              <a:gd name="adj1" fmla="val -9939"/>
              <a:gd name="adj2" fmla="val 50000"/>
              <a:gd name="adj3" fmla="val -9939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 rot="5400000">
            <a:off x="2862360" y="3048840"/>
            <a:ext cx="1473840" cy="1224720"/>
          </a:xfrm>
          <a:prstGeom prst="curvedConnector5">
            <a:avLst>
              <a:gd name="adj1" fmla="val 43513"/>
              <a:gd name="adj2" fmla="val 49985"/>
              <a:gd name="adj3" fmla="val 43513"/>
            </a:avLst>
          </a:prstGeom>
          <a:ln w="76320">
            <a:solidFill>
              <a:srgbClr val="99ff99"/>
            </a:solidFill>
            <a:miter/>
          </a:ln>
        </p:spPr>
      </p:cxnSp>
      <p:cxnSp>
        <p:nvCxnSpPr>
          <p:cNvPr id="1320" name=""/>
          <p:cNvCxnSpPr/>
          <p:nvPr/>
        </p:nvCxnSpPr>
        <p:spPr>
          <a:xfrm flipH="1">
            <a:off x="3779640" y="1915920"/>
            <a:ext cx="1729440" cy="2556360"/>
          </a:xfrm>
          <a:prstGeom prst="curvedConnector5">
            <a:avLst>
              <a:gd name="adj1" fmla="val -13220"/>
              <a:gd name="adj2" fmla="val 36605"/>
              <a:gd name="adj3" fmla="val -13220"/>
            </a:avLst>
          </a:prstGeom>
          <a:ln w="76320">
            <a:solidFill>
              <a:srgbClr val="99ff99"/>
            </a:solidFill>
            <a:miter/>
          </a:ln>
        </p:spPr>
      </p:cxnSp>
      <p:sp>
        <p:nvSpPr>
          <p:cNvPr id="1321" name=""/>
          <p:cNvSpPr/>
          <p:nvPr/>
        </p:nvSpPr>
        <p:spPr>
          <a:xfrm rot="16644000">
            <a:off x="1812600" y="2757600"/>
            <a:ext cx="7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rot="18986400">
            <a:off x="2696400" y="3079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21000600">
            <a:off x="4404240" y="33555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rot="4035600">
            <a:off x="5850360" y="1245240"/>
            <a:ext cx="8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050920" y="5589720"/>
            <a:ext cx="201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530064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  heat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580000" y="5300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  cooling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329" name="" descr=""/>
          <p:cNvPicPr/>
          <p:nvPr/>
        </p:nvPicPr>
        <p:blipFill>
          <a:blip r:embed="rId2"/>
          <a:srcRect l="0" t="0" r="0" b="36666"/>
          <a:stretch/>
        </p:blipFill>
        <p:spPr>
          <a:xfrm>
            <a:off x="6659640" y="0"/>
            <a:ext cx="2484360" cy="4292640"/>
          </a:xfrm>
          <a:prstGeom prst="rect">
            <a:avLst/>
          </a:prstGeom>
          <a:ln w="0">
            <a:noFill/>
          </a:ln>
        </p:spPr>
      </p:pic>
      <p:sp>
        <p:nvSpPr>
          <p:cNvPr id="1330" name=""/>
          <p:cNvSpPr/>
          <p:nvPr/>
        </p:nvSpPr>
        <p:spPr>
          <a:xfrm>
            <a:off x="2700360" y="4653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</a:rPr>
              <a:t>200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43640" y="45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</a:rPr>
              <a:t>0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24000" y="465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 = S.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059280" y="162864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995640" y="249228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95640" y="62064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076720" y="155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50920" y="549360"/>
            <a:ext cx="302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Valuations form a net with the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3132000" y="1701720"/>
            <a:ext cx="28764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Ratings and Valuation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( R&amp;V 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1268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ATING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assigns to each Transition of a Net    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nstant Rate (e.g. an Integer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 :  T       Z              Z =   … -2,-1,0,1,2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80000" y="2421000"/>
            <a:ext cx="3024360" cy="360360"/>
          </a:xfrm>
          <a:prstGeom prst="bracePair">
            <a:avLst>
              <a:gd name="adj" fmla="val 125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3789360"/>
            <a:ext cx="914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VALUATIO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assigns to each State of a Net      </a:t>
            </a: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.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nstant Value (Quantity or Qualit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 :  S        Z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an be replaced by any Linear Space ( H, +, *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56000" y="2637000"/>
            <a:ext cx="57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56000" y="5157720"/>
            <a:ext cx="57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403280" y="2349360"/>
            <a:ext cx="2305080" cy="57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403280" y="4869000"/>
            <a:ext cx="2305080" cy="576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900000" y="1268280"/>
            <a:ext cx="7920000" cy="57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Key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of a Net are easily computed         by applying "Nullspace" to C and to 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independ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of  Slack and Tr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also known as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invaria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A Net without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eys should be checked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n be used to express or to check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TWO  CONSERVATION  LAW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 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619280" y="260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A        C.A = 0        B.C = 0         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556000" y="189000"/>
            <a:ext cx="3960720" cy="718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72000" y="26028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481040" cy="127008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rcRect l="0" t="0" r="0" b="3423"/>
          <a:stretch/>
        </p:blipFill>
        <p:spPr>
          <a:xfrm>
            <a:off x="1979640" y="0"/>
            <a:ext cx="5329080" cy="685800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>
            <a:off x="7524720" y="2205000"/>
            <a:ext cx="1368360" cy="2376360"/>
          </a:xfrm>
          <a:prstGeom prst="ellipse">
            <a:avLst/>
          </a:prstGeom>
          <a:noFill/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24000" y="4338720"/>
            <a:ext cx="1439640" cy="2519280"/>
          </a:xfrm>
          <a:prstGeom prst="ellipse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2"/>
          <a:srcRect l="15458" t="0" r="0" b="0"/>
          <a:stretch/>
        </p:blipFill>
        <p:spPr>
          <a:xfrm>
            <a:off x="468360" y="4724280"/>
            <a:ext cx="1371600" cy="24861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3"/>
          <a:srcRect l="0" t="0" r="15925" b="0"/>
          <a:stretch/>
        </p:blipFill>
        <p:spPr>
          <a:xfrm>
            <a:off x="7451640" y="2492280"/>
            <a:ext cx="1324080" cy="241308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7956720" y="4797360"/>
            <a:ext cx="576000" cy="206064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5564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956720" y="3141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76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 System  which was simulated in the 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24000" y="530064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has no keys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are now in a position to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repai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6156360" y="4292640"/>
          <a:ext cx="2736720" cy="2587680"/>
        </p:xfrm>
        <a:graphic>
          <a:graphicData uri="http://schemas.openxmlformats.org/drawingml/2006/table">
            <a:tbl>
              <a:tblPr/>
              <a:tblGrid>
                <a:gridCol w="544320"/>
                <a:gridCol w="551160"/>
                <a:gridCol w="546120"/>
                <a:gridCol w="550800"/>
                <a:gridCol w="54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402" name=""/>
          <p:cNvSpPr/>
          <p:nvPr/>
        </p:nvSpPr>
        <p:spPr>
          <a:xfrm rot="5400000">
            <a:off x="6983280" y="3033720"/>
            <a:ext cx="649440" cy="1008000"/>
          </a:xfrm>
          <a:custGeom>
            <a:avLst/>
            <a:gdLst>
              <a:gd name="textAreaLeft" fmla="*/ 0 w 649440"/>
              <a:gd name="textAreaRight" fmla="*/ 649800 w 6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95280" y="260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Transition in the middle column of the flow matrix     is the only one which gives more than it tak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4000" y="5445000"/>
            <a:ext cx="5327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at is not uncommon, and not necessarily a misconstruction !      But the absence of keys makes suspicious.         We try to mend the system by making that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t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"conservative" . .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867280" y="2565360"/>
            <a:ext cx="433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6156360" y="4292640"/>
          <a:ext cx="2736720" cy="2587680"/>
        </p:xfrm>
        <a:graphic>
          <a:graphicData uri="http://schemas.openxmlformats.org/drawingml/2006/table">
            <a:tbl>
              <a:tblPr/>
              <a:tblGrid>
                <a:gridCol w="544320"/>
                <a:gridCol w="551160"/>
                <a:gridCol w="546120"/>
                <a:gridCol w="550800"/>
                <a:gridCol w="54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431" name=""/>
          <p:cNvSpPr/>
          <p:nvPr/>
        </p:nvSpPr>
        <p:spPr>
          <a:xfrm rot="5400000">
            <a:off x="6983280" y="3033720"/>
            <a:ext cx="649440" cy="1008000"/>
          </a:xfrm>
          <a:custGeom>
            <a:avLst/>
            <a:gdLst>
              <a:gd name="textAreaLeft" fmla="*/ 0 w 649440"/>
              <a:gd name="textAreaRight" fmla="*/ 649800 w 6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95280" y="26028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50920" y="5373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e make the transition "take 2, give 1+1"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8" name=""/>
          <p:cNvGraphicFramePr/>
          <p:nvPr/>
        </p:nvGraphicFramePr>
        <p:xfrm>
          <a:off x="6156360" y="4292640"/>
          <a:ext cx="2736720" cy="2587680"/>
        </p:xfrm>
        <a:graphic>
          <a:graphicData uri="http://schemas.openxmlformats.org/drawingml/2006/table">
            <a:tbl>
              <a:tblPr/>
              <a:tblGrid>
                <a:gridCol w="544320"/>
                <a:gridCol w="551160"/>
                <a:gridCol w="546120"/>
                <a:gridCol w="550800"/>
                <a:gridCol w="54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459" name=""/>
          <p:cNvSpPr/>
          <p:nvPr/>
        </p:nvSpPr>
        <p:spPr>
          <a:xfrm flipH="1" rot="21449400">
            <a:off x="6724440" y="2276640"/>
            <a:ext cx="795240" cy="1761840"/>
          </a:xfrm>
          <a:custGeom>
            <a:avLst/>
            <a:gdLst>
              <a:gd name="textAreaLeft" fmla="*/ -360 w 795240"/>
              <a:gd name="textAreaRight" fmla="*/ 795240 w 795240"/>
              <a:gd name="textAreaTop" fmla="*/ 0 h 1761840"/>
              <a:gd name="textAreaBottom" fmla="*/ 1762200 h 176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29" stAng="10800000" swAng="5400000"/>
                <a:lnTo>
                  <a:pt x="15690" y="3931"/>
                </a:lnTo>
                <a:lnTo>
                  <a:pt x="15690" y="0"/>
                </a:lnTo>
                <a:lnTo>
                  <a:pt x="21600" y="6079"/>
                </a:lnTo>
                <a:lnTo>
                  <a:pt x="15690" y="12158"/>
                </a:lnTo>
                <a:lnTo>
                  <a:pt x="15690" y="8227"/>
                </a:lnTo>
                <a:lnTo>
                  <a:pt x="12427" y="8227"/>
                </a:lnTo>
                <a:arcTo wR="8131" hR="3933" stAng="16200000" swAng="-5400000"/>
                <a:lnTo>
                  <a:pt x="4296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95280" y="26028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5373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e make the transition "take 2, give 1+1"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59500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and change the Flow accordingly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435640" y="1557360"/>
            <a:ext cx="1152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003640" y="1628640"/>
            <a:ext cx="505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7" name=""/>
          <p:cNvGraphicFramePr/>
          <p:nvPr/>
        </p:nvGraphicFramePr>
        <p:xfrm>
          <a:off x="6156360" y="4292640"/>
          <a:ext cx="2736720" cy="2587680"/>
        </p:xfrm>
        <a:graphic>
          <a:graphicData uri="http://schemas.openxmlformats.org/drawingml/2006/table">
            <a:tbl>
              <a:tblPr/>
              <a:tblGrid>
                <a:gridCol w="544320"/>
                <a:gridCol w="551160"/>
                <a:gridCol w="546120"/>
                <a:gridCol w="550800"/>
                <a:gridCol w="54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48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0" y="549360"/>
            <a:ext cx="9144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course, we now have to increase the capacity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S-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 rot="16200000">
            <a:off x="6588720" y="2131920"/>
            <a:ext cx="576360" cy="720720"/>
          </a:xfrm>
          <a:custGeom>
            <a:avLst/>
            <a:gdLst>
              <a:gd name="textAreaLeft" fmla="*/ 0 w 576360"/>
              <a:gd name="textAreaRight" fmla="*/ 576720 w 576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5661000"/>
            <a:ext cx="5867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. . 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It must be given capacit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make the Transition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meaning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2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493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435640" y="1557360"/>
            <a:ext cx="1152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003640" y="1628640"/>
            <a:ext cx="505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516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6156360" y="4292640"/>
          <a:ext cx="2736720" cy="2587680"/>
        </p:xfrm>
        <a:graphic>
          <a:graphicData uri="http://schemas.openxmlformats.org/drawingml/2006/table">
            <a:tbl>
              <a:tblPr/>
              <a:tblGrid>
                <a:gridCol w="544320"/>
                <a:gridCol w="551160"/>
                <a:gridCol w="546120"/>
                <a:gridCol w="550800"/>
                <a:gridCol w="54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518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0" y="5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 it necessary to simulate the mended System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0" y="5661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No: We just look for new KEY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2771640" y="1413000"/>
          <a:ext cx="3671640" cy="3384000"/>
        </p:xfrm>
        <a:graphic>
          <a:graphicData uri="http://schemas.openxmlformats.org/drawingml/2006/table">
            <a:tbl>
              <a:tblPr/>
              <a:tblGrid>
                <a:gridCol w="730080"/>
                <a:gridCol w="739440"/>
                <a:gridCol w="732960"/>
                <a:gridCol w="738720"/>
                <a:gridCol w="73044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5" name=""/>
          <p:cNvGraphicFramePr/>
          <p:nvPr/>
        </p:nvGraphicFramePr>
        <p:xfrm>
          <a:off x="6948360" y="1413000"/>
          <a:ext cx="719280" cy="338436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6" name=""/>
          <p:cNvGraphicFramePr/>
          <p:nvPr/>
        </p:nvGraphicFramePr>
        <p:xfrm>
          <a:off x="2771640" y="5229360"/>
          <a:ext cx="3672000" cy="576000"/>
        </p:xfrm>
        <a:graphic>
          <a:graphicData uri="http://schemas.openxmlformats.org/drawingml/2006/table">
            <a:tbl>
              <a:tblPr/>
              <a:tblGrid>
                <a:gridCol w="734400"/>
                <a:gridCol w="734400"/>
                <a:gridCol w="734040"/>
                <a:gridCol w="734760"/>
                <a:gridCol w="7344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7" name=""/>
          <p:cNvSpPr/>
          <p:nvPr/>
        </p:nvSpPr>
        <p:spPr>
          <a:xfrm>
            <a:off x="7812000" y="342900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V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627280" y="5805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Rating = NullSpace of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979640" y="530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1763640" y="278136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 =                                                            = B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50920" y="5589720"/>
            <a:ext cx="360360" cy="36036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50920" y="6237360"/>
            <a:ext cx="36036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84360" y="5589720"/>
            <a:ext cx="136656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G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T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435640" y="1484280"/>
            <a:ext cx="1224000" cy="115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003640" y="162864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>
            <a:off x="1476360" y="5516640"/>
            <a:ext cx="712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25a"/>
                </a:solidFill>
                <a:latin typeface="Arial"/>
              </a:rPr>
              <a:t>Just to make su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    let us        simulate  the repaired System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084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Ratings and Valuation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( R&amp;V 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126828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RATING   r :  T       Z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e used to expr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average relative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frequen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ransitions,           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expe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plann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estim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equencies,       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os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ransition Occurrenc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378936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VALUATION   q :  S      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be used to expr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the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economic val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Resources in each State,     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physical attributes (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weigh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tc.) of Resources,       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composi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chemical, mechanical …) of Resou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492360" y="1557360"/>
            <a:ext cx="57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211640" y="4076640"/>
            <a:ext cx="57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2aa68"/>
                </a:solidFill>
                <a:latin typeface="Tahoma"/>
              </a:rPr>
              <a:t>R&amp;V </a:t>
            </a:r>
            <a:r>
              <a:rPr b="0" lang="en-US" sz="2400" spc="-1" strike="noStrike">
                <a:solidFill>
                  <a:srgbClr val="f2aa68"/>
                </a:solidFill>
                <a:latin typeface="Tahoma"/>
              </a:rPr>
              <a:t>are readily observed during or after computer si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500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5135400" y="1700280"/>
            <a:ext cx="4008600" cy="410508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5867280" y="692280"/>
            <a:ext cx="2952720" cy="720720"/>
          </a:xfrm>
          <a:prstGeom prst="wedgeEllipseCallout">
            <a:avLst>
              <a:gd name="adj1" fmla="val 1180"/>
              <a:gd name="adj2" fmla="val 135680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156360" y="836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2000"/>
                </a:solidFill>
                <a:latin typeface="Tahoma"/>
              </a:rPr>
              <a:t>Not for ten mice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95280" y="1268280"/>
            <a:ext cx="2808360" cy="1297080"/>
          </a:xfrm>
          <a:prstGeom prst="wedgeRoundRectCallout">
            <a:avLst>
              <a:gd name="adj1" fmla="val 18231"/>
              <a:gd name="adj2" fmla="val 102263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39640" y="1341360"/>
            <a:ext cx="2952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kly speaking . . .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fer to trust                      his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0" y="2981160"/>
            <a:ext cx="30481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" descr=""/>
          <p:cNvPicPr/>
          <p:nvPr/>
        </p:nvPicPr>
        <p:blipFill>
          <a:blip r:embed="rId1"/>
          <a:stretch/>
        </p:blipFill>
        <p:spPr>
          <a:xfrm>
            <a:off x="0" y="2981160"/>
            <a:ext cx="3048120" cy="3876840"/>
          </a:xfrm>
          <a:prstGeom prst="rect">
            <a:avLst/>
          </a:prstGeom>
          <a:ln w="0">
            <a:noFill/>
          </a:ln>
        </p:spPr>
      </p:pic>
      <p:sp>
        <p:nvSpPr>
          <p:cNvPr id="1565" name=""/>
          <p:cNvSpPr/>
          <p:nvPr/>
        </p:nvSpPr>
        <p:spPr>
          <a:xfrm>
            <a:off x="3635280" y="4005360"/>
            <a:ext cx="3241800" cy="1368360"/>
          </a:xfrm>
          <a:prstGeom prst="wedgeRoundRectCallout">
            <a:avLst>
              <a:gd name="adj1" fmla="val -74092"/>
              <a:gd name="adj2" fmla="val -37240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. . but what rule did you follow when you increased  that capacity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3564000" y="981000"/>
            <a:ext cx="1439640" cy="1368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692360" y="1628640"/>
            <a:ext cx="187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003640" y="1628640"/>
            <a:ext cx="1656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68360" y="260280"/>
            <a:ext cx="842472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ample:  Find the minimal Slack for this Flow 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                               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rot="10800000">
            <a:off x="6946920" y="494100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swer:            a+b-1 = 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132000" y="314172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igher  S-degree, there might be a Number-theoretical problem if you  </a:t>
            </a:r>
            <a:r>
              <a:rPr b="1" lang="en-US" sz="2800" spc="-1" strike="noStrike">
                <a:solidFill>
                  <a:srgbClr val="ebf25a"/>
                </a:solidFill>
                <a:latin typeface="Arial"/>
              </a:rPr>
              <a:t>insi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on  minim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0" y="2981160"/>
            <a:ext cx="3048120" cy="3876840"/>
          </a:xfrm>
          <a:prstGeom prst="rect">
            <a:avLst/>
          </a:prstGeom>
          <a:ln w="0">
            <a:noFill/>
          </a:ln>
        </p:spPr>
      </p:pic>
      <p:sp>
        <p:nvSpPr>
          <p:cNvPr id="1573" name=""/>
          <p:cNvSpPr/>
          <p:nvPr/>
        </p:nvSpPr>
        <p:spPr>
          <a:xfrm>
            <a:off x="755640" y="3500280"/>
            <a:ext cx="863640" cy="433440"/>
          </a:xfrm>
          <a:prstGeom prst="wedgeRoundRectCallout">
            <a:avLst>
              <a:gd name="adj1" fmla="val 68013"/>
              <a:gd name="adj2" fmla="val 38643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s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/>
          <p:nvPr/>
        </p:nvSpPr>
        <p:spPr>
          <a:xfrm>
            <a:off x="0" y="112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 rot="20922000">
            <a:off x="971280" y="2781360"/>
            <a:ext cx="684036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formation Flow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2"/>
          <a:stretch/>
        </p:blipFill>
        <p:spPr>
          <a:xfrm>
            <a:off x="6480000" y="3860640"/>
            <a:ext cx="2664000" cy="2679840"/>
          </a:xfrm>
          <a:prstGeom prst="rect">
            <a:avLst/>
          </a:prstGeom>
          <a:ln w="0">
            <a:noFill/>
          </a:ln>
        </p:spPr>
      </p:pic>
      <p:sp>
        <p:nvSpPr>
          <p:cNvPr id="1578" name=""/>
          <p:cNvSpPr/>
          <p:nvPr/>
        </p:nvSpPr>
        <p:spPr>
          <a:xfrm>
            <a:off x="3851280" y="5950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ahoma"/>
              </a:rPr>
              <a:t>Found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0" y="333360"/>
            <a:ext cx="9144000" cy="66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utation in General can be performed </a:t>
            </a: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Basic Nets of Degree 2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 Petri 1962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handle Computing Primitives conveniently, we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standard Mapping to those Basic Nets, resulting in 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nformation Flow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 is a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AFE SYNCHRONIZATION GRAPH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 - Net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 S-degree 1  ( so that a Graph suffice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d   T-degree 4  ( to permit 4-bit input/output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yond selecting suitable computing primitives, we </a:t>
            </a:r>
            <a:r>
              <a:rPr b="1" lang="en-US" sz="2400" spc="-1" strike="noStrike">
                <a:solidFill>
                  <a:srgbClr val="003b76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ve </a:t>
            </a: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so to handle storage,  energy consumption 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easy to describe the function of a            </a:t>
            </a:r>
            <a:r>
              <a:rPr b="1" lang="en-US" sz="2800" spc="-1" strike="noStrike">
                <a:solidFill>
                  <a:srgbClr val="6666ff"/>
                </a:solidFill>
                <a:latin typeface="Tahoma"/>
              </a:rPr>
              <a:t>.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ventional AND-Gate by a Basic 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835280" y="2060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835280" y="2852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835280" y="400536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1835280" y="479736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580000" y="378936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580000" y="292428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780000" y="220500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780000" y="306864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780000" y="400536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780000" y="486900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556000" y="2421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484360" y="2565360"/>
            <a:ext cx="1295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556000" y="3357720"/>
            <a:ext cx="1224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484360" y="3500280"/>
            <a:ext cx="129564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2484360" y="2637000"/>
            <a:ext cx="11509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56000" y="4292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2484360" y="3429000"/>
            <a:ext cx="122400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56000" y="5157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4284720" y="4292640"/>
            <a:ext cx="129528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356000" y="2492280"/>
            <a:ext cx="122400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4284720" y="3284280"/>
            <a:ext cx="1295280" cy="73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4284720" y="3500280"/>
            <a:ext cx="136692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116000" y="2205000"/>
            <a:ext cx="648036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=0                                 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=1                                 01                                  c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=0                                 10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=1                                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37236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0" y="5805360"/>
            <a:ext cx="9144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Input is "richer" than the Output :  ( a, b )  cannot be recovered  from c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oss of Information                Energy Dissip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924360" y="6237360"/>
            <a:ext cx="1008000" cy="620640"/>
          </a:xfrm>
          <a:prstGeom prst="leftRightArrow">
            <a:avLst>
              <a:gd name="adj1" fmla="val 50000"/>
              <a:gd name="adj2" fmla="val 3233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835280" y="2060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835280" y="2852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835280" y="400536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835280" y="479736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780000" y="220500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780000" y="306864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780000" y="400536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780000" y="4869000"/>
            <a:ext cx="50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556000" y="2421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484360" y="2565360"/>
            <a:ext cx="1295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556000" y="3357720"/>
            <a:ext cx="1224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484360" y="3500280"/>
            <a:ext cx="129564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484360" y="2637000"/>
            <a:ext cx="115092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556000" y="429264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2484360" y="3429000"/>
            <a:ext cx="122400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556000" y="5157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116000" y="2205000"/>
            <a:ext cx="331164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=0                                 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=1                                 01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=0                                 10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=1                                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580000" y="2349360"/>
            <a:ext cx="3024360" cy="2880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651640" y="4508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7740720" y="2349360"/>
            <a:ext cx="7189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724360" y="2349360"/>
            <a:ext cx="71928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812000" y="450864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435640" y="357336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6948360" y="220500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948360" y="515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8459640" y="357336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500720" y="3357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651640" y="57340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KE - S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1332000" y="0"/>
            <a:ext cx="65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part of a gate "senses" the combined states of two input bits. It has the topology of a circ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580000" y="2349360"/>
            <a:ext cx="3024360" cy="28800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651640" y="450864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740720" y="2349360"/>
            <a:ext cx="7189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724360" y="2349360"/>
            <a:ext cx="71928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7812000" y="450864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435640" y="357336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948360" y="220500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6948360" y="515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8459640" y="357336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57340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GIVE – Sli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AKE – Sl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55640" y="2276640"/>
            <a:ext cx="3311640" cy="3024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203640" y="4581360"/>
            <a:ext cx="7189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900000" y="4581360"/>
            <a:ext cx="71928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203640" y="2421000"/>
            <a:ext cx="7189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826920" y="2421000"/>
            <a:ext cx="71928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11280" y="3645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924360" y="3645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195640" y="213372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68360" y="515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619280" y="47628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e demand that Output-Slices are shaped in the same w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580000" y="2349360"/>
            <a:ext cx="3024360" cy="2880000"/>
          </a:xfrm>
          <a:prstGeom prst="ellipse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435640" y="357336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948360" y="220500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948360" y="515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8459640" y="357336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0" y="57340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GIVE – Sli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AKE – Sli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755640" y="2276640"/>
            <a:ext cx="3311640" cy="302400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11280" y="3645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924360" y="364500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195640" y="2133720"/>
            <a:ext cx="288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268360" y="5157720"/>
            <a:ext cx="2890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suppress the STATE symbo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Ratings and Valuation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( R&amp;V 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1052640"/>
            <a:ext cx="91440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RATING   r :  T       Z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in general arbitrary and   </a:t>
            </a: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sen according to the needs of each applic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a Rating with the special prop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C.r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is called a 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KEY RA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3789360"/>
            <a:ext cx="91440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 VALUATION   q :  S      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is likewise "arbitrary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99ff99"/>
                </a:solidFill>
                <a:latin typeface="Tahoma"/>
              </a:rPr>
              <a:t>a Valuation with the speci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q.C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is called a  </a:t>
            </a:r>
            <a:r>
              <a:rPr b="0" lang="en-US" sz="3600" spc="-1" strike="noStrike">
                <a:solidFill>
                  <a:srgbClr val="ebf25a"/>
                </a:solidFill>
                <a:latin typeface="Tahoma"/>
              </a:rPr>
              <a:t>KEY 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492360" y="1341360"/>
            <a:ext cx="57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211640" y="4076640"/>
            <a:ext cx="57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602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KEY R&amp;V 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</a:rPr>
              <a:t>are readily compu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ithout any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</a:rPr>
              <a:t> sim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332000" y="2852640"/>
            <a:ext cx="1800000" cy="72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258920" y="5157720"/>
            <a:ext cx="1873080" cy="7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0" y="260280"/>
            <a:ext cx="914400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ss-free Information Operations must not use gates at all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N WE DO WITHOUT GAT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can not only do without, but can do better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can fulfill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everal systematic principl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f construction in one single step, respecting also the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physica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of those principles alone leads to the same resu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struction of loss-free TRANS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permit – in the long view – a gr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MPL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0" y="260280"/>
            <a:ext cx="9144000" cy="74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Principles of loss-free Information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1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te suppression of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2: Use of "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isy Chann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3: Use of  (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 S, 4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) Slice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4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lack comp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    1 ( bits to object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5: Closed Flow lines only ( Net type "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yst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6: Uniform composition   (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put / Outp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7: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orentz invari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signalling                     </a:t>
            </a:r>
            <a:r>
              <a:rPr b="0" lang="en-US" sz="3200" spc="-1" strike="noStrike">
                <a:solidFill>
                  <a:srgbClr val="003b76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( see "Physical Basics"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500720" y="3573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1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suppression of 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25892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29272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50072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12400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91636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708360" y="1484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4716360" y="378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564000" y="378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411280" y="378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258920" y="378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692360" y="220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724360" y="2205000"/>
            <a:ext cx="2876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788000" y="4869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635280" y="4869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484360" y="4869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332000" y="4869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556000" y="220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348000" y="220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140360" y="220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932360" y="220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372360" y="3789360"/>
            <a:ext cx="1800000" cy="1655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740720" y="501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443640" y="501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740720" y="386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443640" y="386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164360" y="530064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8028000" y="450864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164360" y="364500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227640" y="4508640"/>
            <a:ext cx="2876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54764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1834920" y="184464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241128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2700360" y="1844640"/>
            <a:ext cx="28728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20364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356400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99564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4284720" y="1773360"/>
            <a:ext cx="28728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859280" y="1844640"/>
            <a:ext cx="144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5148000" y="1844640"/>
            <a:ext cx="2156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580000" y="1844640"/>
            <a:ext cx="21600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476360" y="4149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627280" y="414972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780000" y="4149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932360" y="4149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47640" y="4149720"/>
            <a:ext cx="93672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700360" y="4149720"/>
            <a:ext cx="86364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564000" y="4869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851280" y="4076640"/>
            <a:ext cx="936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95280" y="4076640"/>
            <a:ext cx="863640" cy="792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395280" y="3284640"/>
            <a:ext cx="0" cy="79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95280" y="3284640"/>
            <a:ext cx="3816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211640" y="3284640"/>
            <a:ext cx="576360" cy="50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6372360" y="1413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usion is not controllable in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l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24000" y="5589720"/>
            <a:ext cx="51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slice of this structure, it suffices   to keep control over "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pposi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.     ( That will be achieved by P4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435640" y="4508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435640" y="465300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443640" y="57942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 TAKE S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405160" cy="2421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3492360" y="907920"/>
            <a:ext cx="2335320" cy="234972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3"/>
          <a:stretch/>
        </p:blipFill>
        <p:spPr>
          <a:xfrm>
            <a:off x="6084720" y="836640"/>
            <a:ext cx="2476800" cy="249228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4"/>
          <a:stretch/>
        </p:blipFill>
        <p:spPr>
          <a:xfrm>
            <a:off x="5940360" y="3789360"/>
            <a:ext cx="2692440" cy="270972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5"/>
          <a:stretch/>
        </p:blipFill>
        <p:spPr>
          <a:xfrm>
            <a:off x="3203640" y="3860640"/>
            <a:ext cx="2620800" cy="2637000"/>
          </a:xfrm>
          <a:prstGeom prst="rect">
            <a:avLst/>
          </a:prstGeom>
          <a:ln w="0">
            <a:noFill/>
          </a:ln>
        </p:spPr>
      </p:pic>
      <p:pic>
        <p:nvPicPr>
          <p:cNvPr id="1737" name="" descr=""/>
          <p:cNvPicPr/>
          <p:nvPr/>
        </p:nvPicPr>
        <p:blipFill>
          <a:blip r:embed="rId6"/>
          <a:stretch/>
        </p:blipFill>
        <p:spPr>
          <a:xfrm>
            <a:off x="826920" y="3789360"/>
            <a:ext cx="2479680" cy="249408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250920" y="333360"/>
            <a:ext cx="8642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atch a set of building blocks ( sufficient for P3 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Slice     +     TAKE Slice     =     Synchron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OR               Quine Transfer      Majority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9" name="" descr=""/>
          <p:cNvPicPr/>
          <p:nvPr/>
        </p:nvPicPr>
        <p:blipFill>
          <a:blip r:embed="rId7"/>
          <a:stretch/>
        </p:blipFill>
        <p:spPr>
          <a:xfrm>
            <a:off x="7238880" y="0"/>
            <a:ext cx="1905120" cy="119052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1187280" y="184464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763640" y="1341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763640" y="2565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340000" y="198900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/>
          <p:nvPr/>
        </p:nvSpPr>
        <p:spPr>
          <a:xfrm>
            <a:off x="0" y="18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2:  Use of Noisy Channels onl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     OPEN CHANNELS 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763640" y="1628640"/>
            <a:ext cx="7207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435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763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435640" y="1628640"/>
            <a:ext cx="7207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4572000" y="2637000"/>
            <a:ext cx="360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987640" y="2637000"/>
            <a:ext cx="360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780000" y="3429000"/>
            <a:ext cx="360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780000" y="1773360"/>
            <a:ext cx="360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2484360" y="191628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140360" y="191628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2484360" y="3573360"/>
            <a:ext cx="129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140360" y="3573360"/>
            <a:ext cx="1295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484360" y="2060640"/>
            <a:ext cx="2087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932360" y="2852640"/>
            <a:ext cx="576360" cy="50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348000" y="2060280"/>
            <a:ext cx="208764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411280" y="2924280"/>
            <a:ext cx="57636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659640" y="4724280"/>
            <a:ext cx="1657440" cy="15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308720" y="6093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172360" y="530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443640" y="530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7308720" y="4508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956720" y="595008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732720" y="595008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956720" y="479736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732720" y="479736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7020000" y="4724280"/>
            <a:ext cx="288720" cy="14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667640" y="4724280"/>
            <a:ext cx="289080" cy="144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6659640" y="5084640"/>
            <a:ext cx="144360" cy="2160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659640" y="5661000"/>
            <a:ext cx="144360" cy="2890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8172360" y="5084640"/>
            <a:ext cx="144720" cy="2160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8172360" y="5661000"/>
            <a:ext cx="144720" cy="2890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7020000" y="6165720"/>
            <a:ext cx="288720" cy="142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7667640" y="6165360"/>
            <a:ext cx="289080" cy="142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116000" y="1773360"/>
            <a:ext cx="5616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                                              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659640" y="2565360"/>
            <a:ext cx="248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ise infl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All real-life Transmission Channels ar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ois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( may malfunction ) "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659640" y="6453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0" y="4437000"/>
            <a:ext cx="60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24000" y="4005360"/>
            <a:ext cx="6119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hold that the influence of NOISE is physically not different from other influences, i.e. caused by signa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we bring two such channels close enough together, the signals of the one will influence the other ( like nois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5661000"/>
            <a:ext cx="68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One man's noise  is the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man's information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651640" y="404640"/>
            <a:ext cx="288720" cy="14472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547640" y="5589720"/>
            <a:ext cx="3816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4537080" cy="3201840"/>
          </a:xfrm>
          <a:prstGeom prst="rect">
            <a:avLst/>
          </a:prstGeom>
          <a:ln w="0">
            <a:noFill/>
          </a:ln>
        </p:spPr>
      </p:pic>
      <p:pic>
        <p:nvPicPr>
          <p:cNvPr id="1789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537080" cy="320184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3"/>
          <a:stretch/>
        </p:blipFill>
        <p:spPr>
          <a:xfrm>
            <a:off x="4608360" y="0"/>
            <a:ext cx="4535640" cy="3252960"/>
          </a:xfrm>
          <a:prstGeom prst="rect">
            <a:avLst/>
          </a:prstGeom>
          <a:ln w="0">
            <a:noFill/>
          </a:ln>
        </p:spPr>
      </p:pic>
      <p:sp>
        <p:nvSpPr>
          <p:cNvPr id="1791" name=""/>
          <p:cNvSpPr/>
          <p:nvPr/>
        </p:nvSpPr>
        <p:spPr>
          <a:xfrm>
            <a:off x="826920" y="620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omposition of the XOR-Transfer  into Noisy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250920" y="33336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40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Computing Primitives are shown here as composed   </a:t>
            </a:r>
            <a:r>
              <a:rPr b="1" lang="en-US" sz="2400" spc="-1" strike="noStrike">
                <a:solidFill>
                  <a:srgbClr val="6666ff"/>
                </a:solidFill>
                <a:latin typeface="Tahoma"/>
              </a:rPr>
              <a:t>.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 "noisy channels",  each held in a different colo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329080" cy="3021120"/>
          </a:xfrm>
          <a:prstGeom prst="rect">
            <a:avLst/>
          </a:prstGeom>
          <a:ln w="0">
            <a:noFill/>
          </a:ln>
        </p:spPr>
      </p:pic>
      <p:sp>
        <p:nvSpPr>
          <p:cNvPr id="1795" name=""/>
          <p:cNvSpPr/>
          <p:nvPr/>
        </p:nvSpPr>
        <p:spPr>
          <a:xfrm>
            <a:off x="2627280" y="4797360"/>
            <a:ext cx="863640" cy="165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2124000" y="5229360"/>
            <a:ext cx="1800360" cy="792000"/>
          </a:xfrm>
          <a:prstGeom prst="ellipse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916360" y="59500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348000" y="551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484360" y="551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916360" y="4724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916360" y="5157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780000" y="551664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050920" y="551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2916360" y="630864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843280" y="17002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700360" y="1916280"/>
            <a:ext cx="216000" cy="215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435640" y="4797360"/>
            <a:ext cx="865080" cy="1656000"/>
          </a:xfrm>
          <a:prstGeom prst="ellipse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932360" y="5229360"/>
            <a:ext cx="1871640" cy="720720"/>
          </a:xfrm>
          <a:prstGeom prst="ellipse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364000" y="5157720"/>
            <a:ext cx="1008360" cy="863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156360" y="587700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64000" y="587700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156360" y="5157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364000" y="5157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348000" y="587700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556000" y="5877000"/>
            <a:ext cx="21564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348000" y="5157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556000" y="5157720"/>
            <a:ext cx="21564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796000" y="6308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659640" y="5445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859280" y="551664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724360" y="4653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851280" y="4581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2124000" y="2205000"/>
            <a:ext cx="1800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ynchroniz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AKE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7164360" y="2421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"nois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Tahoma"/>
              </a:rPr>
              <a:t>channel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164360" y="5084640"/>
            <a:ext cx="197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blue        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,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"/>
          <p:cNvSpPr/>
          <p:nvPr/>
        </p:nvSpPr>
        <p:spPr>
          <a:xfrm>
            <a:off x="684360" y="33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. .  XOR  Primi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3440" cy="3919320"/>
          </a:xfrm>
          <a:prstGeom prst="rect">
            <a:avLst/>
          </a:prstGeom>
          <a:ln w="0">
            <a:noFill/>
          </a:ln>
        </p:spPr>
      </p:pic>
      <p:sp>
        <p:nvSpPr>
          <p:cNvPr id="1828" name=""/>
          <p:cNvSpPr/>
          <p:nvPr/>
        </p:nvSpPr>
        <p:spPr>
          <a:xfrm>
            <a:off x="611280" y="587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AK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GI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(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   =    </a:t>
            </a:r>
            <a:r>
              <a:rPr b="0" lang="en-US" sz="2400" spc="-1" strike="noStrike">
                <a:solidFill>
                  <a:srgbClr val="66ccff"/>
                </a:solidFill>
                <a:latin typeface="Tahoma"/>
              </a:rPr>
              <a:t>Two noisy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2509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. . The Quine Transfer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Conditional Interchange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70880" cy="403236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0" y="5229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s a Quadruple of  Quine Fun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800" spc="-1" strike="noStrike">
                <a:solidFill>
                  <a:srgbClr val="0066cc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ine's Function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Q(a,b,c) := If b then c else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916360" y="5950080"/>
            <a:ext cx="4248000" cy="5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843280" y="1197000"/>
            <a:ext cx="39528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835280" y="1557360"/>
            <a:ext cx="468360" cy="43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graphics, we write the R&amp;V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&amp;T symb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268360" y="1989000"/>
            <a:ext cx="574920" cy="505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932360" y="2708280"/>
            <a:ext cx="5745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932360" y="1341360"/>
            <a:ext cx="574560" cy="505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340000" y="5013360"/>
            <a:ext cx="5745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932360" y="5734080"/>
            <a:ext cx="5745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932360" y="4437000"/>
            <a:ext cx="57456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64000" y="1989000"/>
            <a:ext cx="647640" cy="576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564000" y="5013360"/>
            <a:ext cx="647640" cy="576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843280" y="2276640"/>
            <a:ext cx="7207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4140360" y="1628640"/>
            <a:ext cx="79200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140360" y="2492280"/>
            <a:ext cx="79200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916360" y="530064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211640" y="4724280"/>
            <a:ext cx="720720" cy="433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140360" y="5445000"/>
            <a:ext cx="792000" cy="50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000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003640" y="907920"/>
            <a:ext cx="50508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411280" y="458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003640" y="4005360"/>
            <a:ext cx="505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156360" y="1700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 arbitrary 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 wishful thinking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300720" y="4797360"/>
            <a:ext cx="2158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 Key 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 describes a       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.  </a:t>
            </a:r>
            <a:r>
              <a:rPr b="1" lang="en-US" sz="1800" spc="-1" strike="noStrike">
                <a:solidFill>
                  <a:srgbClr val="ebf25a"/>
                </a:solidFill>
                <a:latin typeface="Tahoma"/>
              </a:rPr>
              <a:t> possibl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          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rmanent             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behaviou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763640" y="6237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(+1, -1, -1)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.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(+ 6, +1, +5 ) 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50920" y="5661000"/>
            <a:ext cx="208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25a"/>
                </a:solidFill>
                <a:latin typeface="Symbol"/>
                <a:ea typeface="Symbol"/>
              </a:rPr>
              <a:t></a:t>
            </a:r>
            <a:r>
              <a:rPr b="1" lang="en-US" sz="3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C</a:t>
            </a:r>
            <a:r>
              <a:rPr b="1" lang="en-US" sz="2800" spc="-1" strike="noStrike" baseline="-25000">
                <a:solidFill>
                  <a:srgbClr val="ebf25a"/>
                </a:solidFill>
                <a:latin typeface="Tahoma"/>
              </a:rPr>
              <a:t>ik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r</a:t>
            </a:r>
            <a:r>
              <a:rPr b="1" lang="en-US" sz="2800" spc="-1" strike="noStrike" baseline="-25000">
                <a:solidFill>
                  <a:srgbClr val="ebf25a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ebf25a"/>
                </a:solidFill>
                <a:latin typeface="Tahoma"/>
              </a:rPr>
              <a:t>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24000" y="609300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"/>
          <p:cNvSpPr/>
          <p:nvPr/>
        </p:nvSpPr>
        <p:spPr>
          <a:xfrm>
            <a:off x="468360" y="2602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. . The Majority Transfe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6" name="" descr=""/>
          <p:cNvPicPr/>
          <p:nvPr/>
        </p:nvPicPr>
        <p:blipFill>
          <a:blip r:embed="rId1"/>
          <a:stretch/>
        </p:blipFill>
        <p:spPr>
          <a:xfrm>
            <a:off x="285840" y="907920"/>
            <a:ext cx="8570880" cy="4176720"/>
          </a:xfrm>
          <a:prstGeom prst="rect">
            <a:avLst/>
          </a:prstGeom>
          <a:ln w="0">
            <a:noFill/>
          </a:ln>
        </p:spPr>
      </p:pic>
      <p:sp>
        <p:nvSpPr>
          <p:cNvPr id="1837" name=""/>
          <p:cNvSpPr/>
          <p:nvPr/>
        </p:nvSpPr>
        <p:spPr>
          <a:xfrm>
            <a:off x="539640" y="5084640"/>
            <a:ext cx="7920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resents a quadruple of Majority Functions.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has a non-trivial decompsition into NC.s ( on right side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Function is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(a,b,c) := ab + bc +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995640" y="6093000"/>
            <a:ext cx="3889440" cy="5047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"/>
          <p:cNvSpPr/>
          <p:nvPr/>
        </p:nvSpPr>
        <p:spPr>
          <a:xfrm>
            <a:off x="324000" y="189000"/>
            <a:ext cx="7777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3: Use of ( 4 S, 4 T ) Slices only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Transfer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lready been demonstra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 we have Time to look at sheer beau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1116000" y="1492200"/>
            <a:ext cx="5977080" cy="5365800"/>
          </a:xfrm>
          <a:prstGeom prst="rect">
            <a:avLst/>
          </a:prstGeom>
          <a:ln w="0">
            <a:noFill/>
          </a:ln>
        </p:spPr>
      </p:pic>
      <p:sp>
        <p:nvSpPr>
          <p:cNvPr id="1841" name=""/>
          <p:cNvSpPr/>
          <p:nvPr/>
        </p:nvSpPr>
        <p:spPr>
          <a:xfrm>
            <a:off x="6156360" y="58770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 another decomposition of the Majority Transfer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2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1479600" cy="2276640"/>
          </a:xfrm>
          <a:prstGeom prst="rect">
            <a:avLst/>
          </a:prstGeom>
          <a:ln w="0">
            <a:noFill/>
          </a:ln>
        </p:spPr>
      </p:pic>
      <p:sp>
        <p:nvSpPr>
          <p:cNvPr id="1843" name=""/>
          <p:cNvSpPr/>
          <p:nvPr/>
        </p:nvSpPr>
        <p:spPr>
          <a:xfrm>
            <a:off x="971640" y="652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ud c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468360" y="26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4: Slack compression  2    1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 making bits into object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067280" y="620640"/>
            <a:ext cx="28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692360" y="1916280"/>
            <a:ext cx="934920" cy="865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692360" y="4365720"/>
            <a:ext cx="934920" cy="865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692360" y="2349360"/>
            <a:ext cx="934920" cy="24480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835280" y="2133720"/>
            <a:ext cx="64764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835280" y="4437000"/>
            <a:ext cx="64764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908000" y="3357720"/>
            <a:ext cx="432000" cy="4316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2124000" y="3789000"/>
            <a:ext cx="0" cy="64764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124000" y="2708280"/>
            <a:ext cx="0" cy="64944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050920" y="3357720"/>
            <a:ext cx="0" cy="431640"/>
          </a:xfrm>
          <a:prstGeom prst="line">
            <a:avLst/>
          </a:prstGeom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572000" y="3141720"/>
            <a:ext cx="936720" cy="86364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6084720" y="3141720"/>
            <a:ext cx="936720" cy="86364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0" y="3213000"/>
            <a:ext cx="647640" cy="5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971640" y="4005360"/>
            <a:ext cx="21564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971640" y="2852640"/>
            <a:ext cx="21564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539640" y="3068640"/>
            <a:ext cx="432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1187280" y="2707920"/>
            <a:ext cx="289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39640" y="364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187280" y="4221000"/>
            <a:ext cx="289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042920" y="4797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059280" y="2565360"/>
            <a:ext cx="1441440" cy="7192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851280" y="4076280"/>
            <a:ext cx="2016000" cy="6476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0" name="" descr=""/>
          <p:cNvPicPr/>
          <p:nvPr/>
        </p:nvPicPr>
        <p:blipFill>
          <a:blip r:embed="rId1"/>
          <a:srcRect l="-14138" t="302" r="0" b="0"/>
          <a:stretch/>
        </p:blipFill>
        <p:spPr>
          <a:xfrm>
            <a:off x="0" y="328464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1871" name="" descr=""/>
          <p:cNvPicPr/>
          <p:nvPr/>
        </p:nvPicPr>
        <p:blipFill>
          <a:blip r:embed="rId2"/>
          <a:stretch/>
        </p:blipFill>
        <p:spPr>
          <a:xfrm>
            <a:off x="4716360" y="32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72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873" name=""/>
          <p:cNvSpPr/>
          <p:nvPr/>
        </p:nvSpPr>
        <p:spPr>
          <a:xfrm>
            <a:off x="3708360" y="2565360"/>
            <a:ext cx="2016000" cy="503280"/>
          </a:xfrm>
          <a:prstGeom prst="line">
            <a:avLst/>
          </a:prstGeom>
          <a:ln w="7632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2987640" y="3933360"/>
            <a:ext cx="1513080" cy="647640"/>
          </a:xfrm>
          <a:prstGeom prst="line">
            <a:avLst/>
          </a:prstGeom>
          <a:ln w="7632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885080" y="3141720"/>
            <a:ext cx="936720" cy="86364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6" name="" descr=""/>
          <p:cNvPicPr/>
          <p:nvPr/>
        </p:nvPicPr>
        <p:blipFill>
          <a:blip r:embed="rId4"/>
          <a:srcRect l="-14138" t="302" r="0" b="0"/>
          <a:stretch/>
        </p:blipFill>
        <p:spPr>
          <a:xfrm>
            <a:off x="7885080" y="3213000"/>
            <a:ext cx="863640" cy="754200"/>
          </a:xfrm>
          <a:prstGeom prst="rect">
            <a:avLst/>
          </a:prstGeom>
          <a:ln w="0">
            <a:noFill/>
          </a:ln>
        </p:spPr>
      </p:pic>
      <p:sp>
        <p:nvSpPr>
          <p:cNvPr id="1877" name=""/>
          <p:cNvSpPr/>
          <p:nvPr/>
        </p:nvSpPr>
        <p:spPr>
          <a:xfrm>
            <a:off x="7164360" y="342900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5651640" y="3429000"/>
            <a:ext cx="287280" cy="289080"/>
          </a:xfrm>
          <a:prstGeom prst="flowChartOr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187280" y="2205000"/>
            <a:ext cx="72072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0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"1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692360" y="5229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7885080" y="393372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059280" y="328464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611280" y="98100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 permitted iff it is ensured tha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 all cas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at most one of the two basic states holds: the enclosed transition marked   F   </a:t>
            </a:r>
            <a:r>
              <a:rPr b="1" lang="en-US" sz="2000" spc="-1" strike="noStrike">
                <a:solidFill>
                  <a:srgbClr val="6666ff"/>
                </a:solidFill>
                <a:latin typeface="Tahoma"/>
              </a:rPr>
              <a:t>.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ust be "dead" – not enabled in any c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8317080" y="1341360"/>
            <a:ext cx="287280" cy="28728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8388360" y="1341360"/>
            <a:ext cx="0" cy="287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8388360" y="1413000"/>
            <a:ext cx="216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ad transition represents the    FACT: In no case, "0"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"1"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643280" y="5734080"/>
            <a:ext cx="396108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0" y="6237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ch Facts, once installed in the initial case,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pag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rough the Transf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0" y="33336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. . Slack Compress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What happens withou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take Slack Compression as the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r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for purposes of         </a:t>
            </a:r>
            <a:r>
              <a:rPr b="0" lang="en-US" sz="2400" spc="-1" strike="noStrike">
                <a:solidFill>
                  <a:srgbClr val="6666ff"/>
                </a:solidFill>
                <a:latin typeface="Tahoma"/>
              </a:rPr>
              <a:t>.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utation in terms of bit-stream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For other purposes,  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such as analog signal processing and communication, we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retain the Transfers and symbolize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compression 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826920" y="3357720"/>
            <a:ext cx="727416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826920" y="5300280"/>
            <a:ext cx="7201080" cy="730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826920" y="3645000"/>
            <a:ext cx="194472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156360" y="3645000"/>
            <a:ext cx="187164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826920" y="5661000"/>
            <a:ext cx="194472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6227640" y="5589720"/>
            <a:ext cx="172908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332000" y="3068640"/>
            <a:ext cx="718920" cy="865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6659640" y="5013360"/>
            <a:ext cx="718920" cy="865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659640" y="3068640"/>
            <a:ext cx="718920" cy="86508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332000" y="5084640"/>
            <a:ext cx="718920" cy="86544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284720" y="3068640"/>
            <a:ext cx="0" cy="57636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067280" y="5084640"/>
            <a:ext cx="144360" cy="2160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4211640" y="5084640"/>
            <a:ext cx="144360" cy="2160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4" name="" descr=""/>
          <p:cNvPicPr/>
          <p:nvPr/>
        </p:nvPicPr>
        <p:blipFill>
          <a:blip r:embed="rId1"/>
          <a:stretch/>
        </p:blipFill>
        <p:spPr>
          <a:xfrm>
            <a:off x="3132000" y="621036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905" name="" descr=""/>
          <p:cNvPicPr/>
          <p:nvPr/>
        </p:nvPicPr>
        <p:blipFill>
          <a:blip r:embed="rId2"/>
          <a:stretch/>
        </p:blipFill>
        <p:spPr>
          <a:xfrm>
            <a:off x="4643280" y="622152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1906" name="" descr=""/>
          <p:cNvPicPr/>
          <p:nvPr/>
        </p:nvPicPr>
        <p:blipFill>
          <a:blip r:embed="rId3"/>
          <a:stretch/>
        </p:blipFill>
        <p:spPr>
          <a:xfrm>
            <a:off x="3132000" y="551664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1907" name="" descr=""/>
          <p:cNvPicPr/>
          <p:nvPr/>
        </p:nvPicPr>
        <p:blipFill>
          <a:blip r:embed="rId4"/>
          <a:stretch/>
        </p:blipFill>
        <p:spPr>
          <a:xfrm>
            <a:off x="4643280" y="551664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08" name=""/>
          <p:cNvSpPr/>
          <p:nvPr/>
        </p:nvSpPr>
        <p:spPr>
          <a:xfrm>
            <a:off x="3851280" y="587700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51280" y="645336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0" name="" descr=""/>
          <p:cNvPicPr/>
          <p:nvPr/>
        </p:nvPicPr>
        <p:blipFill>
          <a:blip r:embed="rId5"/>
          <a:stretch/>
        </p:blipFill>
        <p:spPr>
          <a:xfrm>
            <a:off x="3564000" y="3716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911" name="" descr=""/>
          <p:cNvPicPr/>
          <p:nvPr/>
        </p:nvPicPr>
        <p:blipFill>
          <a:blip r:embed="rId6"/>
          <a:stretch/>
        </p:blipFill>
        <p:spPr>
          <a:xfrm>
            <a:off x="4427640" y="371628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/>
          <p:nvPr/>
        </p:nvSpPr>
        <p:spPr>
          <a:xfrm>
            <a:off x="4140360" y="386064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140360" y="4076640"/>
            <a:ext cx="287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11280" y="450864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 is th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on Symbo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148360" y="3933720"/>
            <a:ext cx="302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 successive  bits       </a:t>
            </a: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may be inter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580000" y="6093000"/>
            <a:ext cx="3095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it value is                </a:t>
            </a: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-interpr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18728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/>
          <p:nvPr/>
        </p:nvSpPr>
        <p:spPr>
          <a:xfrm>
            <a:off x="0" y="33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5:  Closed Flow lines 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(making Inf-Flow Nets of type "Syst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68360" y="1341360"/>
            <a:ext cx="4319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268360" y="1773360"/>
            <a:ext cx="4248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268360" y="1557360"/>
            <a:ext cx="4319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268360" y="1989000"/>
            <a:ext cx="4248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268360" y="2205000"/>
            <a:ext cx="4248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268360" y="2421000"/>
            <a:ext cx="4248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651640" y="1484280"/>
            <a:ext cx="21564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140360" y="1268280"/>
            <a:ext cx="21564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348000" y="1484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348000" y="213372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987640" y="1700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627280" y="1916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27280" y="1268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780000" y="1484280"/>
            <a:ext cx="215640" cy="792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80000" y="213372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219640" y="1916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859280" y="1700280"/>
            <a:ext cx="216000" cy="3603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500720" y="1700280"/>
            <a:ext cx="215640" cy="792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484360" y="1125360"/>
            <a:ext cx="3672000" cy="1511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588000" y="2205000"/>
            <a:ext cx="50508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093080" y="2205000"/>
            <a:ext cx="0" cy="165564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924360" y="3716280"/>
            <a:ext cx="431640" cy="14436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924360" y="4365720"/>
            <a:ext cx="431640" cy="14436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4427640" y="3789360"/>
            <a:ext cx="266544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1619280" y="3789360"/>
            <a:ext cx="22320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1619280" y="2204640"/>
            <a:ext cx="0" cy="158436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619280" y="2205000"/>
            <a:ext cx="72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2410920" y="4437000"/>
            <a:ext cx="1513080" cy="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4356000" y="4437000"/>
            <a:ext cx="1511280" cy="0"/>
          </a:xfrm>
          <a:prstGeom prst="line">
            <a:avLst/>
          </a:prstGeom>
          <a:ln w="57240">
            <a:solidFill>
              <a:srgbClr val="99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3995640" y="3933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7093080" y="3429000"/>
            <a:ext cx="20509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nect  via         </a:t>
            </a: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,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 channel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 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.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ments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 ,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to form  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.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hange- </a:t>
            </a:r>
            <a:r>
              <a:rPr b="0" lang="en-US" sz="2000" spc="-1" strike="noStrike">
                <a:solidFill>
                  <a:srgbClr val="0066cc"/>
                </a:solidFill>
                <a:latin typeface="Tahoma"/>
              </a:rPr>
              <a:t>    .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fer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7380000" y="6093000"/>
            <a:ext cx="1439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7380000" y="6381720"/>
            <a:ext cx="1439640" cy="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7740720" y="5950080"/>
            <a:ext cx="718920" cy="57456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rot="19373400">
            <a:off x="7818480" y="6186240"/>
            <a:ext cx="504720" cy="14292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rot="2541600">
            <a:off x="7862760" y="6168960"/>
            <a:ext cx="449280" cy="14616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4869000"/>
            <a:ext cx="65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500720" y="3933720"/>
            <a:ext cx="187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t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539640" y="5084640"/>
            <a:ext cx="64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n closing the Flow lines, the SAFETY law for Synchronization Graphs is to be observ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each token ( bit ! ) there must be a cycle which contains that token and no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95280" y="5084640"/>
            <a:ext cx="6481800" cy="177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236000" y="2060640"/>
            <a:ext cx="1908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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 ends </a:t>
            </a:r>
            <a:r>
              <a:rPr b="0" lang="en-US" sz="1800" spc="-1" strike="noStrike">
                <a:solidFill>
                  <a:srgbClr val="0066cc"/>
                </a:solidFill>
                <a:latin typeface="Tahoma"/>
              </a:rPr>
              <a:t>.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t be 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6516720" y="907920"/>
            <a:ext cx="0" cy="4334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1692000" y="907920"/>
            <a:ext cx="482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692360" y="907920"/>
            <a:ext cx="0" cy="4334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692360" y="1341360"/>
            <a:ext cx="64764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>
            <a:off x="0" y="260280"/>
            <a:ext cx="914400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ransfers ( and Input/Output connections )            </a:t>
            </a: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been shown as composed of Noisy Chann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nderstand their operation in terms of Computation, we return to their composition from TAKE/GIVE sli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55640" y="357336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55640" y="4149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708360" y="566100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708360" y="5013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708360" y="4149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708360" y="357336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55640" y="508464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55640" y="566100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268360" y="371628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2268360" y="4365720"/>
            <a:ext cx="289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268360" y="508464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268360" y="5734080"/>
            <a:ext cx="289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187280" y="3789360"/>
            <a:ext cx="1081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116000" y="386064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187280" y="4437000"/>
            <a:ext cx="1081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116000" y="4581360"/>
            <a:ext cx="1152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1116000" y="4005000"/>
            <a:ext cx="115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1116000" y="4508640"/>
            <a:ext cx="1152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1187280" y="5229360"/>
            <a:ext cx="1081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187280" y="5877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2556000" y="3789360"/>
            <a:ext cx="115236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2556000" y="393372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556000" y="4437000"/>
            <a:ext cx="1152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556000" y="4581360"/>
            <a:ext cx="1152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2556000" y="3933720"/>
            <a:ext cx="115236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556000" y="4508640"/>
            <a:ext cx="1152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2484360" y="5877000"/>
            <a:ext cx="122400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556000" y="5229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6443640" y="378936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6443640" y="4076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443640" y="486900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443640" y="5300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877080" y="4869000"/>
            <a:ext cx="0" cy="43164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443640" y="587700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443640" y="645336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877080" y="587700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50920" y="3573360"/>
            <a:ext cx="576000" cy="25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6012000" y="3573360"/>
            <a:ext cx="36036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7524720" y="3573360"/>
            <a:ext cx="3603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187280" y="623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TAK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7885080" y="4869000"/>
            <a:ext cx="12589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nch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804000" y="3645000"/>
            <a:ext cx="28908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0" y="260280"/>
            <a:ext cx="9144000" cy="30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OR  Transfer:   composition from TAKE/GIVE sl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basic net, only two arrows are redi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 IF-graphics, the vertical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                     .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row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alled INFLUENCE Arrow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755640" y="357336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755640" y="4149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708360" y="566100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708360" y="5013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708360" y="4149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708360" y="357336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755640" y="508464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755640" y="566100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268360" y="371628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268360" y="4365720"/>
            <a:ext cx="289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268360" y="5084640"/>
            <a:ext cx="2890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268360" y="5734080"/>
            <a:ext cx="289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187280" y="3789360"/>
            <a:ext cx="1081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804000" y="3645000"/>
            <a:ext cx="289080" cy="57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116000" y="3860640"/>
            <a:ext cx="1152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187280" y="4437000"/>
            <a:ext cx="1081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116000" y="4581360"/>
            <a:ext cx="1152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1116000" y="4005000"/>
            <a:ext cx="115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1116000" y="4508640"/>
            <a:ext cx="1152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1187280" y="5229360"/>
            <a:ext cx="1081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187280" y="5877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556000" y="3789360"/>
            <a:ext cx="115236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2556000" y="3933720"/>
            <a:ext cx="115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2556000" y="4437000"/>
            <a:ext cx="1152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2556000" y="4581360"/>
            <a:ext cx="1152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556000" y="3933720"/>
            <a:ext cx="115236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556000" y="4508640"/>
            <a:ext cx="1152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2556000" y="5300280"/>
            <a:ext cx="1152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556000" y="5229360"/>
            <a:ext cx="115236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6443640" y="378936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443640" y="4076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443640" y="486900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443640" y="5300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443640" y="587700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443640" y="630864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50920" y="3573360"/>
            <a:ext cx="576000" cy="25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012000" y="3573360"/>
            <a:ext cx="360360" cy="32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524720" y="3573360"/>
            <a:ext cx="64764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  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+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+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877080" y="3716280"/>
            <a:ext cx="14292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187280" y="6237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TAK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G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804000" y="3789360"/>
            <a:ext cx="287280" cy="289080"/>
          </a:xfrm>
          <a:prstGeom prst="flowChartOr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6877080" y="486864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6877080" y="5877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OR  Transfer:  "causal cycle"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6804000" y="3645000"/>
            <a:ext cx="289080" cy="576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6443640" y="378936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443640" y="4076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443640" y="486900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443640" y="5300640"/>
            <a:ext cx="1008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443640" y="587700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443640" y="6308640"/>
            <a:ext cx="936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012000" y="3573360"/>
            <a:ext cx="36036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7524720" y="3573360"/>
            <a:ext cx="64764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  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+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+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877080" y="3716280"/>
            <a:ext cx="14292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804000" y="3789360"/>
            <a:ext cx="287280" cy="289080"/>
          </a:xfrm>
          <a:prstGeom prst="flowChartOr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6877080" y="486864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877080" y="5877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7" name="" descr=""/>
          <p:cNvPicPr/>
          <p:nvPr/>
        </p:nvPicPr>
        <p:blipFill>
          <a:blip r:embed="rId1"/>
          <a:stretch/>
        </p:blipFill>
        <p:spPr>
          <a:xfrm>
            <a:off x="0" y="1539720"/>
            <a:ext cx="5651640" cy="5318280"/>
          </a:xfrm>
          <a:prstGeom prst="rect">
            <a:avLst/>
          </a:prstGeom>
          <a:ln w="0">
            <a:noFill/>
          </a:ln>
        </p:spPr>
      </p:pic>
      <p:sp>
        <p:nvSpPr>
          <p:cNvPr id="2068" name=""/>
          <p:cNvSpPr/>
          <p:nvPr/>
        </p:nvSpPr>
        <p:spPr>
          <a:xfrm>
            <a:off x="2484360" y="3933720"/>
            <a:ext cx="719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e Transfer:    conditional exchange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227640" y="47242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6227640" y="5229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6227640" y="5373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227640" y="59500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7020000" y="5157720"/>
            <a:ext cx="28872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94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68360" y="2133720"/>
            <a:ext cx="2448000" cy="23032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556000" y="2133720"/>
            <a:ext cx="2447640" cy="2303280"/>
          </a:xfrm>
          <a:prstGeom prst="ellipse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468360" y="4076640"/>
            <a:ext cx="2448000" cy="2303640"/>
          </a:xfrm>
          <a:prstGeom prst="ellipse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556000" y="4076640"/>
            <a:ext cx="2447640" cy="2303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900000" y="4149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2627280" y="256536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627280" y="378936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268360" y="4149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2627280" y="573408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2627280" y="4508640"/>
            <a:ext cx="216000" cy="215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987640" y="4149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284720" y="4149720"/>
            <a:ext cx="216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755640" y="2276640"/>
            <a:ext cx="28728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971640" y="2349360"/>
            <a:ext cx="79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940360" y="2060640"/>
            <a:ext cx="4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1547640" y="4292640"/>
            <a:ext cx="287640" cy="28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476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8317080" y="2133720"/>
            <a:ext cx="82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a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ba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b'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c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5651640" y="4508640"/>
            <a:ext cx="64908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885080" y="4508640"/>
            <a:ext cx="12589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(a,b,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(c,b,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e Transfer:    conditional exchange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227640" y="47242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227640" y="5229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227640" y="5373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227640" y="59500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7020000" y="5157720"/>
            <a:ext cx="28872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94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052960" cy="5084640"/>
          </a:xfrm>
          <a:prstGeom prst="rect">
            <a:avLst/>
          </a:prstGeom>
          <a:ln w="0">
            <a:noFill/>
          </a:ln>
        </p:spPr>
      </p:pic>
      <p:sp>
        <p:nvSpPr>
          <p:cNvPr id="2123" name=""/>
          <p:cNvSpPr/>
          <p:nvPr/>
        </p:nvSpPr>
        <p:spPr>
          <a:xfrm>
            <a:off x="1908000" y="5661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979640" y="270828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54764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411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651640" y="4508640"/>
            <a:ext cx="72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7812000" y="4508640"/>
            <a:ext cx="1332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a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cb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3924360" y="1197000"/>
            <a:ext cx="115236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924360" y="4653000"/>
            <a:ext cx="115236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619280" y="907920"/>
            <a:ext cx="1657440" cy="1584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96000" y="4365720"/>
            <a:ext cx="1657440" cy="1584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19280" y="4365720"/>
            <a:ext cx="1657440" cy="1584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796000" y="907920"/>
            <a:ext cx="1657440" cy="1584360"/>
          </a:xfrm>
          <a:prstGeom prst="ellipse">
            <a:avLst/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170028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076720" y="1773360"/>
            <a:ext cx="719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276720" y="515772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076720" y="5157720"/>
            <a:ext cx="719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19280" y="404640"/>
            <a:ext cx="61214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                                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phite            press            Dia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32000" y="3860640"/>
            <a:ext cx="648000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                                     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ve                                        dead        .       cats                                        c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067280" y="501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332000" y="2708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 of Value "motivates"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6093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crease of Value demotivates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e Transfer:    conditional exchange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227640" y="47242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6227640" y="5229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227640" y="5373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227640" y="59500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7020000" y="5157720"/>
            <a:ext cx="28872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94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651640" y="4508640"/>
            <a:ext cx="72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7812000" y="4508640"/>
            <a:ext cx="1332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a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cb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0" name=""/>
          <p:cNvGraphicFramePr/>
          <p:nvPr/>
        </p:nvGraphicFramePr>
        <p:xfrm>
          <a:off x="539640" y="2276640"/>
          <a:ext cx="4464000" cy="43210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720720"/>
                <a:gridCol w="216000"/>
                <a:gridCol w="647640"/>
                <a:gridCol w="720720"/>
                <a:gridCol w="7189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151" name=""/>
          <p:cNvSpPr/>
          <p:nvPr/>
        </p:nvSpPr>
        <p:spPr>
          <a:xfrm>
            <a:off x="468360" y="1700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     b,b'      c         x      y,y'    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e Transfer:    conditional exchange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227640" y="47242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227640" y="5229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227640" y="5373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227640" y="59500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7020000" y="5157720"/>
            <a:ext cx="28872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694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651640" y="4508640"/>
            <a:ext cx="72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7812000" y="4508640"/>
            <a:ext cx="1332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a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cb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68360" y="1916280"/>
            <a:ext cx="51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necessary  REDUNDANCY    (  b = b'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be obtained (if lacking) by adding to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1763640" y="5157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763640" y="465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763640" y="3645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763640" y="3141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2484360" y="314172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95280" y="4076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zero can be recovered (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RECYCLE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) 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2484360" y="465300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1403280" y="2924280"/>
            <a:ext cx="21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348000" y="2924280"/>
            <a:ext cx="57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403280" y="4437000"/>
            <a:ext cx="50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348000" y="4437000"/>
            <a:ext cx="36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50920" y="5516640"/>
            <a:ext cx="54007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nstant-bit stream 0000… is in the physical view a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carce resourc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hich should have a n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call it ( a stream of )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N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ne Transfer: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edding of</a:t>
            </a:r>
            <a:r>
              <a:rPr b="0" lang="en-US" sz="28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227640" y="47242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227640" y="5229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227640" y="537372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6227640" y="595008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020000" y="5157720"/>
            <a:ext cx="28872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164360" y="472428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948360" y="2565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'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651640" y="4508640"/>
            <a:ext cx="72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7812000" y="4508640"/>
            <a:ext cx="1332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ab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(cb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68360" y="1916280"/>
            <a:ext cx="51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(a, b, c) =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l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= a + ab + 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(0, b, c) = bc =  b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 (1, b, c) = b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= b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042920" y="5445000"/>
            <a:ext cx="2737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042920" y="4941720"/>
            <a:ext cx="2737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1042920" y="6093000"/>
            <a:ext cx="2665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042920" y="5589720"/>
            <a:ext cx="2737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268360" y="4941720"/>
            <a:ext cx="0" cy="4305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2268360" y="558972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124000" y="5373720"/>
            <a:ext cx="289080" cy="28728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547640" y="4941720"/>
            <a:ext cx="0" cy="115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987640" y="4941720"/>
            <a:ext cx="0" cy="115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11280" y="4581360"/>
            <a:ext cx="3600360" cy="227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69236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24000" y="1844640"/>
            <a:ext cx="4464000" cy="21607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/>
          <p:nvPr/>
        </p:nvSpPr>
        <p:spPr>
          <a:xfrm>
            <a:off x="0" y="260280"/>
            <a:ext cx="9144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ometric i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7667640" y="4221000"/>
            <a:ext cx="147636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=x+y+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250920" y="1873080"/>
            <a:ext cx="4952880" cy="4984920"/>
          </a:xfrm>
          <a:prstGeom prst="rect">
            <a:avLst/>
          </a:prstGeom>
          <a:ln w="0">
            <a:noFill/>
          </a:ln>
        </p:spPr>
      </p:pic>
      <p:sp>
        <p:nvSpPr>
          <p:cNvPr id="2237" name=""/>
          <p:cNvSpPr/>
          <p:nvPr/>
        </p:nvSpPr>
        <p:spPr>
          <a:xfrm>
            <a:off x="2124000" y="5661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692360" y="587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572000" y="5516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+b+c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500720" y="5950080"/>
            <a:ext cx="1511280" cy="35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8028000" y="595008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/>
          <p:nvPr/>
        </p:nvSpPr>
        <p:spPr>
          <a:xfrm>
            <a:off x="0" y="260280"/>
            <a:ext cx="9144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natorial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6" name="" descr=""/>
          <p:cNvPicPr/>
          <p:nvPr/>
        </p:nvPicPr>
        <p:blipFill>
          <a:blip r:embed="rId1"/>
          <a:srcRect l="0" t="4909" r="0" b="0"/>
          <a:stretch/>
        </p:blipFill>
        <p:spPr>
          <a:xfrm>
            <a:off x="0" y="1568520"/>
            <a:ext cx="5508720" cy="5289480"/>
          </a:xfrm>
          <a:prstGeom prst="rect">
            <a:avLst/>
          </a:prstGeom>
          <a:ln w="0">
            <a:noFill/>
          </a:ln>
        </p:spPr>
      </p:pic>
      <p:sp>
        <p:nvSpPr>
          <p:cNvPr id="2267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8101080" y="5950080"/>
            <a:ext cx="142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/>
          <p:nvPr/>
        </p:nvSpPr>
        <p:spPr>
          <a:xfrm>
            <a:off x="0" y="26028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66"/>
                </a:solidFill>
                <a:latin typeface="Tahoma"/>
              </a:rPr>
              <a:t>TAKE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GIVE</a:t>
            </a: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8101080" y="595008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3" name="" descr=""/>
          <p:cNvPicPr/>
          <p:nvPr/>
        </p:nvPicPr>
        <p:blipFill>
          <a:blip r:embed="rId1"/>
          <a:srcRect l="0" t="0" r="50418" b="0"/>
          <a:stretch/>
        </p:blipFill>
        <p:spPr>
          <a:xfrm>
            <a:off x="468360" y="2066760"/>
            <a:ext cx="4749840" cy="43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"/>
          <p:cNvSpPr/>
          <p:nvPr/>
        </p:nvSpPr>
        <p:spPr>
          <a:xfrm>
            <a:off x="0" y="260280"/>
            <a:ext cx="9144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oisy Channels 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8101080" y="5950080"/>
            <a:ext cx="142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7" name="" descr=""/>
          <p:cNvPicPr/>
          <p:nvPr/>
        </p:nvPicPr>
        <p:blipFill>
          <a:blip r:embed="rId1"/>
          <a:srcRect l="49179" t="0" r="0" b="0"/>
          <a:stretch/>
        </p:blipFill>
        <p:spPr>
          <a:xfrm>
            <a:off x="395280" y="1960560"/>
            <a:ext cx="482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"/>
          <p:cNvSpPr/>
          <p:nvPr/>
        </p:nvSpPr>
        <p:spPr>
          <a:xfrm>
            <a:off x="0" y="260280"/>
            <a:ext cx="9144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</a:t>
            </a:r>
            <a:r>
              <a:rPr b="0" lang="en-US" sz="2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oisy Channels 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300720" y="364500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6300720" y="2276640"/>
            <a:ext cx="194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7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5580000" cy="5116680"/>
          </a:xfrm>
          <a:prstGeom prst="rect">
            <a:avLst/>
          </a:prstGeom>
          <a:ln w="0">
            <a:noFill/>
          </a:ln>
        </p:spPr>
      </p:pic>
      <p:sp>
        <p:nvSpPr>
          <p:cNvPr id="2338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8101080" y="595008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1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904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"/>
          <p:cNvSpPr/>
          <p:nvPr/>
        </p:nvSpPr>
        <p:spPr>
          <a:xfrm>
            <a:off x="0" y="260280"/>
            <a:ext cx="91440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 Truth Table 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6300720" y="364500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300720" y="227664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2" name=""/>
          <p:cNvGraphicFramePr/>
          <p:nvPr/>
        </p:nvGraphicFramePr>
        <p:xfrm>
          <a:off x="395280" y="2421000"/>
          <a:ext cx="4897440" cy="4140000"/>
        </p:xfrm>
        <a:graphic>
          <a:graphicData uri="http://schemas.openxmlformats.org/drawingml/2006/table">
            <a:tbl>
              <a:tblPr/>
              <a:tblGrid>
                <a:gridCol w="572400"/>
                <a:gridCol w="572040"/>
                <a:gridCol w="643680"/>
                <a:gridCol w="572040"/>
                <a:gridCol w="216000"/>
                <a:gridCol w="605520"/>
                <a:gridCol w="572400"/>
                <a:gridCol w="572040"/>
                <a:gridCol w="571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</a:tbl>
          </a:graphicData>
        </a:graphic>
      </p:graphicFrame>
      <p:sp>
        <p:nvSpPr>
          <p:cNvPr id="2363" name=""/>
          <p:cNvSpPr/>
          <p:nvPr/>
        </p:nvSpPr>
        <p:spPr>
          <a:xfrm>
            <a:off x="179280" y="19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     b     c       d         x      y     z      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4" name="" descr=""/>
          <p:cNvPicPr/>
          <p:nvPr/>
        </p:nvPicPr>
        <p:blipFill>
          <a:blip r:embed="rId1"/>
          <a:stretch/>
        </p:blipFill>
        <p:spPr>
          <a:xfrm rot="847200">
            <a:off x="6948000" y="260280"/>
            <a:ext cx="1506600" cy="1535040"/>
          </a:xfrm>
          <a:prstGeom prst="rect">
            <a:avLst/>
          </a:prstGeom>
          <a:ln w="0">
            <a:noFill/>
          </a:ln>
        </p:spPr>
      </p:pic>
      <p:sp>
        <p:nvSpPr>
          <p:cNvPr id="2365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8101080" y="595008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/>
          <p:nvPr/>
        </p:nvSpPr>
        <p:spPr>
          <a:xfrm>
            <a:off x="0" y="260280"/>
            <a:ext cx="9144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: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edding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OR ; 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6300720" y="364500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300720" y="227664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508720" y="4292640"/>
            <a:ext cx="8636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,b,c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a,b,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948360" y="2565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8604360" y="486900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8317080" y="5373720"/>
            <a:ext cx="142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8101080" y="5950080"/>
            <a:ext cx="14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24000" y="198900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0, b, c) = bc = 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nd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, b, c) = b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 =  b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50920" y="1989000"/>
            <a:ext cx="489744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24000" y="3716280"/>
            <a:ext cx="525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, b, c) := a+b+c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, y, z) =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, y, u) = 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, z, u) =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, y, z) =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, b, c)  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324000" y="3716280"/>
            <a:ext cx="51116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1692360" y="3068640"/>
            <a:ext cx="1942920" cy="3311640"/>
          </a:xfrm>
          <a:prstGeom prst="ellipse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867280" y="3068640"/>
            <a:ext cx="1943280" cy="3311640"/>
          </a:xfrm>
          <a:prstGeom prst="ellipse">
            <a:avLst/>
          </a:prstGeom>
          <a:noFill/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3995640" y="3068640"/>
          <a:ext cx="1513080" cy="3456000"/>
        </p:xfrm>
        <a:graphic>
          <a:graphicData uri="http://schemas.openxmlformats.org/drawingml/2006/table">
            <a:tbl>
              <a:tblPr/>
              <a:tblGrid>
                <a:gridCol w="504360"/>
                <a:gridCol w="504360"/>
                <a:gridCol w="504360"/>
              </a:tblGrid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1619280" y="3625920"/>
            <a:ext cx="2108160" cy="323208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5796000" y="3625920"/>
            <a:ext cx="2108160" cy="323208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1979640" y="23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EY VALs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KEY R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68360" y="1484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 KEY  R&amp;V  span  the  RIGHT  and  LEFT  Null-Space  of  C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411280" y="458136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V                                 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40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99ccff"/>
                </a:solidFill>
                <a:latin typeface="Tahoma"/>
              </a:rPr>
              <a:t>The LEFT Nullspace of a Matrix is equal to the RIGHT NS of its Trans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"/>
          <p:cNvSpPr/>
          <p:nvPr/>
        </p:nvSpPr>
        <p:spPr>
          <a:xfrm>
            <a:off x="0" y="260280"/>
            <a:ext cx="57243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Transf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one way of using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ue Table  (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parity bit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300720" y="364500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6300720" y="227664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6084720" y="4508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084720" y="501336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6084720" y="551664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084720" y="6093000"/>
            <a:ext cx="1584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6804000" y="2060640"/>
            <a:ext cx="86364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5580000" y="4292640"/>
            <a:ext cx="79236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p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7667640" y="4221000"/>
            <a:ext cx="1476360" cy="24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par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6948360" y="256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6659640" y="4292640"/>
            <a:ext cx="360360" cy="2016000"/>
          </a:xfrm>
          <a:prstGeom prst="rect">
            <a:avLst/>
          </a:prstGeom>
          <a:solidFill>
            <a:srgbClr val="ff33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659640" y="6093000"/>
            <a:ext cx="360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5" name=""/>
          <p:cNvGraphicFramePr/>
          <p:nvPr/>
        </p:nvGraphicFramePr>
        <p:xfrm>
          <a:off x="395280" y="2421000"/>
          <a:ext cx="4897440" cy="41400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6360"/>
                <a:gridCol w="576360"/>
                <a:gridCol w="253800"/>
                <a:gridCol w="609840"/>
                <a:gridCol w="576360"/>
                <a:gridCol w="57600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</a:tbl>
          </a:graphicData>
        </a:graphic>
      </p:graphicFrame>
      <p:sp>
        <p:nvSpPr>
          <p:cNvPr id="2416" name=""/>
          <p:cNvSpPr/>
          <p:nvPr/>
        </p:nvSpPr>
        <p:spPr>
          <a:xfrm>
            <a:off x="179280" y="19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      b     c      </a:t>
            </a:r>
            <a:r>
              <a:rPr b="1" lang="en-US" sz="2000" spc="-1" strike="noStrike">
                <a:solidFill>
                  <a:srgbClr val="ff9999"/>
                </a:solidFill>
                <a:latin typeface="Tahoma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x      y     z      </a:t>
            </a:r>
            <a:r>
              <a:rPr b="1" lang="en-US" sz="2000" spc="-1" strike="noStrike">
                <a:solidFill>
                  <a:srgbClr val="ff9999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8459640" y="5373720"/>
            <a:ext cx="217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8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1873440" cy="1717920"/>
          </a:xfrm>
          <a:prstGeom prst="rect">
            <a:avLst/>
          </a:prstGeom>
          <a:ln w="0">
            <a:noFill/>
          </a:ln>
        </p:spPr>
      </p:pic>
      <p:sp>
        <p:nvSpPr>
          <p:cNvPr id="2419" name=""/>
          <p:cNvSpPr/>
          <p:nvPr/>
        </p:nvSpPr>
        <p:spPr>
          <a:xfrm flipV="1">
            <a:off x="8172360" y="4365360"/>
            <a:ext cx="7164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8244000" y="4365720"/>
            <a:ext cx="7308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8172360" y="494172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8244000" y="4941720"/>
            <a:ext cx="7308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8172360" y="544500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8244000" y="5445000"/>
            <a:ext cx="7128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"/>
          <p:cNvSpPr/>
          <p:nvPr/>
        </p:nvSpPr>
        <p:spPr>
          <a:xfrm>
            <a:off x="0" y="26028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P6:  Uniform Composi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ransfers ar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LF-INVER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cont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ymmetr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300720" y="270828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300720" y="314172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300720" y="364500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300720" y="2276640"/>
            <a:ext cx="2016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7524720" y="3573360"/>
            <a:ext cx="64764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885080" y="4869000"/>
            <a:ext cx="1258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6300720" y="4508640"/>
            <a:ext cx="19432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6300720" y="5013360"/>
            <a:ext cx="1871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300720" y="5157720"/>
            <a:ext cx="1871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6300720" y="5661000"/>
            <a:ext cx="180036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6804000" y="2060640"/>
            <a:ext cx="28908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6948360" y="2565360"/>
            <a:ext cx="50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867280" y="2060640"/>
            <a:ext cx="433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8317080" y="2060640"/>
            <a:ext cx="57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5580000" y="4292640"/>
            <a:ext cx="64764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7667640" y="4221000"/>
            <a:ext cx="14763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324000" y="177336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(a, b, c) :=  a + ab +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, b, c) := ab + bc + 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24000" y="31417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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, b, c) := a+b+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451640" y="2060640"/>
            <a:ext cx="289080" cy="180000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7451640" y="4941720"/>
            <a:ext cx="287280" cy="28764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6804000" y="4941720"/>
            <a:ext cx="287280" cy="28764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8317080" y="4292640"/>
            <a:ext cx="82692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,b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6948360" y="5229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 flipV="1">
            <a:off x="6948360" y="45082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7596360" y="450828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7596360" y="522936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2268360" y="472428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268360" y="414972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468360" y="472428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468360" y="414972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924360" y="414972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924360" y="4724280"/>
            <a:ext cx="12240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82692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118728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298764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262728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421164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643280" y="4149720"/>
            <a:ext cx="0" cy="5745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684360" y="6165720"/>
            <a:ext cx="1871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84360" y="5445000"/>
            <a:ext cx="18716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2195640" y="5444640"/>
            <a:ext cx="0" cy="72252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403280" y="544500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1763640" y="544500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1042920" y="544500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3059280" y="5445000"/>
            <a:ext cx="22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059280" y="6165720"/>
            <a:ext cx="2304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4859280" y="544500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284720" y="544500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3708360" y="5445000"/>
            <a:ext cx="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4572000" y="544500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3995640" y="544500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419640" y="544500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5280" y="6308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 collection of neutral Transfer combinations  ( "Identities"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" descr=""/>
          <p:cNvPicPr/>
          <p:nvPr/>
        </p:nvPicPr>
        <p:blipFill>
          <a:blip r:embed="rId1"/>
          <a:stretch/>
        </p:blipFill>
        <p:spPr>
          <a:xfrm>
            <a:off x="0" y="-79200"/>
            <a:ext cx="91440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324000" y="333360"/>
            <a:ext cx="85690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5 &amp; P6:  Closing &amp; Uniformit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of the SAFETY requirement, IF-Lines have to be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pt as short as possible (each bit requires a closed line).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general, cycles will then carr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UR Transf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mission Lines: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build a safe long line, don'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684360" y="3357720"/>
            <a:ext cx="69832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611280" y="3789360"/>
            <a:ext cx="705636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47640" y="335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>
            <a:off x="1331640" y="566100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6732720" y="335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364000" y="335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4067280" y="335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2771640" y="335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84360" y="4292640"/>
            <a:ext cx="705636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H="1">
            <a:off x="684360" y="4724280"/>
            <a:ext cx="698328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6732720" y="429264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547640" y="429264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5364000" y="429264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067280" y="429264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2771640" y="429264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8" name="" descr=""/>
          <p:cNvPicPr/>
          <p:nvPr/>
        </p:nvPicPr>
        <p:blipFill>
          <a:blip r:embed="rId1"/>
          <a:stretch/>
        </p:blipFill>
        <p:spPr>
          <a:xfrm>
            <a:off x="1042920" y="40766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499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500" name="" descr=""/>
          <p:cNvPicPr/>
          <p:nvPr/>
        </p:nvPicPr>
        <p:blipFill>
          <a:blip r:embed="rId3"/>
          <a:stretch/>
        </p:blipFill>
        <p:spPr>
          <a:xfrm>
            <a:off x="450072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501" name="" descr=""/>
          <p:cNvPicPr/>
          <p:nvPr/>
        </p:nvPicPr>
        <p:blipFill>
          <a:blip r:embed="rId4"/>
          <a:stretch/>
        </p:blipFill>
        <p:spPr>
          <a:xfrm>
            <a:off x="3059280" y="4076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502" name="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503" name="" descr=""/>
          <p:cNvPicPr/>
          <p:nvPr/>
        </p:nvPicPr>
        <p:blipFill>
          <a:blip r:embed="rId6"/>
          <a:stretch/>
        </p:blipFill>
        <p:spPr>
          <a:xfrm>
            <a:off x="1042920" y="314172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504" name="" descr=""/>
          <p:cNvPicPr/>
          <p:nvPr/>
        </p:nvPicPr>
        <p:blipFill>
          <a:blip r:embed="rId7"/>
          <a:stretch/>
        </p:blipFill>
        <p:spPr>
          <a:xfrm>
            <a:off x="1042920" y="35733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505" name="" descr=""/>
          <p:cNvPicPr/>
          <p:nvPr/>
        </p:nvPicPr>
        <p:blipFill>
          <a:blip r:embed="rId8"/>
          <a:stretch/>
        </p:blipFill>
        <p:spPr>
          <a:xfrm>
            <a:off x="7020000" y="4508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506" name=""/>
          <p:cNvSpPr/>
          <p:nvPr/>
        </p:nvSpPr>
        <p:spPr>
          <a:xfrm flipH="1">
            <a:off x="2555640" y="566100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3780000" y="5661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H="1">
            <a:off x="5076360" y="5661000"/>
            <a:ext cx="574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H="1">
            <a:off x="6443640" y="5661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763640" y="5373720"/>
            <a:ext cx="79236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39640" y="5373720"/>
            <a:ext cx="79236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6948360" y="5373720"/>
            <a:ext cx="79236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987640" y="5373720"/>
            <a:ext cx="79236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284720" y="5373720"/>
            <a:ext cx="79200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5651640" y="5373720"/>
            <a:ext cx="792000" cy="576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395280" y="5157720"/>
            <a:ext cx="504720" cy="1079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7380360" y="5084640"/>
            <a:ext cx="504720" cy="1079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7308720" y="5373720"/>
            <a:ext cx="2876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684360" y="5950080"/>
            <a:ext cx="28728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1042920" y="530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050920" y="587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3276720" y="5300640"/>
            <a:ext cx="21564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4572000" y="5877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5940360" y="5300640"/>
            <a:ext cx="21600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780000" y="7172280"/>
            <a:ext cx="21564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7164360" y="5805360"/>
            <a:ext cx="216000" cy="2160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0" y="4292640"/>
            <a:ext cx="6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"/>
          <p:cNvSpPr/>
          <p:nvPr/>
        </p:nvSpPr>
        <p:spPr>
          <a:xfrm>
            <a:off x="395280" y="260280"/>
            <a:ext cx="496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. 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5 &amp; P6 &amp; P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deal closed IF-Line is 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.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sed of 4 Noisy Channel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156360" y="620640"/>
            <a:ext cx="1728720" cy="1584360"/>
          </a:xfrm>
          <a:prstGeom prst="ellipse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rot="2506200">
            <a:off x="6156360" y="1844640"/>
            <a:ext cx="50328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rot="2606400">
            <a:off x="7308720" y="765000"/>
            <a:ext cx="50328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rot="18810600">
            <a:off x="6156720" y="763920"/>
            <a:ext cx="50328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rot="18452400">
            <a:off x="7380720" y="1843560"/>
            <a:ext cx="50328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755640" y="26370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435640" y="3429000"/>
            <a:ext cx="3311640" cy="30243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443640" y="4365720"/>
            <a:ext cx="1297080" cy="1224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5435640" y="4365720"/>
            <a:ext cx="3311640" cy="1224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443640" y="3429000"/>
            <a:ext cx="1297080" cy="30243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7596360" y="47973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796000" y="371628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250920" y="1989000"/>
            <a:ext cx="4968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the Dual of the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ycloid ((2,2),(2,2)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Transfer is an Isotope   of this Cycloid; the other Transfers shown are Isotopes of the Cycloids ((2,2),(1,1)) ,                    ((2,1),(2,1)) ,  and        ((4,0),(0,2))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.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ed  in "Physical Basics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2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52560" cy="1268280"/>
          </a:xfrm>
          <a:prstGeom prst="rect">
            <a:avLst/>
          </a:prstGeom>
          <a:ln w="0">
            <a:noFill/>
          </a:ln>
        </p:spPr>
      </p:pic>
      <p:sp>
        <p:nvSpPr>
          <p:cNvPr id="2543" name=""/>
          <p:cNvSpPr/>
          <p:nvPr/>
        </p:nvSpPr>
        <p:spPr>
          <a:xfrm>
            <a:off x="5796000" y="4437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516720" y="371628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6516720" y="4437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7380360" y="443700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8101080" y="436572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7380360" y="371628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796000" y="587700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8101080" y="580536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8101080" y="371628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6516720" y="587700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5796000" y="5300640"/>
            <a:ext cx="28872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7380360" y="522936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7380360" y="587700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8101080" y="522936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516720" y="5229360"/>
            <a:ext cx="28872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6300720" y="479736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292720" y="486900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6877080" y="328464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6948360" y="4221000"/>
            <a:ext cx="289080" cy="287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8604360" y="4797360"/>
            <a:ext cx="28872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948360" y="630864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6948360" y="5445000"/>
            <a:ext cx="289080" cy="287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5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2377800" cy="3645000"/>
          </a:xfrm>
          <a:prstGeom prst="rect">
            <a:avLst/>
          </a:prstGeom>
          <a:ln w="0">
            <a:noFill/>
          </a:ln>
        </p:spPr>
      </p:pic>
      <p:sp>
        <p:nvSpPr>
          <p:cNvPr id="2566" name=""/>
          <p:cNvSpPr/>
          <p:nvPr/>
        </p:nvSpPr>
        <p:spPr>
          <a:xfrm>
            <a:off x="2340000" y="2637000"/>
            <a:ext cx="2160720" cy="865080"/>
          </a:xfrm>
          <a:prstGeom prst="wedgeRoundRectCallout">
            <a:avLst>
              <a:gd name="adj1" fmla="val -73879"/>
              <a:gd name="adj2" fmla="val 109083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2411280" y="2708280"/>
            <a:ext cx="20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You promised     Extensions . 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8" name="" descr=""/>
          <p:cNvPicPr/>
          <p:nvPr/>
        </p:nvPicPr>
        <p:blipFill>
          <a:blip r:embed="rId2"/>
          <a:stretch/>
        </p:blipFill>
        <p:spPr>
          <a:xfrm>
            <a:off x="4572000" y="3191040"/>
            <a:ext cx="457200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9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570" name=""/>
          <p:cNvSpPr/>
          <p:nvPr/>
        </p:nvSpPr>
        <p:spPr>
          <a:xfrm>
            <a:off x="4140360" y="404640"/>
            <a:ext cx="2016000" cy="863640"/>
          </a:xfrm>
          <a:prstGeom prst="wedgeRoundRectCallout">
            <a:avLst>
              <a:gd name="adj1" fmla="val -13226"/>
              <a:gd name="adj2" fmla="val 163601"/>
              <a:gd name="adj3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877080" y="907920"/>
            <a:ext cx="2266920" cy="433440"/>
          </a:xfrm>
          <a:prstGeom prst="wedgeRoundRectCallout">
            <a:avLst>
              <a:gd name="adj1" fmla="val -16527"/>
              <a:gd name="adj2" fmla="val 21923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211640" y="47628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o late in the evening  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6877080" y="9079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ke it s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5" name=""/>
          <p:cNvSpPr/>
          <p:nvPr/>
        </p:nvSpPr>
        <p:spPr>
          <a:xfrm>
            <a:off x="2771640" y="0"/>
            <a:ext cx="5616720" cy="5300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rot="20602200">
            <a:off x="2195280" y="4965480"/>
            <a:ext cx="1882800" cy="2016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6396000"/>
          </a:gra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3352680" y="1125360"/>
            <a:ext cx="395604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tension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8" name=""/>
          <p:cNvSpPr txBox="1"/>
          <p:nvPr/>
        </p:nvSpPr>
        <p:spPr>
          <a:xfrm>
            <a:off x="3762360" y="2565360"/>
            <a:ext cx="30416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26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yo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9" name=""/>
          <p:cNvSpPr txBox="1"/>
          <p:nvPr/>
        </p:nvSpPr>
        <p:spPr>
          <a:xfrm>
            <a:off x="3276720" y="33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Rules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580" name="" descr=""/>
          <p:cNvPicPr/>
          <p:nvPr/>
        </p:nvPicPr>
        <p:blipFill>
          <a:blip r:embed="rId2"/>
          <a:srcRect l="12017" t="23746" r="12017" b="15012"/>
          <a:stretch/>
        </p:blipFill>
        <p:spPr>
          <a:xfrm rot="20299200">
            <a:off x="6588000" y="5423040"/>
            <a:ext cx="2159280" cy="1434960"/>
          </a:xfrm>
          <a:prstGeom prst="rect">
            <a:avLst/>
          </a:prstGeom>
          <a:ln w="0">
            <a:noFill/>
          </a:ln>
        </p:spPr>
      </p:pic>
      <p:pic>
        <p:nvPicPr>
          <p:cNvPr id="2581" name="" descr=""/>
          <p:cNvPicPr/>
          <p:nvPr/>
        </p:nvPicPr>
        <p:blipFill>
          <a:blip r:embed="rId3"/>
          <a:srcRect l="4331" t="0" r="0" b="6260"/>
          <a:stretch/>
        </p:blipFill>
        <p:spPr>
          <a:xfrm rot="20570400">
            <a:off x="0" y="4449240"/>
            <a:ext cx="34416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7" name=""/>
          <p:cNvGraphicFramePr/>
          <p:nvPr/>
        </p:nvGraphicFramePr>
        <p:xfrm>
          <a:off x="1523880" y="1197000"/>
          <a:ext cx="5640480" cy="5035680"/>
        </p:xfrm>
        <a:graphic>
          <a:graphicData uri="http://schemas.openxmlformats.org/drawingml/2006/table">
            <a:tbl>
              <a:tblPr/>
              <a:tblGrid>
                <a:gridCol w="755640"/>
                <a:gridCol w="2065320"/>
                <a:gridCol w="1765440"/>
                <a:gridCol w="105408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 A</a:t>
                      </a:r>
                      <a:r>
                        <a:rPr b="0" lang="en-US" sz="2800" spc="-1" strike="noStrike" baseline="30000">
                          <a:solidFill>
                            <a:srgbClr val="602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e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32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800" spc="-1" strike="noStrike" baseline="30000">
                          <a:solidFill>
                            <a:srgbClr val="602000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020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B</a:t>
                      </a:r>
                      <a:r>
                        <a:rPr b="0" lang="en-US" sz="2800" spc="-1" strike="noStrike" baseline="30000">
                          <a:solidFill>
                            <a:srgbClr val="000066"/>
                          </a:solidFill>
                          <a:latin typeface="Tahoma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2aa68"/>
                          </a:solidFill>
                          <a:latin typeface="Tahoma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1bb4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148" name=""/>
          <p:cNvSpPr/>
          <p:nvPr/>
        </p:nvSpPr>
        <p:spPr>
          <a:xfrm>
            <a:off x="4859280" y="5445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981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0920" y="63817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A = 0</a:t>
            </a: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   and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C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164360" y="1125360"/>
            <a:ext cx="1979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is the Flow- Matrix  of a Net,  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 is the Transpose of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Null Space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of the Net System,  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is the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ll Space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</a:t>
            </a: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 System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99"/>
                </a:solidFill>
                <a:latin typeface="Arial"/>
              </a:rPr>
              <a:t>For ill-conceived Nets,  A  or  B do not  exist;   the   Conservation-Laws do not 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2421000"/>
            <a:ext cx="14032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Key R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2aa6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2aa68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66ff33"/>
                </a:solidFill>
                <a:latin typeface="Tahoma"/>
              </a:rPr>
              <a:t>Key V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 Arrangement  of the  KEYS  in a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squar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268360" y="6381720"/>
            <a:ext cx="3888000" cy="476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3" name=""/>
          <p:cNvSpPr/>
          <p:nvPr/>
        </p:nvSpPr>
        <p:spPr>
          <a:xfrm>
            <a:off x="4716360" y="2997360"/>
            <a:ext cx="4176720" cy="1726920"/>
          </a:xfrm>
          <a:prstGeom prst="rect">
            <a:avLst/>
          </a:prstGeom>
          <a:solidFill>
            <a:srgbClr val="000066"/>
          </a:solidFill>
          <a:ln w="76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932360" y="306864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Rules are there      to make </a:t>
            </a: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NET ANALYS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 mathematically clean, simple and reliable 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8" name=""/>
          <p:cNvSpPr/>
          <p:nvPr/>
        </p:nvSpPr>
        <p:spPr>
          <a:xfrm>
            <a:off x="468360" y="486900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ut for many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443640" y="5373720"/>
            <a:ext cx="27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ahoma"/>
              </a:rPr>
              <a:t>SIMULATION </a:t>
            </a:r>
            <a:r>
              <a:rPr b="1" lang="en-US" sz="2800" spc="-1" strike="noStrike">
                <a:solidFill>
                  <a:srgbClr val="2d2015"/>
                </a:solidFill>
                <a:latin typeface="Tahoma"/>
              </a:rPr>
              <a:t>..</a:t>
            </a:r>
            <a:r>
              <a:rPr b="1" lang="en-US" sz="2800" spc="-1" strike="noStrike">
                <a:solidFill>
                  <a:srgbClr val="ffccff"/>
                </a:solidFill>
                <a:latin typeface="Tahoma"/>
              </a:rPr>
              <a:t>is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4284720" y="3573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4" name=""/>
          <p:cNvSpPr/>
          <p:nvPr/>
        </p:nvSpPr>
        <p:spPr>
          <a:xfrm>
            <a:off x="539640" y="486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those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012000" y="5229360"/>
            <a:ext cx="31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e can supply </a:t>
            </a:r>
            <a:r>
              <a:rPr b="1" lang="en-US" sz="2800" spc="-1" strike="noStrike">
                <a:solidFill>
                  <a:srgbClr val="2d2015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</a:t>
            </a:r>
            <a:r>
              <a:rPr b="1" lang="en-US" sz="2800" spc="-1" strike="noStrike">
                <a:solidFill>
                  <a:srgbClr val="5e472c"/>
                </a:solidFill>
                <a:latin typeface="Tahoma"/>
              </a:rPr>
              <a:t>…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521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0" name=""/>
          <p:cNvSpPr/>
          <p:nvPr/>
        </p:nvSpPr>
        <p:spPr>
          <a:xfrm>
            <a:off x="684360" y="486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012000" y="5229360"/>
            <a:ext cx="31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940360" y="4869000"/>
            <a:ext cx="32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ies,  </a:t>
            </a: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es,  </a:t>
            </a: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6227640" y="24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7" name=""/>
          <p:cNvSpPr/>
          <p:nvPr/>
        </p:nvSpPr>
        <p:spPr>
          <a:xfrm>
            <a:off x="468360" y="486900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ay even  break the Rule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012000" y="5229360"/>
            <a:ext cx="31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940360" y="4869000"/>
            <a:ext cx="320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877080" y="1916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5796000" y="4797360"/>
            <a:ext cx="33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ow             </a:t>
            </a:r>
            <a:r>
              <a:rPr b="0" lang="en-US" sz="2800" spc="-1" strike="noStrike">
                <a:solidFill>
                  <a:srgbClr val="523e26"/>
                </a:solidFill>
                <a:latin typeface="Tahoma"/>
              </a:rPr>
              <a:t>…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circuits or </a:t>
            </a:r>
            <a:r>
              <a:rPr b="0" lang="en-US" sz="2800" spc="-1" strike="noStrike">
                <a:solidFill>
                  <a:srgbClr val="523e26"/>
                </a:solidFill>
                <a:latin typeface="Tahoma"/>
              </a:rPr>
              <a:t>…….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ty events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7093080" y="616572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you know </a:t>
            </a:r>
            <a:r>
              <a:rPr b="0" lang="en-US" sz="1800" spc="-1" strike="noStrike">
                <a:solidFill>
                  <a:srgbClr val="523e26"/>
                </a:solidFill>
                <a:latin typeface="Tahoma"/>
              </a:rPr>
              <a:t>…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you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6012000" y="5229360"/>
            <a:ext cx="31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7740720" y="134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50920" y="4437000"/>
            <a:ext cx="34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ithout blushing, we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508720" y="4508640"/>
            <a:ext cx="36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0" name=""/>
          <p:cNvSpPr/>
          <p:nvPr/>
        </p:nvSpPr>
        <p:spPr>
          <a:xfrm>
            <a:off x="324000" y="5445000"/>
            <a:ext cx="36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 each tran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5364000" y="4508640"/>
            <a:ext cx="37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some algorithm,  </a:t>
            </a:r>
            <a:r>
              <a:rPr b="0" lang="en-US" sz="2800" spc="-1" strike="noStrike">
                <a:solidFill>
                  <a:srgbClr val="686b5d"/>
                </a:solidFill>
                <a:latin typeface="Tahoma"/>
              </a:rPr>
              <a:t>…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net data,       </a:t>
            </a:r>
            <a:r>
              <a:rPr b="0" lang="en-US" sz="2800" spc="-1" strike="noStrike">
                <a:solidFill>
                  <a:srgbClr val="686b5d"/>
                </a:solidFill>
                <a:latin typeface="Tahoma"/>
              </a:rPr>
              <a:t>……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on …</a:t>
            </a:r>
            <a:r>
              <a:rPr b="0" lang="en-US" sz="2800" spc="-1" strike="noStrike">
                <a:solidFill>
                  <a:srgbClr val="686b5d"/>
                </a:solidFill>
                <a:latin typeface="Tahoma"/>
              </a:rPr>
              <a:t>…….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rnal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7740720" y="1413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3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4" name="" descr=""/>
          <p:cNvPicPr/>
          <p:nvPr/>
        </p:nvPicPr>
        <p:blipFill>
          <a:blip r:embed="rId1"/>
          <a:stretch/>
        </p:blipFill>
        <p:spPr>
          <a:xfrm>
            <a:off x="611280" y="61920"/>
            <a:ext cx="799308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5" name="" descr=""/>
          <p:cNvPicPr/>
          <p:nvPr/>
        </p:nvPicPr>
        <p:blipFill>
          <a:blip r:embed="rId1"/>
          <a:srcRect l="0" t="0" r="0" b="5243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6" name="" descr=""/>
          <p:cNvPicPr/>
          <p:nvPr/>
        </p:nvPicPr>
        <p:blipFill>
          <a:blip r:embed="rId1"/>
          <a:srcRect l="0" t="42748" r="0" b="1627"/>
          <a:stretch/>
        </p:blipFill>
        <p:spPr>
          <a:xfrm>
            <a:off x="0" y="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4859280" y="5445000"/>
            <a:ext cx="6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981000"/>
            <a:ext cx="14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164360" y="1125360"/>
            <a:ext cx="19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KEY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4000" y="765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sociates the keys visibly with the corresponding net elements S and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35280" y="1484280"/>
            <a:ext cx="5184720" cy="4753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835280" y="1484280"/>
            <a:ext cx="4032000" cy="28814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867280" y="1484280"/>
            <a:ext cx="1152720" cy="288144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835280" y="4365720"/>
            <a:ext cx="4032000" cy="1871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867280" y="4365720"/>
            <a:ext cx="1152720" cy="1871640"/>
          </a:xfrm>
          <a:prstGeom prst="rect">
            <a:avLst/>
          </a:prstGeom>
          <a:solidFill>
            <a:srgbClr val="602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227640" y="4941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64000" y="2492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700360" y="5013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Key Ra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95280" y="321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K :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6225840" y="2492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000"/>
                </a:solidFill>
                <a:latin typeface="Tahoma"/>
              </a:rPr>
              <a:t>Key Val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5400000">
            <a:off x="5126760" y="286920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000"/>
                </a:solidFill>
                <a:latin typeface="Tahoma"/>
              </a:rPr>
              <a:t>Key Val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258920" y="645336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every  C: 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K  is a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quare non-singular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"/>
          <p:cNvSpPr/>
          <p:nvPr/>
        </p:nvSpPr>
        <p:spPr>
          <a:xfrm>
            <a:off x="1403280" y="1844640"/>
            <a:ext cx="6408720" cy="1800360"/>
          </a:xfrm>
          <a:custGeom>
            <a:avLst/>
            <a:gdLst>
              <a:gd name="textAreaLeft" fmla="*/ 1906560 w 6408720"/>
              <a:gd name="textAreaRight" fmla="*/ 4502160 w 6408720"/>
              <a:gd name="textAreaTop" fmla="*/ 4906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451" y="0"/>
                </a:lnTo>
                <a:arcTo wR="675" hR="1472" stAng="16200000" swAng="5400000"/>
                <a:lnTo>
                  <a:pt x="9126" y="5886"/>
                </a:lnTo>
                <a:lnTo>
                  <a:pt x="12474" y="5886"/>
                </a:lnTo>
                <a:lnTo>
                  <a:pt x="12474" y="1472"/>
                </a:lnTo>
                <a:arcTo wR="675" hR="1472" stAng="10800000" swAng="5400000"/>
                <a:lnTo>
                  <a:pt x="21600" y="0"/>
                </a:lnTo>
                <a:lnTo>
                  <a:pt x="18900" y="7857"/>
                </a:lnTo>
                <a:lnTo>
                  <a:pt x="21600" y="15714"/>
                </a:lnTo>
                <a:lnTo>
                  <a:pt x="15174" y="15714"/>
                </a:lnTo>
                <a:lnTo>
                  <a:pt x="15174" y="20129"/>
                </a:lnTo>
                <a:arcTo wR="675" hR="1472" stAng="0" swAng="5400000"/>
                <a:lnTo>
                  <a:pt x="7101" y="21600"/>
                </a:lnTo>
                <a:arcTo wR="675" hR="1472" stAng="5400000" swAng="5400000"/>
                <a:lnTo>
                  <a:pt x="6426" y="15714"/>
                </a:lnTo>
                <a:lnTo>
                  <a:pt x="0" y="15714"/>
                </a:lnTo>
                <a:lnTo>
                  <a:pt x="2700" y="7857"/>
                </a:lnTo>
                <a:close/>
              </a:path>
              <a:path fill="none" w="21600" h="21600">
                <a:moveTo>
                  <a:pt x="9126" y="1472"/>
                </a:moveTo>
                <a:arcTo wR="675" hR="1472" stAng="0" swAng="5400000"/>
                <a:lnTo>
                  <a:pt x="7101" y="2943"/>
                </a:lnTo>
                <a:arcTo wR="675" hR="1472" stAng="16200000" swAng="-5400000"/>
                <a:arcTo wR="675" hR="1472" stAng="10800000" swAng="-5400000"/>
                <a:lnTo>
                  <a:pt x="9126" y="5886"/>
                </a:lnTo>
              </a:path>
              <a:path fill="none" w="21600" h="21600">
                <a:moveTo>
                  <a:pt x="12474" y="1472"/>
                </a:moveTo>
                <a:arcTo wR="675" hR="1472" stAng="10800000" swAng="-5400000"/>
                <a:lnTo>
                  <a:pt x="14499" y="2943"/>
                </a:lnTo>
                <a:arcTo wR="675" hR="1472" stAng="16200000" swAng="5400000"/>
                <a:arcTo wR="675" hR="1472" stAng="0" swAng="5400000"/>
                <a:lnTo>
                  <a:pt x="12474" y="5886"/>
                </a:lnTo>
              </a:path>
              <a:path fill="none" w="21600" h="21600">
                <a:moveTo>
                  <a:pt x="6426" y="4415"/>
                </a:moveTo>
                <a:lnTo>
                  <a:pt x="6426" y="15714"/>
                </a:lnTo>
              </a:path>
              <a:path fill="none" w="21600" h="21600">
                <a:moveTo>
                  <a:pt x="15174" y="4415"/>
                </a:moveTo>
                <a:lnTo>
                  <a:pt x="15174" y="15714"/>
                </a:lnTo>
              </a:path>
            </a:pathLst>
          </a:cu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564000" y="234936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2000"/>
                </a:solidFill>
                <a:latin typeface="Tahoma"/>
              </a:rPr>
              <a:t>END  OF  PART 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9" name="" descr=""/>
          <p:cNvPicPr/>
          <p:nvPr/>
        </p:nvPicPr>
        <p:blipFill>
          <a:blip r:embed="rId1"/>
          <a:stretch/>
        </p:blipFill>
        <p:spPr>
          <a:xfrm>
            <a:off x="3780000" y="4508640"/>
            <a:ext cx="1827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1:34:26Z</dcterms:created>
  <dc:creator>Petri</dc:creator>
  <dc:description/>
  <dc:language>en-US</dc:language>
  <cp:lastModifiedBy>Petri</cp:lastModifiedBy>
  <dcterms:modified xsi:type="dcterms:W3CDTF">2004-09-24T21:58:25Z</dcterms:modified>
  <cp:revision>77</cp:revision>
  <dc:subject/>
  <dc:title>Part  2.2</dc:title>
</cp:coreProperties>
</file>