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whoosh.wav" ContentType="audio/x-wav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arrow.wav" ContentType="audio/x-wav"/>
  <Override PartName="/ppt/media/image23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2F0C-9EC8-4DEA-BCF3-0EA7E06B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853-4AD8-46CA-9341-E9C31B01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07E-A484-4B03-A362-42DC5629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C90-11DE-4C52-9417-5D83CA2C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42E21-F1F6-4EDE-9729-CF850165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1D516-82F9-4391-AB64-AD30D045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39ACB-26C0-443C-AAD1-3AF1EB28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84A33-87FB-4F1F-A43A-955F1AA3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6286B-B481-4421-9092-67B10E5D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1418E-19D8-4886-8B10-0F557595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D5E74-1A2D-4615-8AF0-C6F7809B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544-EE2D-4FE7-A517-DD8CE12D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9408D-F7EF-4A12-B51E-EAED36C7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C312E-1696-490D-B6D0-F8C8FC00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9B55F-C460-48E5-8228-F75F1A6D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B9B3F-D8A2-41F7-ACE9-4793561A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BD6DA-96E6-4261-85A1-A5373558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EEE9D-90F7-4ABD-AAB4-996893C5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26507-5368-43A6-B087-318CD08F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742B5D-99F2-4584-9AD8-A163D385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575B9-11A9-45FB-9E3E-5BE35548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D7C8E-465D-4747-812C-FAE75599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D899-B66D-4DE4-B110-086B97D2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8B191-496B-4520-96AD-BFC1E11C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D4655D-34DC-4470-99CC-2E5424FA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A1F43-DA2B-4452-9E7F-0173EE05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9FFD2-7985-482E-900A-B66AB193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BF217-8939-4AFF-8251-90E9AC9A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06989-685C-4E84-8049-CB4ACF2B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C0255-2859-4B1B-9EB8-D2FDC236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9A5AC-B8A4-48E3-B83A-EBB287EC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C88CE-3746-470B-81F4-E9ECA562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069EA-3A72-4AB0-A92E-E7880D1A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12E-154E-4D30-B1F3-C5B07E64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8DD75-1291-47BF-AFE2-94673DAB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5AD6C-AA40-442C-8F15-31B4DED0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99CFC-3090-4B77-9F4C-57375CAF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C2B52-0C62-4542-9FAD-04564881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9C857-A41E-4CCB-B406-9D85ED7E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BFD07-2E91-4F52-B4EB-4D0E107C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2FC2A-4BDD-4697-A2AF-9224244E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AC8C9-AF57-49E4-9891-56D5EE21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DA487-B3F7-4BB1-A72C-169963D5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4C805-AFED-4568-911D-0EE4B841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022-0C50-408E-9AFC-3C3333EB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171A6-F216-451F-B7B5-D954B75A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92632-A933-48E3-9EAF-490B39D5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7E423-B84F-4879-8F6E-251D2A0D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71B4E-E00B-4536-A0AD-20A2320E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36ED7-C78B-43C0-BA22-F59442F9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596FF-802A-4DF8-8044-B39AB740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5CA11-60E6-4227-8B35-F92225BE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84B0C-C013-4D6B-B9CA-EB965BC7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2A013-5AFE-4D9A-AC4E-AFF6752D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1A607-B6E8-419C-9BF3-132BBF83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6382-1D2A-45BE-86BB-2F3039CE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86C25-5C8A-454B-8D39-A376CD74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3FFE1-6EBC-4D65-90EC-1856E162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DE2D6-8B27-43E4-B001-443FF7CD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80D25-8A6C-4F0C-82D6-1212C799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DC172-1A22-49D9-A578-ACAC2F28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38D82-BB9C-4CD4-B6E5-6B077D7B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1964B-C232-48CA-B119-4F47FE78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BE182-5D6F-4EDF-B85E-B5D70478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131C6-2E77-4A35-8327-44B6B010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7626D-D8B1-4F1D-9F3C-0603F3F8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231-D6ED-4FBE-9CC3-CA788500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D3C8D-7DD0-4ECF-9C5B-63967DC7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5185E-EE9E-4C53-AB26-6D9BE216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A9C2C-3EB7-4E61-9ED1-736F2568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3B41F-0D0C-4591-9ADD-491FDFC7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11802-7004-4BD2-AE8F-E25D54F7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9A57F-539E-4CDB-84B3-00A1B79C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BE9FC-F0FA-4A1F-94AF-C51D21A2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775E7-4988-4988-8DB0-12D62A65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25E09-F766-47C7-AA98-5CD4FCD5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47B05-362F-4B41-B6DB-6DE5FCA1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0DEF-454F-4735-916B-6D3B3467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96E30-9849-4A1B-BF4C-92DA7C47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A23B7-1E32-4D77-AB85-A51EA919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B4093-7AD4-4222-8928-0083CEE5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7D154-4B0F-4A2E-B799-7A58AB99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87066-E273-4887-A9C8-347C531D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4FC28-1557-4F12-8519-796031F1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43876-C9D2-46C3-855F-B6B634B0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8BE70-F8D7-4379-887E-BF706210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187AA-A03A-457C-A71B-950D5BE8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D9E08-5287-4A97-9EDE-11065B35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CD88-BE58-4BB7-805C-87E1C689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A2A46-5B00-4693-AD92-902E5C3A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629B7-C8A8-4A49-ADF1-C0FA0198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E3117-48F1-4C61-82BE-69D87646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EB353-09F9-435A-8FC2-27A410B7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6FACE-B715-408C-98C4-B500AA27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F9E99-1015-4E55-AE3D-FA9E8F1E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153C9-6610-47A4-9015-CEE8BCC3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57C1-C671-4870-A993-EC0CC78B712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F05B-6EFE-414E-A075-3B1658004CC0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6140-243C-4FC2-92DD-AE4C8077937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DA17-273B-4EE9-AF17-6BEC97F153A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48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36A9-482E-4519-B223-F0B656F258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9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62B3-FECA-4163-BEA2-2110CD2875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45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48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B17A-1A8A-469C-A84D-DF68BCF0920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399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00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06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2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18D2-7751-4F3A-9095-EEBEE33FC48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audio" Target="../media/arrow.wav"/><Relationship Id="rId11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4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Tahoma"/>
              </a:rPr>
              <a:t>CONCEPTUAL STEP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 Conceptual  St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higher lev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fety and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Our tool is  </a:t>
            </a: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Rule</a:t>
            </a:r>
            <a:r>
              <a:rPr b="1" i="1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3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Rule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mands only that the Map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f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ntinuo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( don’t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a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rows !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low-respec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 don’t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inve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rows !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rcRect l="11958" t="69985" r="53179" b="2848"/>
          <a:stretch/>
        </p:blipFill>
        <p:spPr>
          <a:xfrm>
            <a:off x="3635280" y="4076640"/>
            <a:ext cx="5040360" cy="27813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7740720" y="4869000"/>
            <a:ext cx="115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4000" y="3357720"/>
            <a:ext cx="6984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a Ne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(S,T,F) 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is to be mapped  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(S’,T’,F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= ( 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   )    ( SxT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 : 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        S’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’, F’  from Rule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692360" y="3789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3059280" y="4797360"/>
            <a:ext cx="576000" cy="2060640"/>
          </a:xfrm>
          <a:prstGeom prst="line">
            <a:avLst/>
          </a:prstGeom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675640" y="5373720"/>
            <a:ext cx="468360" cy="1484280"/>
          </a:xfrm>
          <a:prstGeom prst="line">
            <a:avLst/>
          </a:prstGeom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627280" y="6534000"/>
            <a:ext cx="504720" cy="648000"/>
          </a:xfrm>
          <a:prstGeom prst="irregularSeal1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403280" y="5850000"/>
            <a:ext cx="979560" cy="100800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1403280" y="4724280"/>
            <a:ext cx="64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10800000">
            <a:off x="1692360" y="39664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62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 Net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S, T, F)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 can also be described by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(X, A, F)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042920" y="853920"/>
            <a:ext cx="6983640" cy="60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2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333440" y="0"/>
            <a:ext cx="6477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32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lication  of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1" i="1" lang="en-US" sz="4400" spc="-1" strike="noStrike">
                <a:solidFill>
                  <a:srgbClr val="ffff66"/>
                </a:solidFill>
                <a:latin typeface="Arial"/>
              </a:rPr>
              <a:t>Rule</a:t>
            </a:r>
            <a:r>
              <a:rPr b="1" i="1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ff66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556000" y="4797360"/>
            <a:ext cx="1800000" cy="792360"/>
          </a:xfrm>
          <a:prstGeom prst="cloudCallout">
            <a:avLst>
              <a:gd name="adj1" fmla="val -48939"/>
              <a:gd name="adj2" fmla="val 106912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700360" y="4869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20202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20202"/>
                </a:solidFill>
                <a:latin typeface="Tahoma"/>
              </a:rPr>
              <a:t>at l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rcRect l="0" t="0" r="0" b="15336"/>
          <a:stretch/>
        </p:blipFill>
        <p:spPr>
          <a:xfrm>
            <a:off x="755640" y="5978520"/>
            <a:ext cx="2120760" cy="112248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5219640" y="4005360"/>
            <a:ext cx="280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Rule 3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      A'   id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      F'    id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003640" y="3933720"/>
            <a:ext cx="2881440" cy="208764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659640" y="4437000"/>
            <a:ext cx="433440" cy="27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724360" y="479736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724360" y="5445000"/>
            <a:ext cx="432000" cy="287640"/>
          </a:xfrm>
          <a:prstGeom prst="rightArrow">
            <a:avLst>
              <a:gd name="adj1" fmla="val 50000"/>
              <a:gd name="adj2" fmla="val 3754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148360" y="4653000"/>
            <a:ext cx="2592360" cy="12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148360" y="5229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59640" y="5373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1413000"/>
            <a:ext cx="8064360" cy="22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rst, we def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LACK,  TRACK  and 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바탕"/>
              </a:rPr>
              <a:t>i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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바탕"/>
              </a:rPr>
              <a:t>k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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바탕"/>
              </a:rPr>
              <a:t>i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484360" y="2492280"/>
            <a:ext cx="505080" cy="505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924360" y="2565360"/>
            <a:ext cx="43344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724360" y="2997360"/>
            <a:ext cx="1079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2579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lication  of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1" i="1" lang="en-US" sz="4400" spc="-1" strike="noStrike">
                <a:solidFill>
                  <a:srgbClr val="ffff66"/>
                </a:solidFill>
                <a:latin typeface="Arial"/>
              </a:rPr>
              <a:t>Rule</a:t>
            </a:r>
            <a:r>
              <a:rPr b="1" i="1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ff66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rcRect l="0" t="0" r="0" b="15336"/>
          <a:stretch/>
        </p:blipFill>
        <p:spPr>
          <a:xfrm>
            <a:off x="755640" y="5978520"/>
            <a:ext cx="2120760" cy="11224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219640" y="400536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59640" y="4437000"/>
            <a:ext cx="43344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68360" y="981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68360" y="1125360"/>
            <a:ext cx="835164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ACK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s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gNets, a stimulus is always followed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sponse before a next stimulus can occur;   in genera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lack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allows stimuli to accumulate bef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xt response. Likewise, in Production Nets, we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pecify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orage capac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 place  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a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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 product uni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924360" y="4365720"/>
            <a:ext cx="64764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64360" y="4365720"/>
            <a:ext cx="64764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64000" y="4149720"/>
            <a:ext cx="1008360" cy="93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0" y="4653000"/>
            <a:ext cx="792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372360" y="4653000"/>
            <a:ext cx="792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5867280" y="450864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5580000" y="414972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4"/>
          <a:stretch/>
        </p:blipFill>
        <p:spPr>
          <a:xfrm>
            <a:off x="5435640" y="4508640"/>
            <a:ext cx="503280" cy="5047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4500720" y="508464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m f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76720" y="5805360"/>
            <a:ext cx="1871640" cy="576360"/>
          </a:xfrm>
          <a:prstGeom prst="wedgeEllipseCallout">
            <a:avLst>
              <a:gd name="adj1" fmla="val -86726"/>
              <a:gd name="adj2" fmla="val 46416"/>
            </a:avLst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64000" y="587700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92360" y="5877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3 mice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2579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lication  of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1" i="1" lang="en-US" sz="4400" spc="-1" strike="noStrike">
                <a:solidFill>
                  <a:srgbClr val="ffff66"/>
                </a:solidFill>
                <a:latin typeface="Arial"/>
              </a:rPr>
              <a:t>Rule</a:t>
            </a:r>
            <a:r>
              <a:rPr b="1" i="1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ff66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659640" y="4437000"/>
            <a:ext cx="43344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92360" y="1484280"/>
            <a:ext cx="64764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27640" y="1484280"/>
            <a:ext cx="64800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24360" y="1484280"/>
            <a:ext cx="64764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148360" y="1557360"/>
            <a:ext cx="43164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16360" y="1557360"/>
            <a:ext cx="43164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635280" y="4005360"/>
            <a:ext cx="107964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340000" y="1773360"/>
            <a:ext cx="576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580000" y="1773360"/>
            <a:ext cx="64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348000" y="1773360"/>
            <a:ext cx="64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572000" y="1773360"/>
            <a:ext cx="64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877080" y="1844640"/>
            <a:ext cx="719280" cy="21600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900000" y="1844280"/>
            <a:ext cx="792360" cy="14436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00000" y="1484280"/>
            <a:ext cx="792360" cy="14436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6877080" y="1557000"/>
            <a:ext cx="719280" cy="14292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916360" y="4076640"/>
            <a:ext cx="718920" cy="28908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2916360" y="4652640"/>
            <a:ext cx="718920" cy="14436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716360" y="4221000"/>
            <a:ext cx="792360" cy="14472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716360" y="4653000"/>
            <a:ext cx="792360" cy="28728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340000" y="2349360"/>
            <a:ext cx="129528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03640" y="2349360"/>
            <a:ext cx="720720" cy="1366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4500360" y="2349360"/>
            <a:ext cx="647640" cy="1366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211640" y="234936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4716360" y="2349360"/>
            <a:ext cx="151128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4000" y="2924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P   f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627280" y="5157720"/>
            <a:ext cx="31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ack    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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 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1268280"/>
            <a:ext cx="360360" cy="360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39640" y="1773360"/>
            <a:ext cx="360360" cy="360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524720" y="1844640"/>
            <a:ext cx="360360" cy="360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524720" y="1341360"/>
            <a:ext cx="360360" cy="360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435640" y="4724280"/>
            <a:ext cx="360360" cy="360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435640" y="4005360"/>
            <a:ext cx="360360" cy="360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556000" y="3860640"/>
            <a:ext cx="36036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468360" y="333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68360" y="620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s can be shown as overlay pict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042920" y="1844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93080" y="2565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93080" y="1773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42920" y="2565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08000" y="1989000"/>
            <a:ext cx="863640" cy="792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724360" y="1989000"/>
            <a:ext cx="863640" cy="792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340000" y="1989000"/>
            <a:ext cx="3816360" cy="7923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995640" y="213372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213372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124000" y="213372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03640" y="2205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059280" y="2205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627280" y="2349360"/>
            <a:ext cx="50472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500720" y="2349360"/>
            <a:ext cx="57600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419640" y="2349360"/>
            <a:ext cx="57600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364000" y="2349360"/>
            <a:ext cx="50328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03280" y="1989000"/>
            <a:ext cx="720720" cy="28764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443640" y="2492280"/>
            <a:ext cx="720720" cy="28908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1403280" y="2492280"/>
            <a:ext cx="647640" cy="21600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443640" y="1915920"/>
            <a:ext cx="649440" cy="36036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132000" y="29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LACK =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71640" y="486900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971640" y="407664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20000" y="486900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20000" y="407664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979640" y="4437000"/>
            <a:ext cx="4537080" cy="79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940360" y="4653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067280" y="4653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932360" y="458136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059280" y="458136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476360" y="4365720"/>
            <a:ext cx="647640" cy="28728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476360" y="4868640"/>
            <a:ext cx="647640" cy="14436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6372360" y="4365720"/>
            <a:ext cx="647640" cy="28728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372360" y="4869000"/>
            <a:ext cx="647640" cy="21564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556000" y="4797360"/>
            <a:ext cx="50328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564000" y="4797360"/>
            <a:ext cx="50328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427640" y="4797360"/>
            <a:ext cx="50328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35640" y="4797360"/>
            <a:ext cx="50328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43280" y="5373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ACK  =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95280" y="3573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ikewi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68360" y="333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765000"/>
            <a:ext cx="860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w:               3              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835280" y="1628640"/>
            <a:ext cx="863640" cy="792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835280" y="4797360"/>
            <a:ext cx="863640" cy="792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rot="5400000">
            <a:off x="682920" y="3212280"/>
            <a:ext cx="3168720" cy="865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242100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979640" y="184464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979640" y="299736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556000" y="765000"/>
            <a:ext cx="151128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484360" y="3284640"/>
            <a:ext cx="1511280" cy="36036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572000" y="765000"/>
            <a:ext cx="1512720" cy="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979640" y="486900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227640" y="1844640"/>
            <a:ext cx="50508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835280" y="404640"/>
            <a:ext cx="72072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995640" y="3357720"/>
            <a:ext cx="57636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979640" y="357336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979640" y="422100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484360" y="2781360"/>
            <a:ext cx="1511280" cy="71892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2484360" y="3789000"/>
            <a:ext cx="1511280" cy="57636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572000" y="2852280"/>
            <a:ext cx="1440000" cy="57636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0" y="3716280"/>
            <a:ext cx="1440000" cy="7308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340000" y="6453360"/>
            <a:ext cx="48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012000" y="4797360"/>
            <a:ext cx="863640" cy="792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012000" y="1628640"/>
            <a:ext cx="863640" cy="792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5400000">
            <a:off x="4859640" y="3140640"/>
            <a:ext cx="3168720" cy="865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156360" y="486900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56360" y="357336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56360" y="249228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156360" y="184464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227640" y="4221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227640" y="3068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995640" y="476280"/>
            <a:ext cx="57636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084720" y="404640"/>
            <a:ext cx="72072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619280" y="98100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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539640" y="333360"/>
            <a:ext cx="8604360" cy="24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 general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lack:             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:   S    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0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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ck: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:   T    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low: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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:   F    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851280" y="1125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851280" y="1916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851280" y="2637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093080" y="981000"/>
            <a:ext cx="1800000" cy="360360"/>
          </a:xfrm>
          <a:prstGeom prst="bracePair">
            <a:avLst>
              <a:gd name="adj" fmla="val 8333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411280" y="5300640"/>
            <a:ext cx="2737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Verdana"/>
              </a:rPr>
              <a:t>ik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:=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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Verdana"/>
              </a:rPr>
              <a:t>ik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Verdana"/>
              </a:rPr>
              <a:t>i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979640" y="5157720"/>
            <a:ext cx="3456000" cy="1008000"/>
          </a:xfrm>
          <a:prstGeom prst="rect">
            <a:avLst/>
          </a:prstGeom>
          <a:noFill/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95280" y="638172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 Convection := FlowIntensity    Connectivity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643280" y="6308640"/>
            <a:ext cx="5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908000" y="3284640"/>
            <a:ext cx="935280" cy="865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788000" y="3284640"/>
            <a:ext cx="863640" cy="792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843280" y="3716280"/>
            <a:ext cx="1944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050920" y="400536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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042920" y="692280"/>
            <a:ext cx="72741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Conceptual Ste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2133720"/>
            <a:ext cx="8028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he “BASIC NETS” we have considered so far,      with their YES / NO states and crude transitions,         are not yet fit for most appl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They may become too large, and a more distant           view - with less detail - is need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ff66"/>
                </a:solidFill>
                <a:latin typeface="Arial"/>
              </a:rPr>
              <a:t>or a closer view is needed – the model has to be         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refined</a:t>
            </a:r>
            <a:r>
              <a:rPr b="1" lang="it-IT" sz="2400" spc="-1" strike="noStrike">
                <a:solidFill>
                  <a:srgbClr val="99ff66"/>
                </a:solidFill>
                <a:latin typeface="Arial"/>
              </a:rPr>
              <a:t> so that more details become visible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NEW  CONCEPTS  are usually introduced when    such changes of perspective are made …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539640" y="333360"/>
            <a:ext cx="8604360" cy="24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 general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lack:             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:   S    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0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0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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ck: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:   T    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low: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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:   F    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51280" y="1125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851280" y="1916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851280" y="2637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093080" y="981000"/>
            <a:ext cx="1800000" cy="360360"/>
          </a:xfrm>
          <a:prstGeom prst="bracePair">
            <a:avLst>
              <a:gd name="adj" fmla="val 8333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155600" y="3011400"/>
            <a:ext cx="739656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slack or track of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ZER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means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coincidenc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of all IN/OUT elem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slack or track of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ON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means that the element is treated as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BAS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ually, it is not annot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flow of ZERO means "no connection"; it goes with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Verdana"/>
              </a:rPr>
              <a:t>ik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flow of ONE is as in Basic Nets; it is usually not annot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flow of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means that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Units ( tokens ) are moved by one 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411280" y="5300640"/>
            <a:ext cx="2737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Verdana"/>
              </a:rPr>
              <a:t>ik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:=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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Verdana"/>
              </a:rPr>
              <a:t>ik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Verdana"/>
              </a:rPr>
              <a:t>i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979640" y="5157720"/>
            <a:ext cx="3456000" cy="100800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95280" y="638172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 Convection := FlowIntensity    Connectivity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643280" y="6308640"/>
            <a:ext cx="5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468360" y="333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8360" y="333360"/>
            <a:ext cx="820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fine-structure of a net may be lost by mapp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042920" y="1844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093080" y="2205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042920" y="2565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908000" y="1989000"/>
            <a:ext cx="863640" cy="792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724360" y="1989000"/>
            <a:ext cx="863640" cy="792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340000" y="1989000"/>
            <a:ext cx="3816360" cy="7923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995640" y="213372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867280" y="213372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124000" y="213372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03640" y="2205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59280" y="2205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627280" y="2349360"/>
            <a:ext cx="50472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00720" y="2349360"/>
            <a:ext cx="57600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419640" y="2349360"/>
            <a:ext cx="57600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364000" y="2349360"/>
            <a:ext cx="50328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403280" y="1989000"/>
            <a:ext cx="720720" cy="28764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227640" y="1773360"/>
            <a:ext cx="936720" cy="50328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1403280" y="2492280"/>
            <a:ext cx="647640" cy="21600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372360" y="2349360"/>
            <a:ext cx="720720" cy="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132000" y="29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LACK =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292720" y="4797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411280" y="5157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411280" y="4437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419640" y="4581360"/>
            <a:ext cx="86508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2771640" y="5084280"/>
            <a:ext cx="648000" cy="28764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771640" y="4653000"/>
            <a:ext cx="648000" cy="21600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56400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427640" y="1773000"/>
            <a:ext cx="649080" cy="431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076720" y="1773360"/>
            <a:ext cx="1150920" cy="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284720" y="4941720"/>
            <a:ext cx="1008000" cy="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826920" y="3645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eco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572000" y="4941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877080" y="5516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ut . .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468360" y="333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8360" y="620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. . b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042920" y="1844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093080" y="2205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42920" y="2565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908000" y="1989000"/>
            <a:ext cx="863640" cy="792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724360" y="1989000"/>
            <a:ext cx="863640" cy="792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340000" y="1989000"/>
            <a:ext cx="3816360" cy="7923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995640" y="213372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67280" y="213372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124000" y="213372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003640" y="2205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059280" y="2205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627280" y="2349360"/>
            <a:ext cx="50472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500720" y="2349360"/>
            <a:ext cx="57600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419640" y="2349360"/>
            <a:ext cx="57600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364000" y="2349360"/>
            <a:ext cx="50328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403280" y="1989000"/>
            <a:ext cx="720720" cy="28764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227640" y="1773360"/>
            <a:ext cx="936720" cy="50328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1403280" y="2492280"/>
            <a:ext cx="647640" cy="21600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372360" y="2349360"/>
            <a:ext cx="720720" cy="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132000" y="29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LACK =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292720" y="4797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411280" y="5157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411280" y="4437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419640" y="4581360"/>
            <a:ext cx="86508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771640" y="5084280"/>
            <a:ext cx="648000" cy="28764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771640" y="4653000"/>
            <a:ext cx="648000" cy="21600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6400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2556000" y="1773000"/>
            <a:ext cx="649080" cy="431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203640" y="1773360"/>
            <a:ext cx="3024000" cy="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284720" y="4941720"/>
            <a:ext cx="1008000" cy="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6920" y="3645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lso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beco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572000" y="4941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468360" y="333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68360" y="620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. . but consider this ca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042920" y="1844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093080" y="2205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042920" y="2565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908000" y="1989000"/>
            <a:ext cx="863640" cy="792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724360" y="1989000"/>
            <a:ext cx="863640" cy="792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0000" y="1989000"/>
            <a:ext cx="3816360" cy="7923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995640" y="213372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867280" y="213372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124000" y="213372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003640" y="2205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059280" y="2205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627280" y="2349360"/>
            <a:ext cx="50472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500720" y="2349360"/>
            <a:ext cx="57600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419640" y="2349360"/>
            <a:ext cx="57600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2349360"/>
            <a:ext cx="50328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403280" y="1989000"/>
            <a:ext cx="720720" cy="28764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27640" y="1773360"/>
            <a:ext cx="936720" cy="50328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1403280" y="2492280"/>
            <a:ext cx="647640" cy="21600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372360" y="2349360"/>
            <a:ext cx="720720" cy="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32000" y="29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LACK =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292720" y="4797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411280" y="5157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411280" y="4437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419640" y="4508640"/>
            <a:ext cx="93636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771640" y="5084280"/>
            <a:ext cx="648000" cy="28764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771640" y="4653000"/>
            <a:ext cx="648000" cy="21600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56400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556000" y="1773000"/>
            <a:ext cx="649080" cy="43164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203640" y="1773360"/>
            <a:ext cx="3024000" cy="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356000" y="4941720"/>
            <a:ext cx="936720" cy="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26920" y="364500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eco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572000" y="4941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3995640" y="2133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3"/>
          <a:stretch/>
        </p:blipFill>
        <p:spPr>
          <a:xfrm>
            <a:off x="3780000" y="458136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4"/>
          <a:stretch/>
        </p:blipFill>
        <p:spPr>
          <a:xfrm>
            <a:off x="3492360" y="4869000"/>
            <a:ext cx="50328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468360" y="333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596360" y="2205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148360" y="4437000"/>
            <a:ext cx="43164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588000" y="436572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639280" y="213372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659640" y="213372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627280" y="2349360"/>
            <a:ext cx="50472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284720" y="2349360"/>
            <a:ext cx="57636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419640" y="2349360"/>
            <a:ext cx="57600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364000" y="2349360"/>
            <a:ext cx="50328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885080" y="1413000"/>
            <a:ext cx="790560" cy="79200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476360" y="2349360"/>
            <a:ext cx="719280" cy="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956720" y="2349360"/>
            <a:ext cx="71892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08360" y="443700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971640" y="213372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050920" y="1916280"/>
            <a:ext cx="6193080" cy="93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796000" y="2205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995640" y="2205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68360" y="2205000"/>
            <a:ext cx="36072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859280" y="213372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059280" y="213372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348000" y="1557360"/>
            <a:ext cx="719280" cy="64764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211640" y="4653000"/>
            <a:ext cx="865080" cy="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164360" y="2349360"/>
            <a:ext cx="43200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156360" y="2349360"/>
            <a:ext cx="503280" cy="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148360" y="486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116000" y="35733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eco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6012000" y="1413000"/>
            <a:ext cx="720720" cy="72072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732720" y="1413000"/>
            <a:ext cx="115236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1403280" y="1557000"/>
            <a:ext cx="647640" cy="57636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050920" y="1557360"/>
            <a:ext cx="1297080" cy="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580000" y="4653000"/>
            <a:ext cx="100800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140360" y="472428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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76360" y="333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 exampl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9640" y="558972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ut . . .  !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1816200" cy="242100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250920" y="0"/>
            <a:ext cx="889308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equences: The given constructions for slack and track are arbitrary and serve only to demonstrate the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xistence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of a Basic Net for every net with non-unit weights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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general, it is demanded that, as in our constructions, the following  Extended Rule 2  for the Temporal Step  is valid: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2987640" y="2170080"/>
            <a:ext cx="576108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1816200" cy="242100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250920" y="0"/>
            <a:ext cx="889308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equences: The given constructions for slack and track are arbitrary and serve only to demonstrate the 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xistence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of a Basic Net for every net with non-unit weights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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general, it is demanded that, as in our constructions, the following  Extended Rule 2  for the Temporal Step  is valid: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2"/>
          <a:stretch/>
        </p:blipFill>
        <p:spPr>
          <a:xfrm>
            <a:off x="2987640" y="2170080"/>
            <a:ext cx="5761080" cy="474516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1403280" y="2708280"/>
            <a:ext cx="3240000" cy="1944720"/>
          </a:xfrm>
          <a:prstGeom prst="wedgeEllipseCallout">
            <a:avLst>
              <a:gd name="adj1" fmla="val -44462"/>
              <a:gd name="adj2" fmla="val 6926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hat h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appe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TRACK ?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3598920" y="0"/>
            <a:ext cx="5545080" cy="685800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2"/>
          <a:stretch/>
        </p:blipFill>
        <p:spPr>
          <a:xfrm>
            <a:off x="0" y="4005360"/>
            <a:ext cx="2139840" cy="285264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539640" y="2781360"/>
            <a:ext cx="22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ecial 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 the kit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rot="20187000">
            <a:off x="7092720" y="3645000"/>
            <a:ext cx="1296720" cy="433440"/>
          </a:xfrm>
          <a:prstGeom prst="leftArrow">
            <a:avLst>
              <a:gd name="adj1" fmla="val 50000"/>
              <a:gd name="adj2" fmla="val 74792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" descr=""/>
          <p:cNvPicPr/>
          <p:nvPr/>
        </p:nvPicPr>
        <p:blipFill>
          <a:blip r:embed="rId1"/>
          <a:srcRect l="8450" t="36342" r="4527" b="25856"/>
          <a:stretch/>
        </p:blipFill>
        <p:spPr>
          <a:xfrm>
            <a:off x="2050920" y="0"/>
            <a:ext cx="7093080" cy="380988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0" y="4005360"/>
            <a:ext cx="2139840" cy="285264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2268360" y="4292640"/>
            <a:ext cx="1727280" cy="576360"/>
          </a:xfrm>
          <a:prstGeom prst="wedgeEllipseCallout">
            <a:avLst>
              <a:gd name="adj1" fmla="val -70037"/>
              <a:gd name="adj2" fmla="val 68458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340000" y="43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ank y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0" y="404640"/>
            <a:ext cx="9144000" cy="58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NET  ANALYSIS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nsists mainly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1)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Study of the Convection Matrix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) Evaluation of the sums (Integrals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  =  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t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der the constraints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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  =  s +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.dt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ong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) Calculation of given Ratings and Val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05928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564000" y="443700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780000" y="4437000"/>
            <a:ext cx="2872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0" y="5734080"/>
            <a:ext cx="900000" cy="112392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1835280" y="6165720"/>
            <a:ext cx="4392360" cy="692280"/>
          </a:xfrm>
          <a:prstGeom prst="wedgeRoundRectCallout">
            <a:avLst>
              <a:gd name="adj1" fmla="val -77032"/>
              <a:gd name="adj2" fmla="val -52981"/>
              <a:gd name="adj3" fmla="val 16667"/>
            </a:avLst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Occurrence Nets, and Marking Graphs, and Extended Simulation,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1908000" y="836640"/>
            <a:ext cx="561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Conceptual Ste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58920" y="2205000"/>
            <a:ext cx="763416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Experience shows that a simple tool is sufficient    for handling those changes to our net mode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NET MAPS         (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they are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ntinuous functions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)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2400" spc="-1" strike="noStrike">
                <a:solidFill>
                  <a:srgbClr val="99ff66"/>
                </a:solidFill>
                <a:latin typeface="Arial"/>
              </a:rPr>
              <a:t>--  and their inverses –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NET CONSTRUC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We call them for sh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2800" spc="-1" strike="noStrike">
                <a:solidFill>
                  <a:srgbClr val="99ff66"/>
                </a:solidFill>
                <a:latin typeface="Arial"/>
              </a:rPr>
              <a:t>MAPS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and  </a:t>
            </a:r>
            <a:r>
              <a:rPr b="1" lang="it-IT" sz="2800" spc="-1" strike="noStrike">
                <a:solidFill>
                  <a:srgbClr val="ffcc66"/>
                </a:solidFill>
                <a:latin typeface="Arial"/>
              </a:rPr>
              <a:t>P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2139840" cy="285264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900000" y="4941720"/>
            <a:ext cx="792360" cy="432000"/>
          </a:xfrm>
          <a:custGeom>
            <a:avLst/>
            <a:gdLst>
              <a:gd name="textAreaLeft" fmla="*/ 42840 w 792360"/>
              <a:gd name="textAreaRight" fmla="*/ 749520 w 792360"/>
              <a:gd name="textAreaTop" fmla="*/ 178200 h 432000"/>
              <a:gd name="textAreaBottom" fmla="*/ 2538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6616" y="-11337"/>
                  <a:pt x="13816" y="20255"/>
                  <a:pt x="20432" y="4459"/>
                </a:cubicBezTo>
                <a:lnTo>
                  <a:pt x="21600" y="17141"/>
                </a:lnTo>
                <a:cubicBezTo>
                  <a:pt x="14984" y="32937"/>
                  <a:pt x="7784" y="1345"/>
                  <a:pt x="1168" y="17141"/>
                </a:cubicBez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29264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260280"/>
            <a:ext cx="914400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1) The important properties of a Net are recognized by studying 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2) The generalized Rule 2 exhausts the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systematics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of Sim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3) Ratings and Valuations have been explained previously . . .    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bu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   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* Occurrence Nets do not belong; they are abstract construct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      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useful for theoretical discourse (only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   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* Marking Graphs are also of theoretical value (only); they 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      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much too large in applications of practical interes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   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* Extended Simulation (beyond the Rules) is utterly simple to effec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                                         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but yields results which are not supported b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                                         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a generally valid theory (no invariants 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Grown-up cats are opposed to such pract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such as inhibitor arcs, side-conditions  etc 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755640" y="260280"/>
            <a:ext cx="806436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n Occurrence Net is a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Production Net of S-degree 1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which c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be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folded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into a given net by bijective mapping of the vicin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of T-elements, i.e. by true maps of the     </a:t>
            </a:r>
            <a:r>
              <a:rPr b="1" lang="en-US" sz="2400" spc="-1" strike="noStrike">
                <a:solidFill>
                  <a:srgbClr val="ffffff"/>
                </a:solidFill>
                <a:latin typeface="바탕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580000" y="9079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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987640" y="4365720"/>
            <a:ext cx="50472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356000" y="5589720"/>
            <a:ext cx="50508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987640" y="5589720"/>
            <a:ext cx="50472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356000" y="4365720"/>
            <a:ext cx="50508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780000" y="4437000"/>
            <a:ext cx="28728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500720" y="5084640"/>
            <a:ext cx="287280" cy="2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059280" y="5013360"/>
            <a:ext cx="28728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780000" y="5661000"/>
            <a:ext cx="28728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492360" y="4581360"/>
            <a:ext cx="28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067280" y="458136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3203640" y="4723920"/>
            <a:ext cx="0" cy="28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3203640" y="5300280"/>
            <a:ext cx="0" cy="28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4067280" y="5805360"/>
            <a:ext cx="288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643280" y="537372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042920" y="263700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643280" y="479736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3419280" y="580536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55640" y="249228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979640" y="263700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476360" y="263700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411280" y="2637000"/>
            <a:ext cx="28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916360" y="263700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348000" y="2637000"/>
            <a:ext cx="358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924360" y="263700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356000" y="263700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932360" y="263700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50920" y="263700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332000" y="2565360"/>
            <a:ext cx="144360" cy="142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268360" y="2565360"/>
            <a:ext cx="144720" cy="142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03640" y="2565360"/>
            <a:ext cx="144360" cy="142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211640" y="2565360"/>
            <a:ext cx="144360" cy="142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227640" y="2565360"/>
            <a:ext cx="142920" cy="142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236000" y="2565360"/>
            <a:ext cx="142560" cy="142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219640" y="2565360"/>
            <a:ext cx="142920" cy="144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692360" y="249228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627280" y="249228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635280" y="249228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643280" y="2492280"/>
            <a:ext cx="28764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651640" y="249228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659640" y="249228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667640" y="249228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364000" y="2637000"/>
            <a:ext cx="28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940360" y="263700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372360" y="263700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948360" y="2637000"/>
            <a:ext cx="28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8856720" y="263700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8317080" y="263700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380360" y="263700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788000" y="4365720"/>
            <a:ext cx="143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바탕"/>
              </a:rPr>
              <a:t>Sum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바탕"/>
              </a:rPr>
              <a:t>F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4859280" y="2924280"/>
            <a:ext cx="165744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5003280" y="2997360"/>
            <a:ext cx="2737080" cy="25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987640" y="2997360"/>
            <a:ext cx="136836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979640" y="2924280"/>
            <a:ext cx="100800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411280" y="2852640"/>
            <a:ext cx="122400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476360" y="2852640"/>
            <a:ext cx="1366920" cy="20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971640" y="2924280"/>
            <a:ext cx="1800000" cy="26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300720" y="191628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바탕"/>
              </a:rPr>
              <a:t>Summer    </a:t>
            </a:r>
            <a:r>
              <a:rPr b="0" lang="en-US" sz="1600" spc="-1" strike="noStrike">
                <a:solidFill>
                  <a:srgbClr val="3399ff"/>
                </a:solidFill>
                <a:latin typeface="바탕"/>
              </a:rPr>
              <a:t>..</a:t>
            </a:r>
            <a:r>
              <a:rPr b="0" lang="en-US" sz="1600" spc="-1" strike="noStrike">
                <a:solidFill>
                  <a:srgbClr val="ffffff"/>
                </a:solidFill>
                <a:latin typeface="바탕"/>
              </a:rPr>
              <a:t>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268360" y="1844640"/>
            <a:ext cx="11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바탕"/>
              </a:rPr>
              <a:t>Summer </a:t>
            </a:r>
            <a:r>
              <a:rPr b="0" lang="en-US" sz="1800" spc="-1" strike="noStrike">
                <a:solidFill>
                  <a:srgbClr val="3399ff"/>
                </a:solidFill>
                <a:latin typeface="바탕"/>
              </a:rPr>
              <a:t>..</a:t>
            </a:r>
            <a:r>
              <a:rPr b="0" lang="en-US" sz="1800" spc="-1" strike="noStrike">
                <a:solidFill>
                  <a:srgbClr val="ffffff"/>
                </a:solidFill>
                <a:latin typeface="바탕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877080" y="57340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바탕"/>
              </a:rPr>
              <a:t>Simple,  but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6659640" y="4724280"/>
            <a:ext cx="576360" cy="57636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203640" y="2421000"/>
            <a:ext cx="792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35640" y="3573360"/>
            <a:ext cx="792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132000" y="4653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812000" y="357336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3276720" y="479736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6732720" y="2492280"/>
            <a:ext cx="576000" cy="576360"/>
          </a:xfrm>
          <a:prstGeom prst="rect">
            <a:avLst/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427640" y="3645000"/>
            <a:ext cx="576000" cy="576000"/>
          </a:xfrm>
          <a:prstGeom prst="rect">
            <a:avLst/>
          </a:prstGeom>
          <a:solidFill>
            <a:srgbClr val="7ef64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050920" y="3645000"/>
            <a:ext cx="576360" cy="57600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2627280" y="3068280"/>
            <a:ext cx="64944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 flipV="1">
            <a:off x="2627280" y="4220640"/>
            <a:ext cx="50328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851280" y="3068640"/>
            <a:ext cx="57636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3850920" y="4221000"/>
            <a:ext cx="57636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995640" y="2781360"/>
            <a:ext cx="27370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08720" y="3141720"/>
            <a:ext cx="576360" cy="5745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7236000" y="4076640"/>
            <a:ext cx="72072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6156000" y="3068640"/>
            <a:ext cx="57636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156360" y="4221000"/>
            <a:ext cx="503280" cy="503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3924360" y="5013360"/>
            <a:ext cx="2735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39640" y="404640"/>
            <a:ext cx="8353440" cy="18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Net  has a non-denumerable set of     different behaviours  (Occurrence N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en though it has only 4 S- and 4 T-elements,                                    like the 4-seasons 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11280" y="6308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Century Gothic"/>
              </a:rPr>
              <a:t>Construction begins now . .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6659640" y="4724280"/>
            <a:ext cx="576360" cy="576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203640" y="2421000"/>
            <a:ext cx="792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435640" y="3573360"/>
            <a:ext cx="792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32000" y="4653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812000" y="357336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1"/>
          <a:stretch/>
        </p:blipFill>
        <p:spPr>
          <a:xfrm>
            <a:off x="3348000" y="256536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6732720" y="2492280"/>
            <a:ext cx="576000" cy="576360"/>
          </a:xfrm>
          <a:prstGeom prst="rect">
            <a:avLst/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427640" y="3645000"/>
            <a:ext cx="576000" cy="576000"/>
          </a:xfrm>
          <a:prstGeom prst="rect">
            <a:avLst/>
          </a:prstGeom>
          <a:solidFill>
            <a:srgbClr val="7ef64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050920" y="3645000"/>
            <a:ext cx="576360" cy="57600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2627280" y="3068280"/>
            <a:ext cx="64944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2627280" y="4220640"/>
            <a:ext cx="50328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851280" y="3068640"/>
            <a:ext cx="57636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3850920" y="4221000"/>
            <a:ext cx="57636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995640" y="2781360"/>
            <a:ext cx="27370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7308720" y="3141720"/>
            <a:ext cx="576360" cy="5745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7236000" y="4076640"/>
            <a:ext cx="72072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6156000" y="3068640"/>
            <a:ext cx="57636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56360" y="4221000"/>
            <a:ext cx="503280" cy="503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3924360" y="5013360"/>
            <a:ext cx="2735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8269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0509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476360" y="476280"/>
            <a:ext cx="289080" cy="28728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187280" y="620640"/>
            <a:ext cx="28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763640" y="62064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411280" y="1052640"/>
            <a:ext cx="72072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692360" y="1052640"/>
            <a:ext cx="503280" cy="20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971640" y="1052640"/>
            <a:ext cx="215640" cy="38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187280" y="4941720"/>
            <a:ext cx="129708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6659640" y="4724280"/>
            <a:ext cx="576360" cy="576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203640" y="2421000"/>
            <a:ext cx="792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435640" y="3573360"/>
            <a:ext cx="792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132000" y="4653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812000" y="357336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3276720" y="479736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6732720" y="2492280"/>
            <a:ext cx="576000" cy="576360"/>
          </a:xfrm>
          <a:prstGeom prst="rect">
            <a:avLst/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427640" y="3645000"/>
            <a:ext cx="576000" cy="576000"/>
          </a:xfrm>
          <a:prstGeom prst="rect">
            <a:avLst/>
          </a:prstGeom>
          <a:solidFill>
            <a:srgbClr val="7ef64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050920" y="3645000"/>
            <a:ext cx="576360" cy="57600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2627280" y="3068280"/>
            <a:ext cx="64944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H="1" flipV="1">
            <a:off x="2627280" y="4220640"/>
            <a:ext cx="50328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851280" y="3068640"/>
            <a:ext cx="57636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850920" y="4221000"/>
            <a:ext cx="57636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995640" y="2781360"/>
            <a:ext cx="27370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308720" y="3141720"/>
            <a:ext cx="576360" cy="5745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7236000" y="4076640"/>
            <a:ext cx="72072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6156000" y="3068640"/>
            <a:ext cx="57636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156360" y="4221000"/>
            <a:ext cx="503280" cy="503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3924360" y="5013360"/>
            <a:ext cx="2735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8269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0509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476360" y="476280"/>
            <a:ext cx="289080" cy="28728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187280" y="620640"/>
            <a:ext cx="28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763640" y="62064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411280" y="1052640"/>
            <a:ext cx="72072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643280" y="198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87640" y="907920"/>
            <a:ext cx="1655640" cy="10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2767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700360" y="476280"/>
            <a:ext cx="289080" cy="287280"/>
          </a:xfrm>
          <a:prstGeom prst="rect">
            <a:avLst/>
          </a:prstGeom>
          <a:solidFill>
            <a:srgbClr val="7ef64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411280" y="620640"/>
            <a:ext cx="28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987640" y="62064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6659640" y="4724280"/>
            <a:ext cx="576360" cy="576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203640" y="2421000"/>
            <a:ext cx="792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435640" y="3573360"/>
            <a:ext cx="792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132000" y="4653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812000" y="357336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3348000" y="256536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1012" name=""/>
          <p:cNvSpPr/>
          <p:nvPr/>
        </p:nvSpPr>
        <p:spPr>
          <a:xfrm>
            <a:off x="6732720" y="2492280"/>
            <a:ext cx="576000" cy="576360"/>
          </a:xfrm>
          <a:prstGeom prst="rect">
            <a:avLst/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427640" y="3645000"/>
            <a:ext cx="576000" cy="576000"/>
          </a:xfrm>
          <a:prstGeom prst="rect">
            <a:avLst/>
          </a:prstGeom>
          <a:solidFill>
            <a:srgbClr val="7ef64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050920" y="3645000"/>
            <a:ext cx="576360" cy="57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2627280" y="3068280"/>
            <a:ext cx="64944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H="1" flipV="1">
            <a:off x="2627280" y="4220640"/>
            <a:ext cx="50328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851280" y="3068640"/>
            <a:ext cx="57636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3850920" y="4221000"/>
            <a:ext cx="57636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995640" y="2781360"/>
            <a:ext cx="27370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7308720" y="3141720"/>
            <a:ext cx="576360" cy="5745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7236000" y="4076640"/>
            <a:ext cx="72072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6156000" y="3068640"/>
            <a:ext cx="57636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156360" y="4221000"/>
            <a:ext cx="503280" cy="503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3924360" y="5013360"/>
            <a:ext cx="2735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269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0509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76360" y="476280"/>
            <a:ext cx="289080" cy="28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187280" y="620640"/>
            <a:ext cx="28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763640" y="62064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2767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700360" y="476280"/>
            <a:ext cx="289080" cy="287280"/>
          </a:xfrm>
          <a:prstGeom prst="rect">
            <a:avLst/>
          </a:prstGeom>
          <a:solidFill>
            <a:srgbClr val="7ef64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411280" y="620640"/>
            <a:ext cx="28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987640" y="62064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924360" y="476280"/>
            <a:ext cx="288720" cy="28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5007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211640" y="62064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635280" y="62064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6659640" y="4724280"/>
            <a:ext cx="576360" cy="576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203640" y="2421000"/>
            <a:ext cx="792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435640" y="3573360"/>
            <a:ext cx="792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132000" y="4653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812000" y="357336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1"/>
          <a:stretch/>
        </p:blipFill>
        <p:spPr>
          <a:xfrm>
            <a:off x="5580000" y="371628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/>
          <p:nvPr/>
        </p:nvSpPr>
        <p:spPr>
          <a:xfrm>
            <a:off x="6732720" y="2492280"/>
            <a:ext cx="576000" cy="576360"/>
          </a:xfrm>
          <a:prstGeom prst="rect">
            <a:avLst/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427640" y="3645000"/>
            <a:ext cx="576000" cy="576000"/>
          </a:xfrm>
          <a:prstGeom prst="rect">
            <a:avLst/>
          </a:prstGeom>
          <a:solidFill>
            <a:srgbClr val="7ef64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50920" y="3645000"/>
            <a:ext cx="576360" cy="57600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2627280" y="3068280"/>
            <a:ext cx="64944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H="1" flipV="1">
            <a:off x="2627280" y="4220640"/>
            <a:ext cx="50328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851280" y="3068640"/>
            <a:ext cx="57636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3850920" y="4221000"/>
            <a:ext cx="57636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995640" y="2781360"/>
            <a:ext cx="27370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308720" y="3141720"/>
            <a:ext cx="576360" cy="5745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7236000" y="4076640"/>
            <a:ext cx="72072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6156000" y="3068640"/>
            <a:ext cx="57636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156360" y="4221000"/>
            <a:ext cx="503280" cy="503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3924360" y="5013360"/>
            <a:ext cx="2735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8269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0509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1476360" y="476280"/>
            <a:ext cx="289080" cy="28728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187280" y="620640"/>
            <a:ext cx="28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763640" y="62064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2767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700360" y="476280"/>
            <a:ext cx="289080" cy="287280"/>
          </a:xfrm>
          <a:prstGeom prst="rect">
            <a:avLst/>
          </a:prstGeom>
          <a:solidFill>
            <a:srgbClr val="7ef64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411280" y="620640"/>
            <a:ext cx="28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987640" y="62064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924360" y="476280"/>
            <a:ext cx="288720" cy="28728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5007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4211640" y="62064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635280" y="62064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2"/>
          <a:stretch/>
        </p:blipFill>
        <p:spPr>
          <a:xfrm>
            <a:off x="7956720" y="371628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1071" name=""/>
          <p:cNvSpPr/>
          <p:nvPr/>
        </p:nvSpPr>
        <p:spPr>
          <a:xfrm>
            <a:off x="5148360" y="476280"/>
            <a:ext cx="288720" cy="287280"/>
          </a:xfrm>
          <a:prstGeom prst="rect">
            <a:avLst/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724360" y="83664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724360" y="189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5435640" y="333360"/>
            <a:ext cx="360360" cy="21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435640" y="692280"/>
            <a:ext cx="360360" cy="215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859280" y="62064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6659640" y="4724280"/>
            <a:ext cx="576360" cy="576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03640" y="2421000"/>
            <a:ext cx="792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435640" y="3573360"/>
            <a:ext cx="792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132000" y="4653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7812000" y="357336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3276720" y="479736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/>
          <p:nvPr/>
        </p:nvSpPr>
        <p:spPr>
          <a:xfrm>
            <a:off x="6732720" y="2492280"/>
            <a:ext cx="576000" cy="576360"/>
          </a:xfrm>
          <a:prstGeom prst="rect">
            <a:avLst/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427640" y="3645000"/>
            <a:ext cx="576000" cy="576000"/>
          </a:xfrm>
          <a:prstGeom prst="rect">
            <a:avLst/>
          </a:prstGeom>
          <a:solidFill>
            <a:srgbClr val="7ef64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050920" y="3645000"/>
            <a:ext cx="576360" cy="57600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2627280" y="3068280"/>
            <a:ext cx="64944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H="1" flipV="1">
            <a:off x="2627280" y="4220640"/>
            <a:ext cx="50328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851280" y="3068640"/>
            <a:ext cx="57636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3850920" y="4221000"/>
            <a:ext cx="57636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995640" y="2781360"/>
            <a:ext cx="27370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308720" y="3141720"/>
            <a:ext cx="576360" cy="5745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7236000" y="4076640"/>
            <a:ext cx="72072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6156000" y="3068640"/>
            <a:ext cx="57636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156360" y="4221000"/>
            <a:ext cx="503280" cy="503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3924360" y="5013360"/>
            <a:ext cx="2735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8269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0509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476360" y="476280"/>
            <a:ext cx="289080" cy="28728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187280" y="620640"/>
            <a:ext cx="28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763640" y="62064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2767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700360" y="476280"/>
            <a:ext cx="289080" cy="287280"/>
          </a:xfrm>
          <a:prstGeom prst="rect">
            <a:avLst/>
          </a:prstGeom>
          <a:solidFill>
            <a:srgbClr val="7ef64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411280" y="620640"/>
            <a:ext cx="28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87640" y="62064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924360" y="476280"/>
            <a:ext cx="288720" cy="28728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5007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211640" y="62064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635280" y="62064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5148360" y="476280"/>
            <a:ext cx="288720" cy="287280"/>
          </a:xfrm>
          <a:prstGeom prst="rect">
            <a:avLst/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724360" y="189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5435640" y="404640"/>
            <a:ext cx="360360" cy="1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435640" y="692280"/>
            <a:ext cx="360360" cy="215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859280" y="62064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372360" y="476280"/>
            <a:ext cx="288720" cy="2872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724360" y="765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02000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084720" y="404640"/>
            <a:ext cx="287640" cy="1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6012000" y="765000"/>
            <a:ext cx="360360" cy="1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59640" y="62064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6659640" y="4724280"/>
            <a:ext cx="576360" cy="576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203640" y="2421000"/>
            <a:ext cx="792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435640" y="3573360"/>
            <a:ext cx="792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132000" y="4653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812000" y="357336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5" name="" descr=""/>
          <p:cNvPicPr/>
          <p:nvPr/>
        </p:nvPicPr>
        <p:blipFill>
          <a:blip r:embed="rId1"/>
          <a:stretch/>
        </p:blipFill>
        <p:spPr>
          <a:xfrm>
            <a:off x="3348000" y="256536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>
            <a:off x="6732720" y="2492280"/>
            <a:ext cx="576000" cy="576360"/>
          </a:xfrm>
          <a:prstGeom prst="rect">
            <a:avLst/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427640" y="3645000"/>
            <a:ext cx="576000" cy="576000"/>
          </a:xfrm>
          <a:prstGeom prst="rect">
            <a:avLst/>
          </a:prstGeom>
          <a:solidFill>
            <a:srgbClr val="7ef64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050920" y="3645000"/>
            <a:ext cx="576360" cy="57600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2627280" y="3068280"/>
            <a:ext cx="64944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2627280" y="4220640"/>
            <a:ext cx="50328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851280" y="3068640"/>
            <a:ext cx="57636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3850920" y="4221000"/>
            <a:ext cx="57636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995640" y="2781360"/>
            <a:ext cx="27370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308720" y="3141720"/>
            <a:ext cx="576360" cy="5745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7236000" y="4076640"/>
            <a:ext cx="72072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6156000" y="3068640"/>
            <a:ext cx="57636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156360" y="4221000"/>
            <a:ext cx="503280" cy="503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3924360" y="5013360"/>
            <a:ext cx="2735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8269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0509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476360" y="476280"/>
            <a:ext cx="289080" cy="28728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187280" y="620640"/>
            <a:ext cx="28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763640" y="62064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2767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700360" y="476280"/>
            <a:ext cx="289080" cy="287280"/>
          </a:xfrm>
          <a:prstGeom prst="rect">
            <a:avLst/>
          </a:prstGeom>
          <a:solidFill>
            <a:srgbClr val="7ef64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411280" y="620640"/>
            <a:ext cx="28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987640" y="62064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924360" y="476280"/>
            <a:ext cx="288720" cy="28728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5007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211640" y="62064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635280" y="62064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148360" y="476280"/>
            <a:ext cx="288720" cy="287280"/>
          </a:xfrm>
          <a:prstGeom prst="rect">
            <a:avLst/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724360" y="189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5435640" y="404640"/>
            <a:ext cx="360360" cy="1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435640" y="692280"/>
            <a:ext cx="360360" cy="215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859280" y="62064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372360" y="476280"/>
            <a:ext cx="288720" cy="2872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724360" y="765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94836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6084720" y="404640"/>
            <a:ext cx="287640" cy="1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6012000" y="765000"/>
            <a:ext cx="360360" cy="1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6659640" y="62064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7596360" y="476280"/>
            <a:ext cx="288720" cy="28728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817236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885080" y="62064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308720" y="62064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/>
          <p:nvPr/>
        </p:nvSpPr>
        <p:spPr>
          <a:xfrm>
            <a:off x="8269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0509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76360" y="476280"/>
            <a:ext cx="289080" cy="28728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187280" y="620640"/>
            <a:ext cx="28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763640" y="62064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2767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700360" y="476280"/>
            <a:ext cx="289080" cy="287280"/>
          </a:xfrm>
          <a:prstGeom prst="rect">
            <a:avLst/>
          </a:prstGeom>
          <a:solidFill>
            <a:srgbClr val="7ef64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411280" y="620640"/>
            <a:ext cx="28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987640" y="62064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924360" y="476280"/>
            <a:ext cx="288720" cy="28728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50072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4211640" y="62064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635280" y="62064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148360" y="476280"/>
            <a:ext cx="288720" cy="287280"/>
          </a:xfrm>
          <a:prstGeom prst="rect">
            <a:avLst/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724360" y="189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5435640" y="404640"/>
            <a:ext cx="360360" cy="1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435640" y="692280"/>
            <a:ext cx="360360" cy="215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859280" y="62064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372360" y="476280"/>
            <a:ext cx="288720" cy="2872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724360" y="765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94836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084720" y="404640"/>
            <a:ext cx="287640" cy="1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6012000" y="765000"/>
            <a:ext cx="360360" cy="1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659640" y="62064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596360" y="476280"/>
            <a:ext cx="288720" cy="28728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8172360" y="47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7885080" y="62064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7308720" y="62064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684360" y="906840"/>
            <a:ext cx="3166920" cy="2233800"/>
          </a:xfrm>
          <a:custGeom>
            <a:avLst/>
            <a:gdLst>
              <a:gd name="textAreaLeft" fmla="*/ 0 w 3166920"/>
              <a:gd name="textAreaRight" fmla="*/ 3167280 w 3166920"/>
              <a:gd name="textAreaTop" fmla="*/ -360 h 2233800"/>
              <a:gd name="textAreaBottom" fmla="*/ 2233800 h 22338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7ef64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3059280" y="2203920"/>
            <a:ext cx="4681440" cy="2233800"/>
          </a:xfrm>
          <a:custGeom>
            <a:avLst/>
            <a:gdLst>
              <a:gd name="textAreaLeft" fmla="*/ 0 w 4681440"/>
              <a:gd name="textAreaRight" fmla="*/ 4681800 w 4681440"/>
              <a:gd name="textAreaTop" fmla="*/ -360 h 2233800"/>
              <a:gd name="textAreaBottom" fmla="*/ 2233800 h 22338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7020000" y="3499560"/>
            <a:ext cx="2736720" cy="2233800"/>
          </a:xfrm>
          <a:custGeom>
            <a:avLst/>
            <a:gdLst>
              <a:gd name="textAreaLeft" fmla="*/ 0 w 2736720"/>
              <a:gd name="textAreaRight" fmla="*/ 2736720 w 2736720"/>
              <a:gd name="textAreaTop" fmla="*/ -360 h 2233800"/>
              <a:gd name="textAreaBottom" fmla="*/ 2233800 h 22338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050920" y="2637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"0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48360" y="39337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"1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7740720" y="5157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Century Gothic"/>
              </a:rPr>
              <a:t>"0" or "1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95280" y="501336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Every sequence of Zeroes and 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an be generated here symbolically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 Conceptual Step to Higher Level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Basic Nets, we can study the fundamental phenomena occurring in Net Stru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e will go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beyond Basic Ne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, we introduce arbitrary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SIZES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for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S-, T-, and F-elements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68360" y="4149720"/>
            <a:ext cx="1656000" cy="1511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24360" y="4508640"/>
            <a:ext cx="1871640" cy="576000"/>
          </a:xfrm>
          <a:prstGeom prst="rightArrow">
            <a:avLst>
              <a:gd name="adj1" fmla="val 50000"/>
              <a:gd name="adj2" fmla="val 8123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24360" y="4437000"/>
            <a:ext cx="2303640" cy="1079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867280" y="4581360"/>
            <a:ext cx="289080" cy="7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300720" y="4581360"/>
            <a:ext cx="289080" cy="7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32720" y="4581360"/>
            <a:ext cx="288720" cy="7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164360" y="4581360"/>
            <a:ext cx="289080" cy="7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96360" y="4581360"/>
            <a:ext cx="288720" cy="7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2916360" y="4653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19640" y="47973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3059280" y="515772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4"/>
          <a:stretch/>
        </p:blipFill>
        <p:spPr>
          <a:xfrm>
            <a:off x="2556000" y="5013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3924360" y="4653000"/>
            <a:ext cx="1800000" cy="576360"/>
          </a:xfrm>
          <a:prstGeom prst="rightArrow">
            <a:avLst>
              <a:gd name="adj1" fmla="val 50000"/>
              <a:gd name="adj2" fmla="val 78076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51280" y="4797360"/>
            <a:ext cx="1873080" cy="576360"/>
          </a:xfrm>
          <a:prstGeom prst="rightArrow">
            <a:avLst>
              <a:gd name="adj1" fmla="val 50000"/>
              <a:gd name="adj2" fmla="val 812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" descr=""/>
          <p:cNvPicPr/>
          <p:nvPr/>
        </p:nvPicPr>
        <p:blipFill>
          <a:blip r:embed="rId1"/>
          <a:srcRect l="13653" t="0" r="14436" b="0"/>
          <a:stretch/>
        </p:blipFill>
        <p:spPr>
          <a:xfrm>
            <a:off x="900000" y="476280"/>
            <a:ext cx="5112000" cy="2092320"/>
          </a:xfrm>
          <a:prstGeom prst="rect">
            <a:avLst/>
          </a:prstGeom>
          <a:ln w="0">
            <a:noFill/>
          </a:ln>
        </p:spPr>
      </p:pic>
      <p:pic>
        <p:nvPicPr>
          <p:cNvPr id="1203" name="" descr=""/>
          <p:cNvPicPr/>
          <p:nvPr/>
        </p:nvPicPr>
        <p:blipFill>
          <a:blip r:embed="rId2"/>
          <a:srcRect l="36956" t="0" r="15459" b="0"/>
          <a:stretch/>
        </p:blipFill>
        <p:spPr>
          <a:xfrm>
            <a:off x="5076720" y="476280"/>
            <a:ext cx="3382920" cy="2092320"/>
          </a:xfrm>
          <a:prstGeom prst="rect">
            <a:avLst/>
          </a:prstGeom>
          <a:ln w="0">
            <a:noFill/>
          </a:ln>
        </p:spPr>
      </p:pic>
      <p:sp>
        <p:nvSpPr>
          <p:cNvPr id="1204" name=""/>
          <p:cNvSpPr/>
          <p:nvPr/>
        </p:nvSpPr>
        <p:spPr>
          <a:xfrm>
            <a:off x="539640" y="83664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26920" y="907920"/>
            <a:ext cx="144720" cy="28908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732720" y="2852640"/>
            <a:ext cx="1511280" cy="1368360"/>
          </a:xfrm>
          <a:prstGeom prst="ellipse">
            <a:avLst/>
          </a:prstGeom>
          <a:noFill/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732720" y="3284640"/>
            <a:ext cx="1511280" cy="50472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7164360" y="2852640"/>
            <a:ext cx="647640" cy="136836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8101080" y="342900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7380360" y="278136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659640" y="342900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380360" y="4149720"/>
            <a:ext cx="21600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 rot="2741400">
            <a:off x="8005320" y="2730600"/>
            <a:ext cx="900360" cy="423720"/>
          </a:xfrm>
          <a:custGeom>
            <a:avLst/>
            <a:gdLst>
              <a:gd name="textAreaLeft" fmla="*/ 0 w 900360"/>
              <a:gd name="textAreaRight" fmla="*/ 900720 w 90036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24000" y="2708280"/>
            <a:ext cx="662436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Nets with S-degree 1 are usually shown as graphs with S-elements as 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ar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Occurrence Nets, Synchronization Graphs and  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INFORMATION  FLOW  GRAPHS 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are   such Nets – to be defined l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Century Gothic"/>
              </a:rPr>
              <a:t>Above is an Occurrence Net of the Net on the right, which is the explication of the Four Seasons in terms of  "bright/dark"  and  "warm/cold" -  an important net  for the theory of Causality and Information Flow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708360" y="333360"/>
            <a:ext cx="1440000" cy="216000"/>
          </a:xfrm>
          <a:prstGeom prst="rightArrow">
            <a:avLst>
              <a:gd name="adj1" fmla="val 50000"/>
              <a:gd name="adj2" fmla="val 166667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1332000" y="333360"/>
            <a:ext cx="781200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Unicode MS"/>
              </a:rPr>
              <a:t>Occurrence Nets can serve to study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Arial Unicode MS"/>
              </a:rPr>
              <a:t>Concurrency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; they make processes             appear as deterministic because they               do not retain the choices made in the             resolution of </a:t>
            </a:r>
            <a:r>
              <a:rPr b="1" lang="en-US" sz="3200" spc="-1" strike="noStrike">
                <a:solidFill>
                  <a:srgbClr val="ffff00"/>
                </a:solidFill>
                <a:latin typeface="Arial Unicode MS"/>
              </a:rPr>
              <a:t>Conflicts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Viewed without the pertaining  </a:t>
            </a:r>
            <a:r>
              <a:rPr b="1" lang="en-US" sz="3200" spc="-1" strike="noStrike">
                <a:solidFill>
                  <a:srgbClr val="ffff00"/>
                </a:solidFill>
                <a:latin typeface="Arial Unicode MS"/>
              </a:rPr>
              <a:t>MAP</a:t>
            </a: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,                 they hide the problems of </a:t>
            </a:r>
            <a:r>
              <a:rPr b="1" lang="en-US" sz="3200" spc="-1" strike="noStrike">
                <a:solidFill>
                  <a:srgbClr val="ffff00"/>
                </a:solidFill>
                <a:latin typeface="Arial Unicode MS"/>
              </a:rPr>
              <a:t>Con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Unicode MS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which are too difficult for mere kitt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7" name="" descr=""/>
          <p:cNvPicPr/>
          <p:nvPr/>
        </p:nvPicPr>
        <p:blipFill>
          <a:blip r:embed="rId1"/>
          <a:stretch/>
        </p:blipFill>
        <p:spPr>
          <a:xfrm>
            <a:off x="0" y="4000680"/>
            <a:ext cx="2141640" cy="2857320"/>
          </a:xfrm>
          <a:prstGeom prst="rect">
            <a:avLst/>
          </a:prstGeom>
          <a:ln w="0">
            <a:noFill/>
          </a:ln>
        </p:spPr>
      </p:pic>
      <p:sp>
        <p:nvSpPr>
          <p:cNvPr id="1218" name=""/>
          <p:cNvSpPr/>
          <p:nvPr/>
        </p:nvSpPr>
        <p:spPr>
          <a:xfrm rot="19966800">
            <a:off x="625320" y="5008320"/>
            <a:ext cx="576360" cy="369720"/>
          </a:xfrm>
          <a:custGeom>
            <a:avLst/>
            <a:gdLst>
              <a:gd name="textAreaLeft" fmla="*/ 71280 w 576360"/>
              <a:gd name="textAreaRight" fmla="*/ 505080 w 576360"/>
              <a:gd name="textAreaTop" fmla="*/ 105480 h 369720"/>
              <a:gd name="textAreaBottom" fmla="*/ 264240 h 369720"/>
            </a:gdLst>
            <a:ahLst/>
            <a:rect l="textAreaLeft" t="textAreaTop" r="textAreaRight" b="textAreaBottom"/>
            <a:pathLst>
              <a:path w="21600" h="21600">
                <a:moveTo>
                  <a:pt x="0" y="3081"/>
                </a:moveTo>
                <a:cubicBezTo>
                  <a:pt x="5861" y="-7834"/>
                  <a:pt x="13061" y="13996"/>
                  <a:pt x="18922" y="3081"/>
                </a:cubicBezTo>
                <a:lnTo>
                  <a:pt x="21600" y="18519"/>
                </a:lnTo>
                <a:cubicBezTo>
                  <a:pt x="15739" y="29434"/>
                  <a:pt x="8539" y="7604"/>
                  <a:pt x="2678" y="18519"/>
                </a:cubicBezTo>
                <a:close/>
              </a:path>
            </a:pathLst>
          </a:custGeom>
          <a:solidFill>
            <a:srgbClr val="3399ff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9" name="" descr=""/>
          <p:cNvPicPr/>
          <p:nvPr/>
        </p:nvPicPr>
        <p:blipFill>
          <a:blip r:embed="rId1"/>
          <a:srcRect l="0" t="0" r="0" b="22711"/>
          <a:stretch/>
        </p:blipFill>
        <p:spPr>
          <a:xfrm>
            <a:off x="3670200" y="0"/>
            <a:ext cx="5473800" cy="5805360"/>
          </a:xfrm>
          <a:prstGeom prst="rect">
            <a:avLst/>
          </a:prstGeom>
          <a:ln w="0">
            <a:noFill/>
          </a:ln>
        </p:spPr>
      </p:pic>
      <p:sp>
        <p:nvSpPr>
          <p:cNvPr id="1220" name=""/>
          <p:cNvSpPr/>
          <p:nvPr/>
        </p:nvSpPr>
        <p:spPr>
          <a:xfrm>
            <a:off x="8675640" y="0"/>
            <a:ext cx="4683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1" name="" descr=""/>
          <p:cNvPicPr/>
          <p:nvPr/>
        </p:nvPicPr>
        <p:blipFill>
          <a:blip r:embed="rId2"/>
          <a:stretch/>
        </p:blipFill>
        <p:spPr>
          <a:xfrm>
            <a:off x="0" y="4000680"/>
            <a:ext cx="2268360" cy="2857320"/>
          </a:xfrm>
          <a:prstGeom prst="rect">
            <a:avLst/>
          </a:prstGeom>
          <a:ln w="0">
            <a:noFill/>
          </a:ln>
        </p:spPr>
      </p:pic>
      <p:sp>
        <p:nvSpPr>
          <p:cNvPr id="1222" name=""/>
          <p:cNvSpPr/>
          <p:nvPr/>
        </p:nvSpPr>
        <p:spPr>
          <a:xfrm>
            <a:off x="1116000" y="501336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37080 h 287280"/>
              <a:gd name="textAreaBottom" fmla="*/ 25020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332000" y="3429000"/>
            <a:ext cx="2592360" cy="504720"/>
          </a:xfrm>
          <a:prstGeom prst="wedgeEllipseCallout">
            <a:avLst>
              <a:gd name="adj1" fmla="val -30097"/>
              <a:gd name="adj2" fmla="val 131759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m … mm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24000" y="1557360"/>
            <a:ext cx="30956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Century Gothic"/>
              </a:rPr>
              <a:t>Exerci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Century Gothic"/>
              </a:rPr>
              <a:t>How many states are needed to force four   transitions into a cycl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627280" y="4149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6" name="" descr=""/>
          <p:cNvPicPr/>
          <p:nvPr/>
        </p:nvPicPr>
        <p:blipFill>
          <a:blip r:embed="rId3"/>
          <a:srcRect l="0" t="87807" r="0" b="0"/>
          <a:stretch/>
        </p:blipFill>
        <p:spPr>
          <a:xfrm>
            <a:off x="3670200" y="5805360"/>
            <a:ext cx="5473800" cy="1052640"/>
          </a:xfrm>
          <a:prstGeom prst="rect">
            <a:avLst/>
          </a:prstGeom>
          <a:ln w="0">
            <a:noFill/>
          </a:ln>
        </p:spPr>
      </p:pic>
      <p:sp>
        <p:nvSpPr>
          <p:cNvPr id="1227" name=""/>
          <p:cNvSpPr/>
          <p:nvPr/>
        </p:nvSpPr>
        <p:spPr>
          <a:xfrm>
            <a:off x="3059280" y="6524640"/>
            <a:ext cx="144360" cy="144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3059280" y="6165720"/>
            <a:ext cx="144360" cy="144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411280" y="6524640"/>
            <a:ext cx="144720" cy="144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411280" y="6165720"/>
            <a:ext cx="144720" cy="144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700360" y="630864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050920" y="630864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348000" y="630864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" descr=""/>
          <p:cNvPicPr/>
          <p:nvPr/>
        </p:nvPicPr>
        <p:blipFill>
          <a:blip r:embed="rId1"/>
          <a:srcRect l="24362" t="7312" r="13804" b="78323"/>
          <a:stretch/>
        </p:blipFill>
        <p:spPr>
          <a:xfrm>
            <a:off x="395280" y="404640"/>
            <a:ext cx="3384720" cy="1079640"/>
          </a:xfrm>
          <a:prstGeom prst="rect">
            <a:avLst/>
          </a:prstGeom>
          <a:ln w="0">
            <a:noFill/>
          </a:ln>
        </p:spPr>
      </p:pic>
      <p:sp>
        <p:nvSpPr>
          <p:cNvPr id="1235" name=""/>
          <p:cNvSpPr/>
          <p:nvPr/>
        </p:nvSpPr>
        <p:spPr>
          <a:xfrm>
            <a:off x="4211640" y="33336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e basic cell of a binary coun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55640" y="2708280"/>
            <a:ext cx="36036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956720" y="4797360"/>
            <a:ext cx="36036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227640" y="4797360"/>
            <a:ext cx="36036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4500720" y="4797360"/>
            <a:ext cx="36036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2627280" y="4797360"/>
            <a:ext cx="36036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826920" y="4797360"/>
            <a:ext cx="36036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7885080" y="2637000"/>
            <a:ext cx="36036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7020000" y="1844640"/>
            <a:ext cx="36036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6227640" y="2708280"/>
            <a:ext cx="36036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5292720" y="1916280"/>
            <a:ext cx="36036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427640" y="2708280"/>
            <a:ext cx="36036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492360" y="1916280"/>
            <a:ext cx="36036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556000" y="2708280"/>
            <a:ext cx="36036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619280" y="1916280"/>
            <a:ext cx="36036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619280" y="2708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7020000" y="4724280"/>
            <a:ext cx="50472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7885080" y="184464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227640" y="184464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7093080" y="2637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292720" y="2708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356000" y="191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492360" y="2708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484360" y="1916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219640" y="4724280"/>
            <a:ext cx="50472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492360" y="4724280"/>
            <a:ext cx="50508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619280" y="4724280"/>
            <a:ext cx="50472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116000" y="292428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7451640" y="292428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588000" y="292428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651640" y="2924280"/>
            <a:ext cx="502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4788000" y="292428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851280" y="292428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987640" y="292428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979640" y="292428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79640" y="206064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51280" y="206064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724360" y="206064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380360" y="198900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1763640" y="227628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7236000" y="220500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508720" y="227628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708360" y="227628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2700360" y="2276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443640" y="2276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572000" y="2276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8101080" y="2205000"/>
            <a:ext cx="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187280" y="494172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588000" y="4941720"/>
            <a:ext cx="43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788000" y="49417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987640" y="494172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124000" y="5013360"/>
            <a:ext cx="576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5724360" y="5013360"/>
            <a:ext cx="576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995640" y="5013360"/>
            <a:ext cx="576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7524720" y="5013360"/>
            <a:ext cx="432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755640" y="4581360"/>
            <a:ext cx="2303640" cy="7923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11280" y="1773360"/>
            <a:ext cx="2376360" cy="151128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95280" y="53737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1                 2                 4               8               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95280" y="404640"/>
            <a:ext cx="3384720" cy="1079640"/>
          </a:xfrm>
          <a:prstGeom prst="rect">
            <a:avLst/>
          </a:prstGeom>
          <a:noFill/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4" name="" descr="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The smallest Map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4211640" y="1484280"/>
            <a:ext cx="360360" cy="36036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340000" y="328464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356000" y="558972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356000" y="4941720"/>
            <a:ext cx="4320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877080" y="335772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084720" y="335772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4572000" y="141300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979640" y="3357720"/>
            <a:ext cx="360360" cy="36036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2771640" y="3357720"/>
            <a:ext cx="360360" cy="36036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516720" y="3357720"/>
            <a:ext cx="360360" cy="36036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995640" y="5300640"/>
            <a:ext cx="360360" cy="36036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788000" y="5300640"/>
            <a:ext cx="360360" cy="36036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flipH="1">
            <a:off x="2771280" y="1989000"/>
            <a:ext cx="1295640" cy="1081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411280" y="4076640"/>
            <a:ext cx="1224000" cy="1152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5508720" y="4076640"/>
            <a:ext cx="1295280" cy="1152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771640" y="4005360"/>
            <a:ext cx="1152720" cy="1079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148360" y="1989000"/>
            <a:ext cx="1222200" cy="1081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5219640" y="4005360"/>
            <a:ext cx="1224000" cy="1081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427640" y="2421000"/>
            <a:ext cx="0" cy="21603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716360" y="2421000"/>
            <a:ext cx="0" cy="21603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0" y="6237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79280" y="1197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ets as on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2b2b2"/>
                </a:solidFill>
                <a:latin typeface="Arial"/>
              </a:rPr>
              <a:t>The Category of Nets</a:t>
            </a:r>
            <a:endParaRPr b="0" lang="en-US" sz="33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4211640" y="1484280"/>
            <a:ext cx="360360" cy="36036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340000" y="328464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4356000" y="558972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4356000" y="4941720"/>
            <a:ext cx="4320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6877080" y="335772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6084720" y="335772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0" y="141300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979640" y="3357720"/>
            <a:ext cx="360360" cy="36036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771640" y="3357720"/>
            <a:ext cx="360360" cy="36036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516720" y="3357720"/>
            <a:ext cx="360360" cy="36036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995640" y="5300640"/>
            <a:ext cx="360360" cy="36036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4788000" y="5300640"/>
            <a:ext cx="360360" cy="360360"/>
          </a:xfrm>
          <a:prstGeom prst="rect">
            <a:avLst/>
          </a:prstGeom>
          <a:solidFill>
            <a:srgbClr val="ddee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2771280" y="1989000"/>
            <a:ext cx="1295640" cy="1081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411280" y="4076640"/>
            <a:ext cx="1224000" cy="1152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5508720" y="4076640"/>
            <a:ext cx="1295280" cy="1152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771640" y="4005360"/>
            <a:ext cx="1152720" cy="1079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148360" y="1989000"/>
            <a:ext cx="1222200" cy="1081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 flipH="1">
            <a:off x="5219280" y="4005360"/>
            <a:ext cx="1295640" cy="1081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427640" y="2421000"/>
            <a:ext cx="0" cy="21603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716360" y="2421000"/>
            <a:ext cx="0" cy="21603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0" y="6237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0" y="69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A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"Category"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consists of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Objects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(shown as vertices of a graph) and </a:t>
            </a: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"Morphisms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"    (here: Maps) shown as ar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0" y="5877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Each sequence f, g  of Maps forming a path defines the Product Map  "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f.g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"         This product is associative:    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( f.g ).h  =  f.( g.h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in properties of special MAP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0" y="1052640"/>
            <a:ext cx="914400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-- Projection;   every image X'-element has a pre-image in 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-- Bijection:      1-to-1 map from X to X' ;   arrows may be ad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-- Injection:      (X,A,F) becomes  subnet of (X'.A',F'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-- Folding:         A     A' ;     F     F'    (no crushing of arrows; S     S' ;  T     T'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-- Strict:             Every image F'-element has a pre-image in 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                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Unique Decomposition:  f = g.h.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2195640" y="3068640"/>
            <a:ext cx="288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8172360" y="3068640"/>
            <a:ext cx="28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236000" y="3068640"/>
            <a:ext cx="288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419640" y="3068640"/>
            <a:ext cx="288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476360" y="4869000"/>
            <a:ext cx="5256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987640" y="6021360"/>
            <a:ext cx="2232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5219640" y="4941360"/>
            <a:ext cx="1584360" cy="1079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476360" y="4941720"/>
            <a:ext cx="1511280" cy="1079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3780000" y="494172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195640" y="5300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g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78000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0" y="623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g : Strict Projection;     h : Bijection;     i : Strict Inj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6" name="" descr="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2050920" y="5516640"/>
            <a:ext cx="3313080" cy="720720"/>
          </a:xfrm>
          <a:prstGeom prst="leftArrow">
            <a:avLst>
              <a:gd name="adj1" fmla="val 50000"/>
              <a:gd name="adj2" fmla="val 114923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124000" y="6093000"/>
            <a:ext cx="3384720" cy="765000"/>
          </a:xfrm>
          <a:prstGeom prst="rightArrow">
            <a:avLst>
              <a:gd name="adj1" fmla="val 50000"/>
              <a:gd name="adj2" fmla="val 110612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203640" y="5661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A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276720" y="6237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 A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" descr=""/>
          <p:cNvPicPr/>
          <p:nvPr/>
        </p:nvPicPr>
        <p:blipFill>
          <a:blip r:embed="rId1"/>
          <a:srcRect l="0" t="37561" r="0" b="0"/>
          <a:stretch/>
        </p:blipFill>
        <p:spPr>
          <a:xfrm>
            <a:off x="0" y="206064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1362" name=""/>
          <p:cNvSpPr/>
          <p:nvPr/>
        </p:nvSpPr>
        <p:spPr>
          <a:xfrm>
            <a:off x="2050920" y="5516640"/>
            <a:ext cx="3313080" cy="720720"/>
          </a:xfrm>
          <a:prstGeom prst="leftArrow">
            <a:avLst>
              <a:gd name="adj1" fmla="val 50000"/>
              <a:gd name="adj2" fmla="val 114923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124000" y="6093000"/>
            <a:ext cx="3384720" cy="765000"/>
          </a:xfrm>
          <a:prstGeom prst="rightArrow">
            <a:avLst>
              <a:gd name="adj1" fmla="val 50000"/>
              <a:gd name="adj2" fmla="val 110612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203640" y="5661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A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276720" y="6237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 A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0" y="260280"/>
            <a:ext cx="914400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Inverses of  NET MAPs constitute formally  the "Opposite Category" of N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simplicity, we use the Category NETS only, and agree that we can step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forwar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 backwar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that Category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826920" y="5805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t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867280" y="587700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t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>
            <a:lum bright="6000"/>
          </a:blip>
          <a:srcRect l="-36164" t="-42529" r="-18952" b="0"/>
          <a:stretch/>
        </p:blipFill>
        <p:spPr>
          <a:xfrm>
            <a:off x="826920" y="620640"/>
            <a:ext cx="6480360" cy="48243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851280" y="2997360"/>
            <a:ext cx="2952720" cy="2663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906600">
            <a:off x="4571640" y="4941360"/>
            <a:ext cx="647640" cy="287640"/>
          </a:xfrm>
          <a:prstGeom prst="wedgeEllipseCallout">
            <a:avLst>
              <a:gd name="adj1" fmla="val -113662"/>
              <a:gd name="adj2" fmla="val -11939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20412600">
            <a:off x="5508360" y="5157360"/>
            <a:ext cx="576000" cy="287280"/>
          </a:xfrm>
          <a:prstGeom prst="wedgeEllipseCallout">
            <a:avLst>
              <a:gd name="adj1" fmla="val 109430"/>
              <a:gd name="adj2" fmla="val 14402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12000" y="4581360"/>
            <a:ext cx="431640" cy="217800"/>
          </a:xfrm>
          <a:prstGeom prst="wedgeEllipseCallout">
            <a:avLst>
              <a:gd name="adj1" fmla="val 120222"/>
              <a:gd name="adj2" fmla="val -93796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20050200">
            <a:off x="4356000" y="4508280"/>
            <a:ext cx="505080" cy="215640"/>
          </a:xfrm>
          <a:prstGeom prst="wedgeEllipseCallout">
            <a:avLst>
              <a:gd name="adj1" fmla="val -111949"/>
              <a:gd name="adj2" fmla="val 46324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95640" y="5013360"/>
            <a:ext cx="1584360" cy="1844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700360" y="5157720"/>
            <a:ext cx="934920" cy="3589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56000" y="5589720"/>
            <a:ext cx="936360" cy="360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411280" y="6021360"/>
            <a:ext cx="1008360" cy="360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268360" y="6453360"/>
            <a:ext cx="1008360" cy="4046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11280" y="76500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 . . for</a:t>
            </a:r>
            <a:r>
              <a:rPr b="1" lang="en-US" sz="2800" spc="-1" strike="noStrike">
                <a:solidFill>
                  <a:srgbClr val="46341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quantitativ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6341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43280" y="5661000"/>
            <a:ext cx="1224000" cy="11970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003640" y="5805360"/>
            <a:ext cx="792360" cy="28764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788000" y="6308640"/>
            <a:ext cx="792000" cy="287280"/>
          </a:xfrm>
          <a:prstGeom prst="rect">
            <a:avLst/>
          </a:pr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1403280" y="278136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afety and Secur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entury Gothic"/>
              </a:rPr>
              <a:t>Safety and Secur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2556000" y="2133720"/>
            <a:ext cx="3600360" cy="33112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916360" y="2492280"/>
            <a:ext cx="360360" cy="360360"/>
          </a:xfrm>
          <a:prstGeom prst="rect">
            <a:avLst/>
          </a:prstGeom>
          <a:solidFill>
            <a:srgbClr val="9fc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435640" y="2492280"/>
            <a:ext cx="360360" cy="360360"/>
          </a:xfrm>
          <a:prstGeom prst="rect">
            <a:avLst/>
          </a:prstGeom>
          <a:solidFill>
            <a:srgbClr val="9fc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508720" y="4724280"/>
            <a:ext cx="360360" cy="360360"/>
          </a:xfrm>
          <a:prstGeom prst="rect">
            <a:avLst/>
          </a:prstGeom>
          <a:solidFill>
            <a:srgbClr val="9fc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916360" y="4724280"/>
            <a:ext cx="360360" cy="360360"/>
          </a:xfrm>
          <a:prstGeom prst="rect">
            <a:avLst/>
          </a:prstGeom>
          <a:solidFill>
            <a:srgbClr val="9fc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3995640" y="1916280"/>
            <a:ext cx="64764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4067280" y="5157720"/>
            <a:ext cx="64764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796000" y="3500280"/>
            <a:ext cx="64764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268360" y="3500280"/>
            <a:ext cx="64800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4067280" y="2133720"/>
            <a:ext cx="431640" cy="215640"/>
          </a:xfrm>
          <a:prstGeom prst="flowChartTerminator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4140360" y="5373720"/>
            <a:ext cx="431640" cy="216000"/>
          </a:xfrm>
          <a:prstGeom prst="flowChartTerminator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24000" y="14842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A narrow round course  with two race cars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0" y="5950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This Net is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"UNSAFE"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because the tokens (cars) may have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CONT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979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entury Gothic"/>
              </a:rPr>
              <a:t>Safe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2556000" y="2133720"/>
            <a:ext cx="3600360" cy="33112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2916360" y="2492280"/>
            <a:ext cx="360360" cy="360360"/>
          </a:xfrm>
          <a:prstGeom prst="rect">
            <a:avLst/>
          </a:prstGeom>
          <a:solidFill>
            <a:srgbClr val="9fc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435640" y="2492280"/>
            <a:ext cx="360360" cy="360360"/>
          </a:xfrm>
          <a:prstGeom prst="rect">
            <a:avLst/>
          </a:prstGeom>
          <a:solidFill>
            <a:srgbClr val="9fc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508720" y="4724280"/>
            <a:ext cx="360360" cy="360360"/>
          </a:xfrm>
          <a:prstGeom prst="rect">
            <a:avLst/>
          </a:prstGeom>
          <a:solidFill>
            <a:srgbClr val="9fc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916360" y="4724280"/>
            <a:ext cx="360360" cy="360360"/>
          </a:xfrm>
          <a:prstGeom prst="rect">
            <a:avLst/>
          </a:prstGeom>
          <a:solidFill>
            <a:srgbClr val="9fc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995640" y="1916280"/>
            <a:ext cx="64764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4067280" y="5157720"/>
            <a:ext cx="64764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796000" y="3500280"/>
            <a:ext cx="64764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268360" y="3500280"/>
            <a:ext cx="64800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012000" y="3573360"/>
            <a:ext cx="215640" cy="360360"/>
          </a:xfrm>
          <a:prstGeom prst="flowChartTerminator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4140360" y="5373720"/>
            <a:ext cx="431640" cy="216000"/>
          </a:xfrm>
          <a:prstGeom prst="flowChartTerminator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0" y="5950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is Net is 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"UNSAFE"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or "overmarked" :               </a:t>
            </a:r>
            <a:r>
              <a:rPr b="1" lang="en-US" sz="2800" spc="-1" strike="noStrike">
                <a:solidFill>
                  <a:srgbClr val="006600"/>
                </a:solidFill>
                <a:latin typeface="Century Gothic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             Here  is a 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CONTACT sit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95280" y="981000"/>
            <a:ext cx="8748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Contact  precedes Crash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( = overloading of an S-element , squeezing two into a place for one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entury Gothic"/>
              </a:rPr>
              <a:t>Safe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124000" y="2133720"/>
            <a:ext cx="4680000" cy="431964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V="1" rot="18647400">
            <a:off x="5820120" y="5467320"/>
            <a:ext cx="432000" cy="223920"/>
          </a:xfrm>
          <a:prstGeom prst="flowChartTerminator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V="1" rot="19560600">
            <a:off x="5475240" y="5796360"/>
            <a:ext cx="432000" cy="209160"/>
          </a:xfrm>
          <a:prstGeom prst="flowChartTerminator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24000" y="148428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real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round course symbolized by the N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0" y="5950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700360" y="2708280"/>
            <a:ext cx="3600360" cy="3240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556000" y="2565360"/>
            <a:ext cx="3816360" cy="3527640"/>
          </a:xfrm>
          <a:prstGeom prst="ellipse">
            <a:avLst/>
          </a:prstGeom>
          <a:solidFill>
            <a:srgbClr val="0a85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724360" y="5589720"/>
            <a:ext cx="287640" cy="28728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916360" y="5589720"/>
            <a:ext cx="287280" cy="28728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5651640" y="2708280"/>
            <a:ext cx="288720" cy="28728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2916360" y="2781360"/>
            <a:ext cx="287280" cy="28728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50920" y="6453360"/>
            <a:ext cx="871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755640" y="652464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he possibility of Contact is a 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REAL  DA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/>
          <p:nvPr/>
        </p:nvSpPr>
        <p:spPr>
          <a:xfrm>
            <a:off x="539640" y="189000"/>
            <a:ext cx="8136000" cy="18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Century Gothic"/>
              </a:rPr>
              <a:t>Definitions: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( here for Basic Nets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Let </a:t>
            </a:r>
            <a:r>
              <a:rPr b="1" lang="en-US" sz="2800" spc="-1" strike="noStrike">
                <a:solidFill>
                  <a:srgbClr val="ffffff"/>
                </a:solidFill>
                <a:latin typeface="바탕"/>
              </a:rPr>
              <a:t> t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be a Transition, and let </a:t>
            </a:r>
            <a:r>
              <a:rPr b="1" lang="en-US" sz="2800" spc="-1" strike="noStrike">
                <a:solidFill>
                  <a:srgbClr val="ffffff"/>
                </a:solidFill>
                <a:latin typeface="바탕"/>
              </a:rPr>
              <a:t> M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be a Case  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( a marking in the same class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s the initial marking )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414" name=""/>
          <p:cNvSpPr/>
          <p:nvPr/>
        </p:nvSpPr>
        <p:spPr>
          <a:xfrm>
            <a:off x="3851280" y="350028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851280" y="4005360"/>
            <a:ext cx="28728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5076720" y="350028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076720" y="4005360"/>
            <a:ext cx="28728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6659640" y="342900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659640" y="4005360"/>
            <a:ext cx="28728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7740720" y="4005360"/>
            <a:ext cx="28728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740720" y="342900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572000" y="580536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572000" y="630864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940360" y="580536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940360" y="6308640"/>
            <a:ext cx="287280" cy="289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7236000" y="3716280"/>
            <a:ext cx="215640" cy="216000"/>
          </a:xfrm>
          <a:prstGeom prst="rect">
            <a:avLst/>
          </a:prstGeom>
          <a:solidFill>
            <a:srgbClr val="9fc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500720" y="3789360"/>
            <a:ext cx="215640" cy="216000"/>
          </a:xfrm>
          <a:prstGeom prst="rect">
            <a:avLst/>
          </a:prstGeom>
          <a:solidFill>
            <a:srgbClr val="9fc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292720" y="6093000"/>
            <a:ext cx="216000" cy="215640"/>
          </a:xfrm>
          <a:prstGeom prst="rect">
            <a:avLst/>
          </a:prstGeom>
          <a:solidFill>
            <a:srgbClr val="9fc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4140360" y="3933360"/>
            <a:ext cx="36036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4140360" y="364500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4716360" y="371592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716360" y="3933720"/>
            <a:ext cx="36036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948360" y="3573360"/>
            <a:ext cx="287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7451640" y="3644640"/>
            <a:ext cx="2890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6948360" y="3860640"/>
            <a:ext cx="287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7451640" y="3933720"/>
            <a:ext cx="28908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4859280" y="623700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4859280" y="6021360"/>
            <a:ext cx="36036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5580000" y="602100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580000" y="6308640"/>
            <a:ext cx="36036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7956720" y="659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2" name="" descr=""/>
          <p:cNvPicPr/>
          <p:nvPr/>
        </p:nvPicPr>
        <p:blipFill>
          <a:blip r:embed="rId2"/>
          <a:stretch/>
        </p:blipFill>
        <p:spPr>
          <a:xfrm>
            <a:off x="7812000" y="3500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43" name="" descr=""/>
          <p:cNvPicPr/>
          <p:nvPr/>
        </p:nvPicPr>
        <p:blipFill>
          <a:blip r:embed="rId3"/>
          <a:stretch/>
        </p:blipFill>
        <p:spPr>
          <a:xfrm>
            <a:off x="6732720" y="407664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1444" name="" descr=""/>
          <p:cNvPicPr/>
          <p:nvPr/>
        </p:nvPicPr>
        <p:blipFill>
          <a:blip r:embed="rId4"/>
          <a:stretch/>
        </p:blipFill>
        <p:spPr>
          <a:xfrm>
            <a:off x="5148360" y="407664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1445" name="" descr=""/>
          <p:cNvPicPr/>
          <p:nvPr/>
        </p:nvPicPr>
        <p:blipFill>
          <a:blip r:embed="rId5"/>
          <a:stretch/>
        </p:blipFill>
        <p:spPr>
          <a:xfrm>
            <a:off x="3924360" y="4076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46" name="" descr=""/>
          <p:cNvPicPr/>
          <p:nvPr/>
        </p:nvPicPr>
        <p:blipFill>
          <a:blip r:embed="rId6"/>
          <a:stretch/>
        </p:blipFill>
        <p:spPr>
          <a:xfrm>
            <a:off x="3924360" y="357336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47" name="" descr=""/>
          <p:cNvPicPr/>
          <p:nvPr/>
        </p:nvPicPr>
        <p:blipFill>
          <a:blip r:embed="rId7"/>
          <a:stretch/>
        </p:blipFill>
        <p:spPr>
          <a:xfrm>
            <a:off x="4643280" y="63817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48" name="" descr=""/>
          <p:cNvPicPr/>
          <p:nvPr/>
        </p:nvPicPr>
        <p:blipFill>
          <a:blip r:embed="rId8"/>
          <a:stretch/>
        </p:blipFill>
        <p:spPr>
          <a:xfrm>
            <a:off x="7812000" y="4076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49" name="" descr=""/>
          <p:cNvPicPr/>
          <p:nvPr/>
        </p:nvPicPr>
        <p:blipFill>
          <a:blip r:embed="rId9"/>
          <a:stretch/>
        </p:blipFill>
        <p:spPr>
          <a:xfrm>
            <a:off x="6012000" y="6381720"/>
            <a:ext cx="215640" cy="216000"/>
          </a:xfrm>
          <a:prstGeom prst="rect">
            <a:avLst/>
          </a:prstGeom>
          <a:ln w="0">
            <a:noFill/>
          </a:ln>
        </p:spPr>
      </p:pic>
      <p:sp>
        <p:nvSpPr>
          <p:cNvPr id="1450" name=""/>
          <p:cNvSpPr/>
          <p:nvPr/>
        </p:nvSpPr>
        <p:spPr>
          <a:xfrm>
            <a:off x="90000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( no safety 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971640" y="6021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entury Gothic"/>
              </a:rPr>
              <a:t>( no security 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72436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95280" y="1989000"/>
            <a:ext cx="8064360" cy="136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95280" y="4365720"/>
            <a:ext cx="806436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afety and Security  Constru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0" y="119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Every Net can be mad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entury Gothic"/>
              </a:rPr>
              <a:t>SAFE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 by adding S-Comp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0" y="378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Every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entury Gothic"/>
              </a:rPr>
              <a:t>SAF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Net can be mad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entury Gothic"/>
              </a:rPr>
              <a:t>SECURE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 by T-Spli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900000" y="1916280"/>
            <a:ext cx="358920" cy="360360"/>
          </a:xfrm>
          <a:prstGeom prst="rect">
            <a:avLst/>
          </a:prstGeom>
          <a:solidFill>
            <a:srgbClr val="9fc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843280" y="3068640"/>
            <a:ext cx="358560" cy="360360"/>
          </a:xfrm>
          <a:prstGeom prst="rect">
            <a:avLst/>
          </a:prstGeom>
          <a:solidFill>
            <a:srgbClr val="9fc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900000" y="3068640"/>
            <a:ext cx="358920" cy="360360"/>
          </a:xfrm>
          <a:prstGeom prst="rect">
            <a:avLst/>
          </a:prstGeom>
          <a:solidFill>
            <a:srgbClr val="9fc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2843280" y="1916280"/>
            <a:ext cx="358560" cy="360360"/>
          </a:xfrm>
          <a:prstGeom prst="rect">
            <a:avLst/>
          </a:prstGeom>
          <a:solidFill>
            <a:srgbClr val="9fc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524720" y="3068640"/>
            <a:ext cx="358920" cy="360360"/>
          </a:xfrm>
          <a:prstGeom prst="rect">
            <a:avLst/>
          </a:prstGeom>
          <a:solidFill>
            <a:srgbClr val="9fc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7524720" y="1916280"/>
            <a:ext cx="358920" cy="360360"/>
          </a:xfrm>
          <a:prstGeom prst="rect">
            <a:avLst/>
          </a:prstGeom>
          <a:solidFill>
            <a:srgbClr val="9fc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435640" y="3141720"/>
            <a:ext cx="358560" cy="360360"/>
          </a:xfrm>
          <a:prstGeom prst="rect">
            <a:avLst/>
          </a:prstGeom>
          <a:solidFill>
            <a:srgbClr val="9fc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435640" y="1916280"/>
            <a:ext cx="358560" cy="360360"/>
          </a:xfrm>
          <a:prstGeom prst="rect">
            <a:avLst/>
          </a:prstGeom>
          <a:solidFill>
            <a:srgbClr val="9fc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659640" y="5300640"/>
            <a:ext cx="358560" cy="360360"/>
          </a:xfrm>
          <a:prstGeom prst="rect">
            <a:avLst/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219640" y="5300640"/>
            <a:ext cx="358920" cy="360360"/>
          </a:xfrm>
          <a:prstGeom prst="rect">
            <a:avLst/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763640" y="5300640"/>
            <a:ext cx="358920" cy="360360"/>
          </a:xfrm>
          <a:prstGeom prst="rect">
            <a:avLst/>
          </a:prstGeom>
          <a:solidFill>
            <a:srgbClr val="9fc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971640" y="4581360"/>
            <a:ext cx="3585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971640" y="5300640"/>
            <a:ext cx="3585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971640" y="5950080"/>
            <a:ext cx="3585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7451640" y="5300640"/>
            <a:ext cx="35892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1835280" y="2492280"/>
            <a:ext cx="3585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427640" y="5300640"/>
            <a:ext cx="3585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4427640" y="4581360"/>
            <a:ext cx="3585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4427640" y="6021360"/>
            <a:ext cx="3585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940360" y="5300640"/>
            <a:ext cx="358920" cy="360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7451640" y="5950080"/>
            <a:ext cx="35892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451640" y="4724280"/>
            <a:ext cx="35892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516720" y="2924280"/>
            <a:ext cx="358920" cy="360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516720" y="2060640"/>
            <a:ext cx="35892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627280" y="5950080"/>
            <a:ext cx="35892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627280" y="5229360"/>
            <a:ext cx="35892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2627280" y="4581360"/>
            <a:ext cx="35892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1258920" y="278100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258920" y="220500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2195640" y="2133360"/>
            <a:ext cx="5760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2124000" y="2781360"/>
            <a:ext cx="7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796000" y="2133720"/>
            <a:ext cx="72072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6877080" y="2060280"/>
            <a:ext cx="5745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5796000" y="2349000"/>
            <a:ext cx="792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6804000" y="242100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 flipV="1">
            <a:off x="6876720" y="3141720"/>
            <a:ext cx="64764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6877080" y="2205000"/>
            <a:ext cx="574560" cy="719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H="1" flipV="1">
            <a:off x="5796000" y="2276640"/>
            <a:ext cx="720720" cy="72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5796000" y="3141720"/>
            <a:ext cx="720720" cy="21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1258920" y="4869000"/>
            <a:ext cx="50472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1332000" y="551664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1332000" y="5661000"/>
            <a:ext cx="360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2124000" y="4868640"/>
            <a:ext cx="576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124000" y="5445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2124000" y="5661000"/>
            <a:ext cx="503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788000" y="4797360"/>
            <a:ext cx="431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4788000" y="551664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4788000" y="5733720"/>
            <a:ext cx="4316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580000" y="5516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300720" y="5516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7020000" y="5013000"/>
            <a:ext cx="431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7020000" y="551664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7093080" y="566100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8893080" y="6021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708360" y="2421000"/>
            <a:ext cx="1079640" cy="503280"/>
          </a:xfrm>
          <a:prstGeom prst="rightArrow">
            <a:avLst>
              <a:gd name="adj1" fmla="val 50000"/>
              <a:gd name="adj2" fmla="val 53630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203640" y="5013360"/>
            <a:ext cx="936720" cy="504720"/>
          </a:xfrm>
          <a:prstGeom prst="rightArrow">
            <a:avLst>
              <a:gd name="adj1" fmla="val 50000"/>
              <a:gd name="adj2" fmla="val 46398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/>
          <p:nvPr/>
        </p:nvSpPr>
        <p:spPr>
          <a:xfrm>
            <a:off x="468360" y="260280"/>
            <a:ext cx="842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Secure Nets can be obtained systematically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     from the finite Foldings of an infinite Synchron.-Grap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5" name="" descr=""/>
          <p:cNvPicPr/>
          <p:nvPr/>
        </p:nvPicPr>
        <p:blipFill>
          <a:blip r:embed="rId1"/>
          <a:srcRect l="0" t="0" r="5532" b="7510"/>
          <a:stretch/>
        </p:blipFill>
        <p:spPr>
          <a:xfrm>
            <a:off x="1763640" y="1268280"/>
            <a:ext cx="5545080" cy="4791240"/>
          </a:xfrm>
          <a:prstGeom prst="rect">
            <a:avLst/>
          </a:prstGeom>
          <a:ln w="0">
            <a:noFill/>
          </a:ln>
        </p:spPr>
      </p:pic>
      <p:sp>
        <p:nvSpPr>
          <p:cNvPr id="1516" name=""/>
          <p:cNvSpPr/>
          <p:nvPr/>
        </p:nvSpPr>
        <p:spPr>
          <a:xfrm>
            <a:off x="0" y="6165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The "rectangular" grid can be evenly "TILED" by parallelograms . .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6588000" cy="6023160"/>
          </a:xfrm>
          <a:prstGeom prst="rect">
            <a:avLst/>
          </a:prstGeom>
          <a:ln w="0">
            <a:noFill/>
          </a:ln>
        </p:spPr>
      </p:pic>
      <p:sp>
        <p:nvSpPr>
          <p:cNvPr id="1518" name=""/>
          <p:cNvSpPr/>
          <p:nvPr/>
        </p:nvSpPr>
        <p:spPr>
          <a:xfrm rot="3517200">
            <a:off x="3275640" y="621360"/>
            <a:ext cx="2879640" cy="2303280"/>
          </a:xfrm>
          <a:custGeom>
            <a:avLst/>
            <a:gdLst>
              <a:gd name="textAreaLeft" fmla="*/ 0 w 2879640"/>
              <a:gd name="textAreaRight" fmla="*/ 2880000 w 2879640"/>
              <a:gd name="textAreaTop" fmla="*/ 0 h 2303280"/>
              <a:gd name="textAreaBottom" fmla="*/ 2303640 h 2303280"/>
            </a:gdLst>
            <a:ahLst/>
            <a:rect l="textAreaLeft" t="textAreaTop" r="textAreaRight" b="textAreaBottom"/>
            <a:pathLst>
              <a:path w="21600" h="21600">
                <a:moveTo>
                  <a:pt x="4063" y="10793"/>
                </a:moveTo>
                <a:arcTo wR="-6737" hR="-6737" stAng="-10796429" swAng="-12697620"/>
                <a:lnTo>
                  <a:pt x="1598" y="16454"/>
                </a:lnTo>
                <a:arcTo wR="10800" hR="10800" stAng="8905952" swAng="12697620"/>
                <a:lnTo>
                  <a:pt x="24300" y="10814"/>
                </a:lnTo>
                <a:lnTo>
                  <a:pt x="19564" y="15541"/>
                </a:lnTo>
                <a:lnTo>
                  <a:pt x="14837" y="10804"/>
                </a:lnTo>
                <a:close/>
              </a:path>
            </a:pathLst>
          </a:custGeom>
          <a:solidFill>
            <a:srgbClr val="21bb4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 rot="11739000">
            <a:off x="326160" y="4537080"/>
            <a:ext cx="4526280" cy="1341360"/>
          </a:xfrm>
          <a:custGeom>
            <a:avLst/>
            <a:gdLst>
              <a:gd name="textAreaLeft" fmla="*/ 0 w 4526280"/>
              <a:gd name="textAreaRight" fmla="*/ 4526640 w 452628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21600" h="21600">
                <a:moveTo>
                  <a:pt x="3682" y="6146"/>
                </a:moveTo>
                <a:arcTo wR="-8504" hR="-8504" stAng="-8809316" swAng="-13701107"/>
                <a:lnTo>
                  <a:pt x="377" y="13627"/>
                </a:lnTo>
                <a:arcTo wR="10800" hR="10800" stAng="9889578" swAng="13701107"/>
                <a:lnTo>
                  <a:pt x="22099" y="18188"/>
                </a:lnTo>
                <a:lnTo>
                  <a:pt x="16773" y="19303"/>
                </a:lnTo>
                <a:lnTo>
                  <a:pt x="15658" y="1397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0" name="" descr=""/>
          <p:cNvPicPr/>
          <p:nvPr/>
        </p:nvPicPr>
        <p:blipFill>
          <a:blip r:embed="rId2"/>
          <a:stretch/>
        </p:blipFill>
        <p:spPr>
          <a:xfrm>
            <a:off x="6012000" y="4437000"/>
            <a:ext cx="2820960" cy="2176560"/>
          </a:xfrm>
          <a:prstGeom prst="rect">
            <a:avLst/>
          </a:prstGeom>
          <a:ln w="0">
            <a:noFill/>
          </a:ln>
        </p:spPr>
      </p:pic>
      <p:sp>
        <p:nvSpPr>
          <p:cNvPr id="1521" name=""/>
          <p:cNvSpPr/>
          <p:nvPr/>
        </p:nvSpPr>
        <p:spPr>
          <a:xfrm>
            <a:off x="0" y="1557360"/>
            <a:ext cx="270036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ES can be fold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ce, to form          an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THO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300720" y="3284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372360" y="3357720"/>
            <a:ext cx="2160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twice, to form a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YCLO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0" y="645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These structures have a SECURE case class derived from the SAFE grid mark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6516720" y="476280"/>
            <a:ext cx="26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entury Gothic"/>
              </a:rPr>
              <a:t>More in Part  on "Physics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" descr=""/>
          <p:cNvPicPr/>
          <p:nvPr/>
        </p:nvPicPr>
        <p:blipFill>
          <a:blip r:embed="rId1"/>
          <a:srcRect l="0" t="58410" r="0" b="0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1527" name=""/>
          <p:cNvSpPr/>
          <p:nvPr/>
        </p:nvSpPr>
        <p:spPr>
          <a:xfrm>
            <a:off x="324000" y="5445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which is     the same 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2195640" y="4149360"/>
            <a:ext cx="215640" cy="1429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2195640" y="4292640"/>
            <a:ext cx="215640" cy="14436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3851280" y="4220640"/>
            <a:ext cx="144360" cy="71640"/>
          </a:xfrm>
          <a:prstGeom prst="line">
            <a:avLst/>
          </a:prstGeom>
          <a:ln w="28440">
            <a:solidFill>
              <a:srgbClr val="0a8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851280" y="4292640"/>
            <a:ext cx="144360" cy="144360"/>
          </a:xfrm>
          <a:prstGeom prst="line">
            <a:avLst/>
          </a:prstGeom>
          <a:ln w="28440">
            <a:solidFill>
              <a:srgbClr val="0a8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236000" y="4797360"/>
            <a:ext cx="649080" cy="0"/>
          </a:xfrm>
          <a:prstGeom prst="line">
            <a:avLst/>
          </a:prstGeom>
          <a:ln w="5724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804000" y="5445000"/>
            <a:ext cx="208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Century Gothic"/>
              </a:rPr>
              <a:t>"cogwheel"-       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1" lang="en-US" sz="1800" spc="-1" strike="noStrike">
                <a:solidFill>
                  <a:srgbClr val="463416"/>
                </a:solidFill>
                <a:latin typeface="Century Gothic"/>
              </a:rPr>
              <a:t>s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Century Gothic"/>
              </a:rPr>
              <a:t>(publ. 196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2484360" y="5660280"/>
            <a:ext cx="358920" cy="360360"/>
          </a:xfrm>
          <a:custGeom>
            <a:avLst/>
            <a:gdLst>
              <a:gd name="textAreaLeft" fmla="*/ 0 w 358920"/>
              <a:gd name="textAreaRight" fmla="*/ 359280 w 35892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4356000" y="5660280"/>
            <a:ext cx="360360" cy="360360"/>
          </a:xfrm>
          <a:custGeom>
            <a:avLst/>
            <a:gdLst>
              <a:gd name="textAreaLeft" fmla="*/ 0 w 360360"/>
              <a:gd name="textAreaRight" fmla="*/ 360720 w 36036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3419640" y="573408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a85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5292720" y="5805360"/>
            <a:ext cx="358920" cy="358920"/>
          </a:xfrm>
          <a:custGeom>
            <a:avLst/>
            <a:gdLst>
              <a:gd name="textAreaLeft" fmla="*/ 0 w 358920"/>
              <a:gd name="textAreaRight" fmla="*/ 359280 w 3589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a85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5651640" y="4220640"/>
            <a:ext cx="144360" cy="7164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651640" y="4365720"/>
            <a:ext cx="144360" cy="7128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324000" y="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entury Gothic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1" name="" descr=""/>
          <p:cNvPicPr/>
          <p:nvPr/>
        </p:nvPicPr>
        <p:blipFill>
          <a:blip r:embed="rId2"/>
          <a:srcRect l="0" t="0" r="0" b="40203"/>
          <a:stretch/>
        </p:blipFill>
        <p:spPr>
          <a:xfrm>
            <a:off x="0" y="0"/>
            <a:ext cx="9144000" cy="4043520"/>
          </a:xfrm>
          <a:prstGeom prst="rect">
            <a:avLst/>
          </a:prstGeom>
          <a:ln w="0">
            <a:noFill/>
          </a:ln>
        </p:spPr>
      </p:pic>
      <p:sp>
        <p:nvSpPr>
          <p:cNvPr id="1542" name=""/>
          <p:cNvSpPr/>
          <p:nvPr/>
        </p:nvSpPr>
        <p:spPr>
          <a:xfrm>
            <a:off x="7740720" y="620640"/>
            <a:ext cx="503280" cy="1944720"/>
          </a:xfrm>
          <a:custGeom>
            <a:avLst/>
            <a:gdLst>
              <a:gd name="textAreaLeft" fmla="*/ 67320 w 503280"/>
              <a:gd name="textAreaRight" fmla="*/ 435960 w 503280"/>
              <a:gd name="textAreaTop" fmla="*/ 340200 h 1944720"/>
              <a:gd name="textAreaBottom" fmla="*/ 14101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596360" y="2565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7451640" y="2492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7956720" y="220500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F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5724360" y="3213000"/>
            <a:ext cx="324036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Safe line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T-splitt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Secure 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"/>
          <p:cNvSpPr/>
          <p:nvPr/>
        </p:nvSpPr>
        <p:spPr>
          <a:xfrm>
            <a:off x="179280" y="260280"/>
            <a:ext cx="8964720" cy="66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On Safety and Security in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Rule 2 ( the temparal step ) is a "safe" transition rule:           it "senses" Contact and avoids Crashes at the basic lev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On higher levels such as Information Flow Graphs, two       resources can fit into the same space and are destroyed.    Safe or even secure nets are necessary t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SAFETY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means "avoid crashes by avoiding Contact 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SECURITY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of track  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means "keep danger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n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steps away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he measure </a:t>
            </a: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 n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of Security is explained in Part 5 (Physic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1"/>
          <a:stretch/>
        </p:blipFill>
        <p:spPr>
          <a:xfrm>
            <a:off x="2843280" y="5300640"/>
            <a:ext cx="3174840" cy="1557360"/>
          </a:xfrm>
          <a:prstGeom prst="rect">
            <a:avLst/>
          </a:prstGeom>
          <a:ln w="0">
            <a:noFill/>
          </a:ln>
        </p:spPr>
      </p:pic>
      <p:pic>
        <p:nvPicPr>
          <p:cNvPr id="1549" name="" descr=""/>
          <p:cNvPicPr/>
          <p:nvPr/>
        </p:nvPicPr>
        <p:blipFill>
          <a:blip r:embed="rId2"/>
          <a:stretch/>
        </p:blipFill>
        <p:spPr>
          <a:xfrm>
            <a:off x="3851280" y="5300640"/>
            <a:ext cx="1168560" cy="1557360"/>
          </a:xfrm>
          <a:prstGeom prst="rect">
            <a:avLst/>
          </a:prstGeom>
          <a:ln w="0">
            <a:noFill/>
          </a:ln>
        </p:spPr>
      </p:pic>
      <p:sp>
        <p:nvSpPr>
          <p:cNvPr id="1550" name=""/>
          <p:cNvSpPr/>
          <p:nvPr/>
        </p:nvSpPr>
        <p:spPr>
          <a:xfrm>
            <a:off x="2916360" y="3429000"/>
            <a:ext cx="208728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643280" y="4076640"/>
            <a:ext cx="450072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ere, our tool is  </a:t>
            </a: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Rule</a:t>
            </a:r>
            <a:r>
              <a:rPr b="1" i="1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3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6756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Rule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ows how to map a Net to another Net in one step.   New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ncep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be introduced in a simple way by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AP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Rule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mands only that such a Map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ntinuo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( does not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a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row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low-respec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 does not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inve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row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( “continuous” as commonly used in Mathematics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( explained in detail in section on TOPOLOGY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/>
          <p:nvPr/>
        </p:nvSpPr>
        <p:spPr>
          <a:xfrm>
            <a:off x="0" y="2602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1116000" y="2060640"/>
            <a:ext cx="69850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ime to Switch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54" name=""/>
          <p:cNvSpPr/>
          <p:nvPr/>
        </p:nvSpPr>
        <p:spPr>
          <a:xfrm>
            <a:off x="324000" y="6381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BASIC NET OPERATIONS and NET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. . . just to remind you . . 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rcRect l="9197" t="0" r="13273" b="0"/>
          <a:stretch/>
        </p:blipFill>
        <p:spPr>
          <a:xfrm>
            <a:off x="1258920" y="907920"/>
            <a:ext cx="626580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118728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66"/>
                </a:solidFill>
                <a:latin typeface="Arial"/>
              </a:rPr>
              <a:t>we are here</a:t>
            </a:r>
            <a:endParaRPr b="0" lang="en-US" sz="39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rcRect l="9197" t="0" r="13273" b="0"/>
          <a:stretch/>
        </p:blipFill>
        <p:spPr>
          <a:xfrm>
            <a:off x="1258920" y="907920"/>
            <a:ext cx="6265800" cy="54738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rcRect l="9250" t="0" r="13188" b="0"/>
          <a:stretch/>
        </p:blipFill>
        <p:spPr>
          <a:xfrm>
            <a:off x="1258920" y="907920"/>
            <a:ext cx="6265800" cy="54738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 rot="1490400">
            <a:off x="-11160" y="3328560"/>
            <a:ext cx="1548000" cy="720720"/>
          </a:xfrm>
          <a:prstGeom prst="rightArrow">
            <a:avLst>
              <a:gd name="adj1" fmla="val 50000"/>
              <a:gd name="adj2" fmla="val 5369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Our tool is  </a:t>
            </a: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Rule</a:t>
            </a:r>
            <a:r>
              <a:rPr b="1" i="1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3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Rule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mands only that such a Map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ntinuo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( don’t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a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row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low-respec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 don’t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inve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row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556000" y="4797360"/>
            <a:ext cx="1800000" cy="792360"/>
          </a:xfrm>
          <a:prstGeom prst="cloudCallout">
            <a:avLst>
              <a:gd name="adj1" fmla="val -48939"/>
              <a:gd name="adj2" fmla="val 106912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916360" y="4869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20202"/>
                </a:solidFill>
                <a:latin typeface="Tahoma"/>
              </a:rPr>
              <a:t>? ?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627280" y="6534000"/>
            <a:ext cx="504720" cy="648000"/>
          </a:xfrm>
          <a:prstGeom prst="irregularSeal1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rcRect l="0" t="0" r="0" b="15336"/>
          <a:stretch/>
        </p:blipFill>
        <p:spPr>
          <a:xfrm>
            <a:off x="755640" y="5978520"/>
            <a:ext cx="2120760" cy="112248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5219640" y="4005360"/>
            <a:ext cx="280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Rule 3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      A'   id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      F'    id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003640" y="3933720"/>
            <a:ext cx="2881440" cy="2087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659640" y="4437000"/>
            <a:ext cx="433440" cy="27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24360" y="479736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24360" y="5445000"/>
            <a:ext cx="432000" cy="287640"/>
          </a:xfrm>
          <a:prstGeom prst="rightArrow">
            <a:avLst>
              <a:gd name="adj1" fmla="val 50000"/>
              <a:gd name="adj2" fmla="val 3754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360" y="4653000"/>
            <a:ext cx="2592360" cy="12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148360" y="5229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59640" y="5373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20:51:50Z</dcterms:created>
  <dc:creator>Petri</dc:creator>
  <dc:description/>
  <dc:language>en-US</dc:language>
  <cp:lastModifiedBy>Petri</cp:lastModifiedBy>
  <dcterms:modified xsi:type="dcterms:W3CDTF">2004-09-26T16:24:51Z</dcterms:modified>
  <cp:revision>75</cp:revision>
  <dc:subject/>
  <dc:title>PART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