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arrow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D69-B248-4B5D-BFEF-F15E917E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928-EBB7-44C1-B390-12777592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C46F5-552B-46E5-B2DA-9A50095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43B3E-E11C-4429-A941-C525F15F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FFB94-1021-47C0-A88E-3FDF3451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73CDA-B5AA-4C34-9E34-E8894B9C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23D5C-7653-473B-9F30-B62EC9C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3936B-ADD8-4876-A0E0-46F48DD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C9C77-41AA-4EC8-8DF0-AEB0236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10A93-C189-4068-9066-00D5DCE4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F095A-E79B-4946-9F2A-B41BE019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9DF20-84D1-4F2F-9074-FE4457DB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748-479E-4CE8-BE3B-8B9DEBFF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C2F6C-A948-4637-85A5-A91EA68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FB646-B31C-4914-9DC3-7F02C6F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9388F-FDD9-40CA-A201-9BC4B374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C792B-F661-40E2-A084-F36C0EF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15A4-6BA9-4B2F-9268-7D2BA13B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FD484-82CD-473D-B725-C8E2BE4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6DC01-51C1-4B73-B7C2-B04ECF5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93D2A-B1F5-4ED9-B735-1E3DF0E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6B299-F560-4CD4-857E-FB1A6ADE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866DF-A2F5-4A4B-95CE-3F73BB51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D58-0DA9-415F-AC16-2CB161AC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A0FE-1E7F-4949-B33C-EE4519DB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76765-24B1-44C1-965E-02270609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339B-27CC-4BDC-997D-D975BEC8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B0DB4-234E-43FE-8383-82C68134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162C7-1CBF-407F-97A6-748B604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FA607-067D-4FF1-8B07-583A054A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D902-CCFE-4123-B8B0-06E6DA2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7A719-BE44-425D-9692-86E1CA1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8A3-3FA1-435A-8CEE-DD69FFE0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29B70-A61F-4F82-B35C-74D670A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44A66-D129-40E3-A772-4902826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DC782-A2E5-4C17-A069-156DB66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FB136-9E40-47C2-8401-A5EFD01C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7BA37-3618-49F6-B776-B8EE5A6D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6B1D-32B7-4D79-9300-595719CF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98CF-FE30-4F2F-A915-2BB69EF3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09AB-917C-414B-BE84-141A6969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B3E2-4D0E-4902-BFF4-E00998A0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7D96-B66B-45A0-87D0-DCC39D42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CDB-E396-44C1-AF9C-46A6D39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8D399-2504-421F-A9B5-53334E4D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BD8F-C53F-4E1F-B507-0DC80016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7ED5-6FEB-4E2D-8179-2677D87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FD67-04FD-4E2C-B808-54530F1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5434-9880-407B-8746-DA015AF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FA64-BE7D-415E-82FB-45DA0E03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DA7F-4565-48DF-B873-67DF7E4D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9618-38E3-4387-9C98-B5D88C6A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E23B-3C84-41C4-9F77-FAA9B081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27777-F8A2-404D-89CD-17E1D86A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4A2-1B68-438A-BD19-9BE4A18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CCA7-BED9-41FE-9840-A8990A7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656BB-B216-4D9C-8BAE-3AEDC27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5884-A201-4550-89C0-169F3337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5B0B-1B22-4D4B-90F7-338DEED4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E684-9E5B-4FA3-9339-B9AED4A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ADFE6-48A6-4D36-A12D-767EE9E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602F-F080-4A07-8F74-1A45ACC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7AF85-EA93-40F2-B4BC-EC6E8FF7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7F1C-C9F3-409F-A4C9-86C81716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C69BD-FDC9-4958-ACF3-AE28DE2F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B9E-673C-46B5-8CEA-EF95BAD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6BE0A-3140-439C-AB68-8BE07C36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A701-0004-4B9A-95AF-EEEE8356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1CE5-C391-4FCA-90BF-D9DA195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24EF-55AA-4CD3-B029-1A5D399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FB51-BD98-4D7F-A6DA-736F0F6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8596-7D37-4901-9003-B3A055D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1B40-FC65-449A-B6F4-33FCADA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5D78-B656-4A9E-8F68-924CC8C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AF7A-EC3A-47F5-B3DF-B54945D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9B641-F6DF-4026-BD72-3D89EB76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486-8180-4FD5-820C-DFA63CAD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10701-1276-4DAD-9F8D-7179015F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84CD-F9EE-434E-AA5B-DEEED2D7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D5E87-5034-42FB-806B-7BD95780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EF86C-C7F5-4908-B647-065765F9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200D-7889-44AF-A5B5-0D50483E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D2F73-AE45-4632-ABAD-81B6217E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5947-0200-4D98-BFB3-410C5DDF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9A55-5492-4FB0-97BD-11072FFE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886F-60E8-4E6B-8808-B4FEDDB5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0F1DA-C17D-4FDA-AFF2-FC757100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567-F678-46D2-B052-B15B647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FE92-4FEB-44B0-949A-D2A6C93F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3471C-6445-4F70-AADA-B6958306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DCFF7-54EB-4467-B3E8-C21D1C57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0745D-F5FA-40D8-84B0-56907542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E3591-5813-4997-9400-F2386244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39728-81B6-41A3-A4AB-3FA09852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E980-0A8B-4E1F-9FA0-57916D8D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A03D9-726B-42AE-8CEF-050638AC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27CF-A24A-4FBB-811A-5C3103D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24F48-BCF9-41EB-B540-E3A5E076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392-325F-43C5-A737-C120152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45CF2-354C-4C69-AAF7-97DDCA8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ECFE0-FE9B-41CE-ACCF-CB71E0A2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E60E6-5ECF-4C45-AD4C-9035D950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00B38-5E9D-4CF1-98DF-F19F89F1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B646-4495-461E-BCC4-2C084E12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AE619-6A32-4FAC-BDC8-5AF9BAC4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FF09C-F4EB-4C70-BDE5-6938DD3D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102FE-3C02-41AB-A2BE-925DC051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18005-00B2-46D1-8B03-82BFCD94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E0E5F-198B-42CF-A52A-46E3BBA7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27B-D7B8-4279-93F5-41C3FC1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74671-B157-44A6-9471-30BA1C2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CC202-DF30-49E2-96AB-049BDC9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35A1-48AA-4830-AF11-5B110A4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7F754-5260-4B7C-AE54-6C87152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24F60-9AF3-4305-8EAA-37E77849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F4A3C-1146-402B-A7D4-7B015CBA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8597B-D198-4F72-9CE0-B4240127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43CFB-7990-4F1E-8A67-FAF1D3CF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4515F-3771-4693-A48F-99C8E060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4847F-99F1-486D-AE7E-F3208A3B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A75-920E-4236-8BBA-28FC414D4C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29C0-2A77-4475-803F-4ACF172E7F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993-8641-4A39-BFC7-20BFFB7407E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115-C0C1-4005-A4E6-7FDA187842F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14D6-6F90-49D2-96D2-4569EFE45AF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BB2-AD03-4BFC-B9C6-98B6ADDBA89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271D-ADDE-4194-A0A8-15ADB334F6F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61DD-CB84-4C87-8775-29FC8562ABA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6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B80C-BAD8-4169-9067-B2C7CC0C5A7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619-05CB-4D6C-B3C1-5FC9CD86C8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627280" y="2924280"/>
            <a:ext cx="40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Pragmatik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5"/>
          <a:stretch/>
        </p:blipFill>
        <p:spPr>
          <a:xfrm>
            <a:off x="0" y="-1738440"/>
            <a:ext cx="9144000" cy="8983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6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5"/>
          <a:stretch/>
        </p:blipFill>
        <p:spPr>
          <a:xfrm>
            <a:off x="0" y="-892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6"/>
          <a:stretch/>
        </p:blipFill>
        <p:spPr>
          <a:xfrm>
            <a:off x="0" y="-243000"/>
            <a:ext cx="6991200" cy="770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5"/>
          <a:stretch/>
        </p:blipFill>
        <p:spPr>
          <a:xfrm>
            <a:off x="0" y="-1738440"/>
            <a:ext cx="9144000" cy="898380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24000" y="260280"/>
            <a:ext cx="849600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inem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 Informations-Strom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önnen wir auf verschiedene Weisen gegenübertreten:    Wir halten ihn fü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- völlig vorhersagb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- völlig unvorhersagb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- völlig wertl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- Fragen, Formula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- Antworten auf Frag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- verschwom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schformen sind häufig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ese Aspekte bezeichnen 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Pragmatischen Status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es  Strom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relativ zu Person und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24000" y="476280"/>
            <a:ext cx="8496000" cy="61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inem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 Informations-Strom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önnen wir auf verschiedene Weisen gegenübertreten:    Wir halten ihn fü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öllig vorhersagbar: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ENLOGIE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öllig unvorhersagbar: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DYSLOGIE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öllig wertlos:     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ALOGIE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Fragen,  Formula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Antworten auf Fra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erschwommen: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ANALOGIE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Vorhersagbarkeit hängt von Fähigkeiten ab,     "Wert" ebenso von Person und Situ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24360" y="34225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24360" y="3645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DIALOGIE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03640" y="3429000"/>
            <a:ext cx="576360" cy="1008000"/>
          </a:xfrm>
          <a:custGeom>
            <a:avLst/>
            <a:gdLst>
              <a:gd name="textAreaLeft" fmla="*/ 0 w 576360"/>
              <a:gd name="textAreaRight" fmla="*/ 208080 w 576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24000" y="0"/>
            <a:ext cx="8496000" cy="72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                          </a:t>
            </a: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</a:rPr>
              <a:t>BEISPI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öllig vorhersagbar: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ENLOGIE"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00000… , leeres Pap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öllig unvorhersagbar: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DYSLOGIE"       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"Zufallszahlen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öllig wertlos:     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ALOGIE"  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pam, Müll, Papierko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Fragen,  Formula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Antworten auf Fragen:                                       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"Information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66ffff"/>
                </a:solidFill>
                <a:latin typeface="Arial"/>
              </a:rPr>
              <a:t>- verschwommen: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ANALOGIE"      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igital dargestellte Analogsig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24360" y="34225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24360" y="4292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"DIALOGIE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03640" y="3933720"/>
            <a:ext cx="576360" cy="1224000"/>
          </a:xfrm>
          <a:custGeom>
            <a:avLst/>
            <a:gdLst>
              <a:gd name="textAreaLeft" fmla="*/ 0 w 576360"/>
              <a:gd name="textAreaRight" fmla="*/ 208080 w 576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0" y="5444640"/>
            <a:ext cx="9144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755640" y="278136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Auf der Bit-Ebe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9640" y="620640"/>
            <a:ext cx="8280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Enlogi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t für die Darstellung von   Information begrifflich notwen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erfügbarkeit von </a:t>
            </a: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En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t für die   Verarbeitung von Information notwen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En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t ein knappes Betriebsmittel.         Der Aufwand, verbrauchte Enlogie wieder   zu gewinnen, ist gleich dem Aufwand    beim Verbrau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i Recycling von </a:t>
            </a: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En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entsteht keine    </a:t>
            </a: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A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Garb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549360"/>
            <a:ext cx="8424720" cy="597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95280" y="1773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95280" y="5229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549360"/>
            <a:ext cx="82090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Dys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st im kritischen Fall ein äußerst knappes Betriebsmittel. Nur sie hat den vollen (Shannon-) "Informationsgehalt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A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verursacht Kosten. Diese können nur beim Entstehen vermieden we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Dia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 nur zwischen großen Syst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00b6"/>
                </a:solidFill>
                <a:latin typeface="Arial"/>
              </a:rPr>
              <a:t>Analogi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unterliegt wesentlich dem Unbestimmheits-Prinzip der Physik.           Die Unschärfe bleibt bei Umformungen  bestehen oder wächst 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9528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95280" y="342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95280" y="414972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76360" y="692280"/>
            <a:ext cx="61912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iese Aussagen lassen si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GB" sz="4000" spc="-1" strike="noStrike">
                <a:solidFill>
                  <a:srgbClr val="cc0000"/>
                </a:solidFill>
                <a:latin typeface="Arial"/>
              </a:rPr>
              <a:t>mit Vorsicht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 höhere Gefilde übertrage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rcRect l="22268" t="6395" r="7915" b="6431"/>
          <a:stretch/>
        </p:blipFill>
        <p:spPr>
          <a:xfrm>
            <a:off x="0" y="3328920"/>
            <a:ext cx="9144000" cy="35290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8459640" y="6093000"/>
            <a:ext cx="433440" cy="360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rcRect l="28641" t="0" r="287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11280" y="544500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122000">
            <a:off x="-360" y="646092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gmat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768600">
            <a:off x="264600" y="5877000"/>
            <a:ext cx="22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akt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476400">
            <a:off x="1077480" y="4649760"/>
            <a:ext cx="287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mant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24000" y="2205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ragmati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16000" y="549360"/>
            <a:ext cx="47322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800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MIOTI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rcRect l="18018" t="0" r="9714" b="25371"/>
          <a:stretch/>
        </p:blipFill>
        <p:spPr>
          <a:xfrm rot="501600">
            <a:off x="3779640" y="2852640"/>
            <a:ext cx="1800000" cy="13161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3"/>
          <a:srcRect l="22268" t="6395" r="7915" b="57342"/>
          <a:stretch/>
        </p:blipFill>
        <p:spPr>
          <a:xfrm>
            <a:off x="0" y="5389560"/>
            <a:ext cx="9144000" cy="146844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468360" y="134136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rhaltungssatz für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rcRect l="5904" t="0" r="0" b="0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468360" y="40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ZUR VOLLSTÄNDIGEN SEMIOTISCHEN ANALY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48360" y="602136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BERLIN  1955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rcRect l="28641" t="0" r="287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11280" y="544500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122000">
            <a:off x="-360" y="646092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gmat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768600">
            <a:off x="264600" y="5877000"/>
            <a:ext cx="22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akt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476400">
            <a:off x="1077480" y="4649760"/>
            <a:ext cx="287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mant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124000" y="2205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ragmati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028000" y="4365720"/>
            <a:ext cx="576360" cy="431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236000" y="292428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hematische </a:t>
            </a:r>
            <a:r>
              <a:rPr b="0" lang="en-GB" sz="1800" spc="-1" strike="noStrike">
                <a:solidFill>
                  <a:srgbClr val="33cccc"/>
                </a:solidFill>
                <a:latin typeface="Arial"/>
              </a:rPr>
              <a:t>…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agmat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317080" y="3716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067280" y="364500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Semantischer </a:t>
            </a: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Abgr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76720" y="4724280"/>
            <a:ext cx="433440" cy="576360"/>
          </a:xfrm>
          <a:prstGeom prst="downArrow">
            <a:avLst>
              <a:gd name="adj1" fmla="val 50000"/>
              <a:gd name="adj2" fmla="val 3324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rcRect l="32839" t="6948" r="52841" b="460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00360" y="3213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cc"/>
                </a:solidFill>
                <a:latin typeface="Arial"/>
              </a:rPr>
              <a:t>Schwieriges Geländ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0" y="-1738440"/>
            <a:ext cx="9144000" cy="89838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6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0" y="-892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0" y="-243000"/>
            <a:ext cx="6991200" cy="770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0" y="-1738440"/>
            <a:ext cx="9144000" cy="89838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6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843280" y="6308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88000" y="479736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84360" y="3141720"/>
            <a:ext cx="158292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00360" y="3357720"/>
            <a:ext cx="11509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203280" y="4653000"/>
            <a:ext cx="73080" cy="22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7164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Pri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340000" cy="2131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556000" y="1484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BI-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rcRect l="0" t="0" r="0" b="4479"/>
          <a:stretch/>
        </p:blipFill>
        <p:spPr>
          <a:xfrm>
            <a:off x="2195640" y="4626000"/>
            <a:ext cx="3168360" cy="223200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825920" cy="24210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0" y="-892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6"/>
          <a:stretch/>
        </p:blipFill>
        <p:spPr>
          <a:xfrm>
            <a:off x="0" y="-243000"/>
            <a:ext cx="6991200" cy="770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8:57Z</dcterms:created>
  <dc:creator>C.A.Petri</dc:creator>
  <dc:description/>
  <dc:language>en-US</dc:language>
  <cp:lastModifiedBy>Petri</cp:lastModifiedBy>
  <dcterms:modified xsi:type="dcterms:W3CDTF">2004-09-26T17:26:10Z</dcterms:modified>
  <cp:revision>92</cp:revision>
  <dc:subject/>
  <dc:title>Net Modelling</dc:title>
</cp:coreProperties>
</file>