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arrow.wav" ContentType="audio/x-wav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C5C-49DD-45D5-A51F-15E0493F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1A0-D46B-4A29-A3FF-348FE27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48588-4F8E-48E8-9D8E-46ECEE59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60F41-EBE3-4FD0-A53E-10D5ECF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1582D-D30B-4FB9-9358-84D4B616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EAD5D-3DD3-4A87-9A2C-6C30090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40654-EA6F-4841-85A4-28FA9C7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83942-2470-4595-B695-5B3F340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B50E-DB52-4025-B743-6770486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6C915-E2C0-430B-9774-F1E6B652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924C4-1495-4855-B366-7DB4EF8C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81A16-B91D-4B8C-9BC1-B050674F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A3E-5ADB-4CEB-8E86-21C904E9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48DE3-2821-406B-AC99-3755D7F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8E116-0FF2-4F26-8E6C-4115A1AB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345E1-E30C-4FAC-8D92-A327FF70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A4291-99AD-4D10-A873-CB8ECB36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CB41-1C2E-4869-B0AF-1249082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EED08-C263-4251-B32D-F47A3ECD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B9B67-D439-4513-B0E1-35A3CBB3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86E5C-206E-432E-BC23-529EF05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3942E-DB92-4057-97A9-8A0A5EE6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5608E-BF3B-4508-9C92-16BACBA6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BFD-F336-4E38-AE37-2A8007F7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58AA2-297E-41AD-AD25-CDDAEA84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1081-E926-4464-8DAC-06C22725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ED9CD-8A91-4F5A-975C-E96B431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EE608-37AB-43FD-8FBD-218BBA15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AD467-D58A-4C7D-A3C2-4155DE64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6F96C-6489-4EA9-AA07-1ABD975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96297-3794-4096-A437-00F9BC43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72D1-794A-4E1C-AD3E-C81C872C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20A44-9AB9-4AAF-A0A5-262598D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AF2C4-123D-4AA1-93F5-AB20C82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5444-9C60-4CEF-8365-85E23504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E8823-6B99-4E4F-B203-C91ECE5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EA90E-79AA-4631-9089-F9684473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BCD8-81EB-402A-A80A-BED333B7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FBB2C6-B079-433B-91D1-283C7981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DCDCE9-FCEC-413B-9759-BDC19B7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65EFE7-8994-40C6-A3EC-6B7BEBD1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57CC62-ACAF-4F77-B959-4870BEC9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D2EB71-7114-4708-B475-9663FF4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A43E4C-54FB-456E-96E8-BD95CD94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982697-2C0D-449F-8594-D8015773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BEB-E91B-43D1-972E-170FE43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E8E751-B65D-4BE0-B244-F5177FD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C43A3E-7C46-4BE0-B4C9-4D7C2EE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3900DC-8BBF-49DF-9970-0A354D60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D5BEF-F605-4661-A3E8-F589100B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DB0481-E247-4020-87BC-DA043F8E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9CA-A7B1-4B8B-AB39-87D077D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664-AF08-40F4-99D1-05281B94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E387-A256-4168-AC9F-0A0E2B1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ED0D-6B54-4C3A-9783-3ACDAF8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57D-3E07-4566-BE5E-8025CCB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6FC-E3BC-4580-8408-AC8E526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47B-EAC0-4A77-8EC1-FE8BFB0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02D-356F-47D7-8D71-09D21D2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3B0C-AFFC-495E-88BD-5FF47EF2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FB2-4237-48DE-986A-3C7A6F39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E8F8-7AFD-430A-AD04-11C8684D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34398-4333-41B3-8747-A9A059DD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8360D-4FD0-4D78-B3B1-8491B20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7C928-BC78-43D9-8D67-0E8EF242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9F162-0798-4D4B-B899-77E786AD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AED08-A674-44C0-B24C-9756E5FC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C05-BD21-4B36-9CF3-45D7A821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B08F5-DEAE-43BF-AE4E-DD7BC428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2D445-31EF-4BDD-B0CB-D657CB81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A2CD4-C9A5-44CD-968B-4203CC9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C4617-5186-4960-8661-C31247A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A193-E80F-491A-B37F-0054AB4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D4942-CD44-4355-B824-35AACA93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13B33-D6CA-4DF4-8E6A-89916341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B240-DA38-4239-876A-53EA2148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3A8C-325C-4983-BD9F-797C6D8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7C82-ECD2-4869-B0FE-66EEB580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E2B-62B8-47A6-BBC7-0586C79B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4674-3706-4C4F-817F-9D82A3C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8E99B-F087-4259-BA17-188D3522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DA273-9A65-4432-8D5C-4A8F8EA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3FF6-C677-4D67-B6DC-555D1266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0D37-58AF-41CF-91DA-F03AF1B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B63D-709C-49BF-AE88-2E39A5A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9309-87EE-4AD3-A10F-67D4DEE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390B-7928-4C82-A4C6-DC35D94B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0C67-12FB-467D-8213-C54069EB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3EBB-A969-4FB2-8326-ECC1388E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AC4-E4FF-483C-BDB0-D543DF2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E3690-2712-4023-BE9C-BF2A44BC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5AD6-17E3-45FF-BFA1-084E6C5F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7A8C-483A-45C0-A1CE-2CD3A84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6D1F-094A-4CD0-8427-A7DA625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FE2B9-628D-4EFA-BB39-63488C7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1C2D-5554-4CE7-96B2-A51363C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C262-0F95-4AFB-9DC8-99C0E5C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865BD-8C29-4FFF-8B44-F9B43204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4E4DC-4EA9-4687-B5BA-8EB76FC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EAFD2-BAE9-4BE4-92E1-3095CDF6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243-26AC-4E04-B53A-08A1306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C38B-4973-4FFC-8308-BD8D9AB8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EEB7-A565-48FD-B376-25003F74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DFC0-B9C1-4360-8F27-016CD759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A351-8857-455D-B3E2-33FD2B2B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57772-4849-4065-BE9E-F26629CF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BDCE-25D6-493B-AA95-3D4CC819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74D0B-D4E7-4299-98D9-CC79D7C5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CCCC-264B-45A3-ACE5-58E0B3FD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0E04-DDC1-47CD-8D05-B8F78178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2AE5-2ED0-4C6D-A6F1-595D04F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46C-33D1-498D-A216-826E79E7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8F96-F476-4F28-A4EA-C7F8F65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D8380-A750-4909-91D1-5859DE33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A2AD4-BE37-46F0-9602-6B7A57CD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74B3-958C-4A85-B9D1-F5A08496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C3D56-6D21-4A6F-AFC1-7AF23EC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8643-9EE8-4B45-B117-85B223D3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E2FF-5B0F-48EF-8F13-E4E19851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5FBD-9F3C-4342-85D9-B1ECDAB9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BD28-8E80-4AE2-991E-50F345C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5E7BB-F9E9-45ED-88EB-9754F54C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929-BE4E-4C9B-8AAA-83ECD57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6DA53-7C8B-4186-8C09-8EDDD88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128ED-AFD0-41F0-B9C3-FAAD49FE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8A33-4CB8-44E4-A39C-955C9E7B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85842-8368-4690-968E-C5219F9C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FF9BB-8F7F-47C1-B12B-C2D23E8E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74D7-3F4D-4B71-9263-5E4484AE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AC5C3-1582-47BF-8F85-FE3E0F14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34D57-D2F6-45C1-9E09-BB6EB762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22D0-C651-45E6-9AB3-311582A1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B4296-4734-438E-A738-E12F5E5D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FC9-97EE-48D1-A64B-9AD851C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43BF8-D2F0-47C3-8246-1C396469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3ECD-E779-4331-92ED-52D3391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0986C-B032-46BA-BCB1-12CB3B5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81EF-DC3E-4514-8C97-D46F87A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2080-5888-4F02-81F2-67E651ED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5790-B78F-49F6-A0E5-177ACDD0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636F5-DDEA-4010-8515-72D4B9B6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7905-B032-49BA-89D9-98F0A6F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95D67-0CC6-4B9E-8544-001A295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5F25-5DC2-4A9F-9628-75AFA2D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CC60-BEAF-449E-B822-101861E07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65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6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6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66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0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5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5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76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77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D1E4-4918-4AB9-B0AF-D0E0DDDEE8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2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2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4F30-50A6-40B2-A993-2443989C66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8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8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8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A2A6-AE02-4DE6-AE67-13AFC0106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39F-8D07-4FF9-86A5-4336CA31E7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311-2468-4E17-A6BB-F8DAD56DBE0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510E-9E09-4F84-BF7D-B2D24CD845E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24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28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53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6AF-1D14-454B-8D2E-23960661E53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02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6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B38C-925D-408F-9668-F43CF6AAC78F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9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0B3-215C-4F71-B974-8B5D2FEF053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663C-8E11-4AF3-BA4F-792D0C8A875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9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0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4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4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8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9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0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61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A5F4-A6DA-451E-AC40-20F8FD6BFD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SIMILARIT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om Similarity Structures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Nets, and back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 and Ke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9482-86E4-44BF-8CE1-D9E58797F0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1"/>
          <a:srcRect l="0" t="26249" r="0" b="32237"/>
          <a:stretch/>
        </p:blipFill>
        <p:spPr>
          <a:xfrm>
            <a:off x="826920" y="83664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1187280" y="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바탕"/>
              </a:rPr>
              <a:t>Illustration of a Ken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26920" y="5516640"/>
            <a:ext cx="7345440" cy="134136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2"/>
          <a:stretch/>
        </p:blipFill>
        <p:spPr>
          <a:xfrm>
            <a:off x="4140360" y="5516640"/>
            <a:ext cx="4032000" cy="134136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900000" y="566100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ath in a connected Kenning is formed like a sequence of Net Ev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385-2E14-4F39-8BBC-0715B1DE6E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F8F-5428-45BA-AA99-D073F752CFF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468360" y="5445000"/>
            <a:ext cx="8064360" cy="1152720"/>
          </a:xfrm>
          <a:prstGeom prst="parallelogram">
            <a:avLst>
              <a:gd name="adj" fmla="val -910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5084640"/>
            <a:ext cx="1152360" cy="1008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268360" y="522936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692360" y="5300640"/>
            <a:ext cx="11523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042920" y="537372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987640" y="522936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59280" y="501336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4000" y="5300640"/>
            <a:ext cx="11523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580000" y="515772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356000" y="530064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148360" y="5373720"/>
            <a:ext cx="115236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227640" y="5229360"/>
            <a:ext cx="1152720" cy="10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50920" y="5661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ff66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84360" y="3789360"/>
            <a:ext cx="180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24000" y="4341960"/>
            <a:ext cx="550800" cy="250560"/>
          </a:xfrm>
          <a:custGeom>
            <a:avLst/>
            <a:gdLst/>
            <a:ahLst/>
            <a:rect l="l" t="t" r="r" b="b"/>
            <a:pathLst>
              <a:path w="347" h="158">
                <a:moveTo>
                  <a:pt x="0" y="60"/>
                </a:moveTo>
                <a:cubicBezTo>
                  <a:pt x="45" y="109"/>
                  <a:pt x="91" y="158"/>
                  <a:pt x="136" y="151"/>
                </a:cubicBezTo>
                <a:cubicBezTo>
                  <a:pt x="181" y="144"/>
                  <a:pt x="242" y="23"/>
                  <a:pt x="272" y="15"/>
                </a:cubicBezTo>
                <a:cubicBezTo>
                  <a:pt x="302" y="7"/>
                  <a:pt x="347" y="98"/>
                  <a:pt x="317" y="105"/>
                </a:cubicBezTo>
                <a:cubicBezTo>
                  <a:pt x="287" y="112"/>
                  <a:pt x="106" y="52"/>
                  <a:pt x="91" y="60"/>
                </a:cubicBezTo>
                <a:cubicBezTo>
                  <a:pt x="76" y="68"/>
                  <a:pt x="220" y="158"/>
                  <a:pt x="227" y="151"/>
                </a:cubicBezTo>
                <a:cubicBezTo>
                  <a:pt x="234" y="144"/>
                  <a:pt x="129" y="30"/>
                  <a:pt x="136" y="15"/>
                </a:cubicBezTo>
                <a:cubicBezTo>
                  <a:pt x="143" y="0"/>
                  <a:pt x="249" y="53"/>
                  <a:pt x="272" y="60"/>
                </a:cubicBezTo>
              </a:path>
            </a:pathLst>
          </a:custGeom>
          <a:noFill/>
          <a:ln w="28440">
            <a:solidFill>
              <a:srgbClr val="989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619280" y="5229000"/>
            <a:ext cx="649080" cy="144360"/>
          </a:xfrm>
          <a:prstGeom prst="line">
            <a:avLst/>
          </a:prstGeom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71640" y="5229360"/>
            <a:ext cx="792360" cy="0"/>
          </a:xfrm>
          <a:prstGeom prst="line">
            <a:avLst/>
          </a:prstGeom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140360" y="5300640"/>
            <a:ext cx="792000" cy="0"/>
          </a:xfrm>
          <a:prstGeom prst="line">
            <a:avLst/>
          </a:prstGeom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68360" y="5229360"/>
            <a:ext cx="5749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64000" y="5229360"/>
            <a:ext cx="576360" cy="71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932360" y="5013360"/>
            <a:ext cx="503280" cy="287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435640" y="5013360"/>
            <a:ext cx="288720" cy="360360"/>
          </a:xfrm>
          <a:prstGeom prst="line">
            <a:avLst/>
          </a:prstGeom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24360" y="5157720"/>
            <a:ext cx="432000" cy="287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6360" y="5157720"/>
            <a:ext cx="647640" cy="71640"/>
          </a:xfrm>
          <a:prstGeom prst="line">
            <a:avLst/>
          </a:prstGeom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04000" y="5084640"/>
            <a:ext cx="289080" cy="144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6360" y="3933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dd"/>
                </a:solidFill>
                <a:latin typeface="Arial"/>
              </a:rPr>
              <a:t>A  p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ffdd"/>
                </a:solidFill>
                <a:latin typeface="Arial"/>
              </a:rPr>
              <a:t>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GB" sz="2800" spc="-1" strike="noStrike">
                <a:solidFill>
                  <a:srgbClr val="ffffdd"/>
                </a:solidFill>
                <a:latin typeface="Arial"/>
              </a:rPr>
              <a:t>  in a  connected  Kenni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47B-D219-460B-8EBD-9EBB44F6AE5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2"/>
          <a:srcRect l="9424" t="38855" r="59817" b="19498"/>
          <a:stretch/>
        </p:blipFill>
        <p:spPr>
          <a:xfrm>
            <a:off x="0" y="0"/>
            <a:ext cx="759636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6588000" y="4724280"/>
            <a:ext cx="136872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4869000"/>
            <a:ext cx="1368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012000" y="4653000"/>
            <a:ext cx="1368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775640" y="4724280"/>
            <a:ext cx="1368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659640" y="4653000"/>
            <a:ext cx="576360" cy="71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308720" y="4724280"/>
            <a:ext cx="503280" cy="144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7812000" y="4724280"/>
            <a:ext cx="647640" cy="1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71AD-1F20-49C1-B818-34FEF13C87C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403280" y="1341360"/>
            <a:ext cx="6337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NN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SYMMET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NNEC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KENN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6804000" y="520056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468360" y="6237360"/>
            <a:ext cx="64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d"/>
                </a:solidFill>
                <a:latin typeface="Arial"/>
              </a:rPr>
              <a:t>. . . an important practical aspect of CONTINU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rcRect l="0" t="0" r="0" b="7372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8388360" y="0"/>
            <a:ext cx="755640" cy="69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2"/>
          <a:srcRect l="0" t="65737" r="0" b="0"/>
          <a:stretch/>
        </p:blipFill>
        <p:spPr>
          <a:xfrm>
            <a:off x="0" y="3284640"/>
            <a:ext cx="7451640" cy="357336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6227640" y="6453360"/>
            <a:ext cx="1152720" cy="40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3"/>
          <a:srcRect l="0" t="0" r="14334" b="0"/>
          <a:stretch/>
        </p:blipFill>
        <p:spPr>
          <a:xfrm>
            <a:off x="7548480" y="4005360"/>
            <a:ext cx="1595520" cy="285264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7451640" y="3357720"/>
            <a:ext cx="169236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C48C-ABBB-4630-A227-1F14A8D6DDB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900000" y="1197000"/>
            <a:ext cx="65516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                     Natural Numbers      can be </a:t>
            </a:r>
            <a:r>
              <a:rPr b="1" lang="en-GB" sz="4400" spc="-1" strike="noStrike">
                <a:solidFill>
                  <a:srgbClr val="ccecff"/>
                </a:solidFill>
                <a:latin typeface="Arial"/>
              </a:rPr>
              <a:t>defined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           in terms of the        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SIMILARITY 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     n+1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 rot="21387000">
            <a:off x="3563640" y="5084280"/>
            <a:ext cx="576360" cy="66672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2843280" y="4941720"/>
            <a:ext cx="2665440" cy="79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F83-651A-40C3-9B52-50B91A07E98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900000" y="1916280"/>
            <a:ext cx="65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an NETS be     likewise defined               </a:t>
            </a: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B8E-9B44-4468-A165-F46486DC7BA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1403280" y="26028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Al Co Li S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27" name=""/>
          <p:cNvSpPr/>
          <p:nvPr/>
        </p:nvSpPr>
        <p:spPr>
          <a:xfrm>
            <a:off x="539640" y="1557360"/>
            <a:ext cx="860436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T  Structure can be expressed in terms   of the following Symmetric Re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ternativity    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al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of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urrency 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co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of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ine-Sharing  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li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of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ampling       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 sm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of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ined in the vicinities of  NET ELEMENTS  S, 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29B-6231-4BFD-B463-3198C2E59BC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 txBox="1"/>
          <p:nvPr/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6C5-17E1-4CE2-9B99-4E28A05C7C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61928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940360" y="335772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69236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26920" y="3429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80400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7708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635280" y="2781360"/>
            <a:ext cx="863640" cy="792000"/>
          </a:xfrm>
          <a:prstGeom prst="rect">
            <a:avLst/>
          </a:prstGeom>
          <a:solidFill>
            <a:srgbClr val="90e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2340000" y="3573360"/>
            <a:ext cx="129528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547640" y="3213000"/>
            <a:ext cx="208764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8360" y="1989000"/>
            <a:ext cx="13669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500720" y="1988640"/>
            <a:ext cx="2303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500720" y="3213000"/>
            <a:ext cx="14396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500720" y="3573360"/>
            <a:ext cx="244764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1258560" y="2060640"/>
            <a:ext cx="576360" cy="13683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11280" y="5589720"/>
            <a:ext cx="4537080" cy="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843280" y="566100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are  a  "World Line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 F t F s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00360" y="4292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                  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2133720"/>
            <a:ext cx="28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urrently  mark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F283-152E-4DD9-B8CB-32C2390FF0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61928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940360" y="335772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69236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826920" y="3429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80400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7708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635280" y="2781360"/>
            <a:ext cx="863640" cy="792000"/>
          </a:xfrm>
          <a:prstGeom prst="rect">
            <a:avLst/>
          </a:prstGeom>
          <a:solidFill>
            <a:srgbClr val="90e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340000" y="3573360"/>
            <a:ext cx="1224000" cy="172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547640" y="3213000"/>
            <a:ext cx="208764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268360" y="1989000"/>
            <a:ext cx="13669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500720" y="1988640"/>
            <a:ext cx="2303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500720" y="3213000"/>
            <a:ext cx="14396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00720" y="3573360"/>
            <a:ext cx="2447640" cy="18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1332000" y="2060640"/>
            <a:ext cx="503280" cy="12970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58920" y="407664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979640" y="2133720"/>
            <a:ext cx="71280" cy="3095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6443280" y="213372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236000" y="2133720"/>
            <a:ext cx="0" cy="3095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443640" y="400536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411280" y="5589720"/>
            <a:ext cx="4537080" cy="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411280" y="3933720"/>
            <a:ext cx="3673440" cy="151128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340000" y="1773360"/>
            <a:ext cx="4464000" cy="7128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1476360" y="3789000"/>
            <a:ext cx="4464000" cy="14436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340000" y="1916280"/>
            <a:ext cx="3744720" cy="151272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195640" y="616572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84360" y="6093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t us blend out the F-arrows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rcRect l="0" t="0" r="0" b="531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7093080" y="0"/>
            <a:ext cx="358560" cy="3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459640" y="0"/>
            <a:ext cx="684360" cy="62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90D-0919-450E-8614-F34F85EFB7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639D-C4D2-4536-8956-A1B6B3BF9A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61928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335772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69236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826920" y="3429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04000" y="148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877080" y="522936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635280" y="2781360"/>
            <a:ext cx="863640" cy="79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332000" y="2060640"/>
            <a:ext cx="503280" cy="12970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258920" y="407664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979640" y="2133720"/>
            <a:ext cx="71280" cy="3095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443280" y="213372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236000" y="2133720"/>
            <a:ext cx="0" cy="3095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443640" y="4005360"/>
            <a:ext cx="576360" cy="1224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5589720"/>
            <a:ext cx="4537080" cy="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411280" y="3933720"/>
            <a:ext cx="3673440" cy="151128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340000" y="1773360"/>
            <a:ext cx="4464000" cy="7128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547640" y="3789360"/>
            <a:ext cx="4392720" cy="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340000" y="1916280"/>
            <a:ext cx="3744720" cy="151272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195640" y="2060640"/>
            <a:ext cx="4752720" cy="331308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476360" y="3933720"/>
            <a:ext cx="5400720" cy="158292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1547640" y="1989000"/>
            <a:ext cx="5329440" cy="165600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340000" y="2060640"/>
            <a:ext cx="4608360" cy="3168720"/>
          </a:xfrm>
          <a:prstGeom prst="line">
            <a:avLst/>
          </a:prstGeom>
          <a:ln w="76320">
            <a:solidFill>
              <a:srgbClr val="90e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1128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99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995640" y="1197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0e1f4"/>
                </a:solidFill>
                <a:latin typeface="Verdana"/>
              </a:rPr>
              <a:t>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900000" y="404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urrency  and Line-Sharing 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 txBox="1"/>
          <p:nvPr/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C32E-094C-4575-A28C-8B848C6B36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79640" y="907920"/>
            <a:ext cx="57636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50920" y="4076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900000" y="270828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804000" y="4076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940360" y="278136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659640" y="1052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924360" y="2349360"/>
            <a:ext cx="792000" cy="720720"/>
          </a:xfrm>
          <a:prstGeom prst="ellipse">
            <a:avLst/>
          </a:prstGeom>
          <a:solidFill>
            <a:srgbClr val="ecf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627280" y="2997360"/>
            <a:ext cx="1440000" cy="1079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43280" y="2924280"/>
            <a:ext cx="216072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716360" y="2708280"/>
            <a:ext cx="122400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4643280" y="1484280"/>
            <a:ext cx="2016360" cy="1008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556000" y="1413000"/>
            <a:ext cx="1439640" cy="115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476360" y="2781000"/>
            <a:ext cx="237492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1258920" y="1413000"/>
            <a:ext cx="792000" cy="129528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258920" y="3213000"/>
            <a:ext cx="865080" cy="86364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268360" y="1413000"/>
            <a:ext cx="71640" cy="266364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300720" y="3284640"/>
            <a:ext cx="647640" cy="72072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948360" y="1557360"/>
            <a:ext cx="144720" cy="251928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6156000" y="1557360"/>
            <a:ext cx="647640" cy="122400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556000" y="1197000"/>
            <a:ext cx="4103640" cy="7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211640" y="119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132000" y="333360"/>
            <a:ext cx="36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mpling-candidates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for sharing a world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042920" y="155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fc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93080" y="2276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cfc00"/>
                </a:solidFill>
                <a:latin typeface="Arial"/>
              </a:rPr>
              <a:t>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32000" y="57340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opping the  F-arrows . . .  &gt;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 txBox="1"/>
          <p:nvPr/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15EF-EB6C-4BBA-8FDF-FE410E559D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79640" y="907920"/>
            <a:ext cx="57636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50920" y="4076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00000" y="270828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804000" y="4076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940360" y="278136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659640" y="1052640"/>
            <a:ext cx="576360" cy="5047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924360" y="2349360"/>
            <a:ext cx="792000" cy="7207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1258920" y="1413000"/>
            <a:ext cx="792000" cy="129528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258920" y="3213000"/>
            <a:ext cx="865080" cy="86364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268360" y="1413000"/>
            <a:ext cx="71640" cy="266364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300720" y="3284640"/>
            <a:ext cx="647640" cy="72072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948360" y="1557360"/>
            <a:ext cx="144720" cy="251928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156000" y="1557360"/>
            <a:ext cx="647640" cy="1224000"/>
          </a:xfrm>
          <a:prstGeom prst="line">
            <a:avLst/>
          </a:prstGeom>
          <a:ln w="76320">
            <a:solidFill>
              <a:srgbClr val="ecf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56000" y="1197000"/>
            <a:ext cx="4103640" cy="7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627280" y="4365720"/>
            <a:ext cx="4176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476360" y="2997360"/>
            <a:ext cx="446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556000" y="1341360"/>
            <a:ext cx="3384360" cy="1511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476360" y="3141720"/>
            <a:ext cx="5327640" cy="1079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476360" y="1412640"/>
            <a:ext cx="5183280" cy="1439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484360" y="1413000"/>
            <a:ext cx="4319640" cy="2663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627280" y="3141720"/>
            <a:ext cx="3313080" cy="1079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627280" y="1557360"/>
            <a:ext cx="4032360" cy="2519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58920" y="530064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lternative  and  Sampling 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7956720" y="549360"/>
            <a:ext cx="792000" cy="71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95280" y="4149720"/>
            <a:ext cx="813744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The vicinity of a St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is a  Ken of  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al 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013360"/>
            <a:ext cx="2303640" cy="86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26920" y="472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39640" y="4292640"/>
            <a:ext cx="360360" cy="3585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39640" y="5229360"/>
            <a:ext cx="360360" cy="3585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258920" y="4797360"/>
            <a:ext cx="360360" cy="3589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042920" y="5229360"/>
            <a:ext cx="360360" cy="3585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95280" y="4724280"/>
            <a:ext cx="360360" cy="3589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042920" y="4292640"/>
            <a:ext cx="360360" cy="35856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03C81-2999-4CF9-B9C0-1FD623B2C28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8747280" y="2421000"/>
            <a:ext cx="792000" cy="71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547640" y="4149720"/>
            <a:ext cx="604872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The vicinity of a Transi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is a  ken of  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U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l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003640" y="5013360"/>
            <a:ext cx="1873440" cy="86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26920" y="4797360"/>
            <a:ext cx="360360" cy="35892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436572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5280" y="472428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16000" y="4365720"/>
            <a:ext cx="360360" cy="35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58920" y="479736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16000" y="515772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11280" y="5157720"/>
            <a:ext cx="360360" cy="3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851D7-51A6-43AA-95FE-0CB010428B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755640" y="476280"/>
            <a:ext cx="806436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verlapping of those Kens    constitutes  the Topology of a N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ebf25a"/>
                </a:solidFill>
                <a:latin typeface="Arial"/>
              </a:rPr>
              <a:t>See how a Similarity Structure                  is transformed into a Net Top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175" name=""/>
          <p:cNvSpPr/>
          <p:nvPr/>
        </p:nvSpPr>
        <p:spPr>
          <a:xfrm>
            <a:off x="6443640" y="4076640"/>
            <a:ext cx="1800360" cy="1728720"/>
          </a:xfrm>
          <a:prstGeom prst="ellipse">
            <a:avLst/>
          </a:prstGeom>
          <a:noFill/>
          <a:ln w="57240">
            <a:solidFill>
              <a:srgbClr val="21b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804000" y="4437000"/>
            <a:ext cx="1081080" cy="1008000"/>
          </a:xfrm>
          <a:prstGeom prst="ellipse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6588000" y="4581000"/>
            <a:ext cx="14472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19280" y="638172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or details, see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PART 6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( on Measuremen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7093080" y="4221000"/>
            <a:ext cx="21564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740720" y="4437000"/>
            <a:ext cx="2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588000" y="5013360"/>
            <a:ext cx="14472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740720" y="5445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7092720" y="5444640"/>
            <a:ext cx="21564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380360" y="5444640"/>
            <a:ext cx="21600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59640" y="5445000"/>
            <a:ext cx="28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885080" y="5013360"/>
            <a:ext cx="14292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5080" y="4581360"/>
            <a:ext cx="14292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6659640" y="4508640"/>
            <a:ext cx="28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 flipV="1">
            <a:off x="7380000" y="4221000"/>
            <a:ext cx="144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00360" y="479736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651640" y="4797360"/>
            <a:ext cx="502920" cy="287280"/>
          </a:xfrm>
          <a:prstGeom prst="rightArrow">
            <a:avLst>
              <a:gd name="adj1" fmla="val 50000"/>
              <a:gd name="adj2" fmla="val 43766"/>
            </a:avLst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6000" y="5661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524720" y="5300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443640" y="5300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956720" y="530064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956720" y="436572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236000" y="4005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443640" y="4365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948360" y="5300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24720" y="4365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948360" y="4365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740720" y="4797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659640" y="4797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C3952-7F9E-4448-A436-291B84A7E2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627280" y="2349360"/>
            <a:ext cx="3457440" cy="4508640"/>
          </a:xfrm>
          <a:prstGeom prst="can">
            <a:avLst>
              <a:gd name="adj" fmla="val 29879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10800000"/>
          </a:gra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419640" y="2637000"/>
            <a:ext cx="1873080" cy="792000"/>
          </a:xfrm>
          <a:prstGeom prst="ellipse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3743280" cy="156204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 rot="20926200">
            <a:off x="2484360" y="1412640"/>
            <a:ext cx="1274760" cy="16380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395280" y="333360"/>
            <a:ext cx="3097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ahoma"/>
              </a:rPr>
              <a:t>Safe stepping !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3"/>
          <a:stretch/>
        </p:blipFill>
        <p:spPr>
          <a:xfrm>
            <a:off x="324000" y="5789520"/>
            <a:ext cx="1800000" cy="10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4B7C-CCAF-4A11-90B7-91E1CD2A0C2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755640" y="476280"/>
            <a:ext cx="806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T Theory can be reconstructed from an Axiom System for the Symmetries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al-co-li-sm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up to 1 bit  ( Time direction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564000" y="4149720"/>
            <a:ext cx="52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124000" y="3357720"/>
            <a:ext cx="49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d indeed everyone has to use                                         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the PERCEPTIONS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ternatives of imminent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arness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arness i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ities of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031F8-4583-4D2B-A22D-B2CD284CAF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755640" y="1052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T Theory can be reconstructed from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al-co-li-sm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564000" y="414972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cfc00"/>
                </a:solidFill>
                <a:latin typeface="Verdana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rcRect l="0" t="0" r="0" b="12958"/>
          <a:stretch/>
        </p:blipFill>
        <p:spPr>
          <a:xfrm>
            <a:off x="3924360" y="5084640"/>
            <a:ext cx="4895640" cy="151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4AAC2-E9A3-487E-A3E4-EAE1A5EEBDC3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547640" y="6021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rcRect l="0" t="0" r="0" b="4432"/>
          <a:stretch/>
        </p:blipFill>
        <p:spPr>
          <a:xfrm>
            <a:off x="0" y="84240"/>
            <a:ext cx="8964720" cy="67737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1403280" y="2997360"/>
            <a:ext cx="56167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rcRect l="13202" t="22914" r="8793" b="37515"/>
          <a:stretch/>
        </p:blipFill>
        <p:spPr>
          <a:xfrm>
            <a:off x="2050920" y="3429000"/>
            <a:ext cx="4753080" cy="127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A57-5101-4AFC-9768-AD77FDD55E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611280" y="3357720"/>
            <a:ext cx="8281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 “</a:t>
            </a:r>
            <a:r>
              <a:rPr b="1" lang="en-GB" sz="4400" spc="-1" strike="noStrike">
                <a:solidFill>
                  <a:srgbClr val="f2aa68"/>
                </a:solidFill>
                <a:latin typeface="Arial"/>
              </a:rPr>
              <a:t>Ken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” is a maximal set       of pairwise similar object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 “</a:t>
            </a:r>
            <a:r>
              <a:rPr b="1" lang="en-GB" sz="4400" spc="-1" strike="noStrike">
                <a:solidFill>
                  <a:srgbClr val="f2aa68"/>
                </a:solidFill>
                <a:latin typeface="Arial"/>
              </a:rPr>
              <a:t>Kenning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” is a collection   of all Kens in a given contex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rcRect l="0" t="21549" r="0" b="35302"/>
          <a:stretch/>
        </p:blipFill>
        <p:spPr>
          <a:xfrm>
            <a:off x="0" y="907920"/>
            <a:ext cx="8344080" cy="216216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395280" y="260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We need a TOOL to handle such situations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AAC3-3290-48AB-8823-7225F8B5A1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3708360" y="5373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3708360" y="5084640"/>
            <a:ext cx="1440000" cy="10782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843280" y="76500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050920" y="765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Unicode MS"/>
              </a:rPr>
              <a:t>do exis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616-8BD1-40C0-85BB-67EF9D72FE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rcRect l="0" t="0" r="0" b="3797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482-FEA8-4AD2-8912-9DC8A06BED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" descr=""/>
          <p:cNvPicPr/>
          <p:nvPr/>
        </p:nvPicPr>
        <p:blipFill>
          <a:blip r:embed="rId1"/>
          <a:stretch/>
        </p:blipFill>
        <p:spPr>
          <a:xfrm>
            <a:off x="1042920" y="44280"/>
            <a:ext cx="7058160" cy="691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CCE-9BEA-4328-A362-72EDEC155D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D74-BE8A-4B50-B26E-9C206F64AE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FB0-7E82-4E3F-9111-33E0518E7259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rcRect l="0" t="35497" r="0" b="5165"/>
          <a:stretch/>
        </p:blipFill>
        <p:spPr>
          <a:xfrm>
            <a:off x="0" y="0"/>
            <a:ext cx="7667640" cy="685800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2"/>
          <a:stretch/>
        </p:blipFill>
        <p:spPr>
          <a:xfrm>
            <a:off x="7920000" y="0"/>
            <a:ext cx="1224000" cy="94788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3"/>
          <a:stretch/>
        </p:blipFill>
        <p:spPr>
          <a:xfrm>
            <a:off x="7920000" y="981000"/>
            <a:ext cx="1224000" cy="947880"/>
          </a:xfrm>
          <a:prstGeom prst="rect">
            <a:avLst/>
          </a:prstGeom>
          <a:ln w="0">
            <a:noFill/>
          </a:ln>
        </p:spPr>
      </p:pic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7920000" y="1916280"/>
            <a:ext cx="1224000" cy="947520"/>
          </a:xfrm>
          <a:prstGeom prst="rect">
            <a:avLst/>
          </a:prstGeom>
          <a:ln w="0">
            <a:noFill/>
          </a:ln>
        </p:spPr>
      </p:pic>
      <p:pic>
        <p:nvPicPr>
          <p:cNvPr id="966" name="" descr=""/>
          <p:cNvPicPr/>
          <p:nvPr/>
        </p:nvPicPr>
        <p:blipFill>
          <a:blip r:embed="rId5"/>
          <a:stretch/>
        </p:blipFill>
        <p:spPr>
          <a:xfrm>
            <a:off x="7920000" y="5910120"/>
            <a:ext cx="1224000" cy="94788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6"/>
          <a:stretch/>
        </p:blipFill>
        <p:spPr>
          <a:xfrm>
            <a:off x="7920000" y="2924280"/>
            <a:ext cx="1224000" cy="94752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7"/>
          <a:stretch/>
        </p:blipFill>
        <p:spPr>
          <a:xfrm>
            <a:off x="7920000" y="3933720"/>
            <a:ext cx="1224000" cy="94788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8"/>
          <a:stretch/>
        </p:blipFill>
        <p:spPr>
          <a:xfrm>
            <a:off x="7920000" y="4941720"/>
            <a:ext cx="1224000" cy="94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8:57Z</dcterms:created>
  <dc:creator>C.A.Petri</dc:creator>
  <dc:description/>
  <dc:language>en-US</dc:language>
  <cp:lastModifiedBy>Petri</cp:lastModifiedBy>
  <dcterms:modified xsi:type="dcterms:W3CDTF">2004-09-21T12:11:55Z</dcterms:modified>
  <cp:revision>163</cp:revision>
  <dc:subject/>
  <dc:title>Net Modelling</dc:title>
</cp:coreProperties>
</file>