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arrow.wav" ContentType="audio/x-wav"/>
  <Override PartName="/ppt/media/image2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9185-EA1D-4011-A625-83CFB11C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62E5-9BF7-412F-8100-1DD445B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34D02-5940-4A69-ADCA-184903BD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59F9B-D38E-48C4-A6CC-02AF519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81A0B-DAD0-4D65-991C-014B0C29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FEC02-A7A5-4E2B-B8BC-BD3E598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E80FA-882C-4BE8-BD15-2DDC329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B4043-E1F4-4F63-9543-9AA0EC1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CCF60-B3E2-4E91-8404-5E1F2AAD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6EA8-7A50-4588-A053-C0DE0B6A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5D676-32A4-4CA4-A91A-DE30B95B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829FD-AA66-47DA-94E8-1FE6E948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A735-B675-4F5E-B91C-2EE07C82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9DFD3-CFB0-4337-AC74-2D5DF1E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8B30B-12AA-4101-A5FD-E9C3132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5A12-E344-4EDC-BC62-6D3CF25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F56BA-D39A-4E5A-A337-8C6D9167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E6DA6-EB0F-43C5-9B79-A408DD6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9A39A-204C-41F2-84A4-1FDFF5F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1AC9-E37A-4BED-A11F-697732DE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95BE4-BDF2-481A-9EDB-0CA8CF3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AB70E-A513-46E8-84F9-178E148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35185-8620-4581-BECF-AEE8A21D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50CD-7A4B-450D-AD66-C36B831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25064-F2A0-47E2-9450-AAD7FD90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E93F-0B41-45E6-96F9-AAC0DD48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42C3F-8585-4825-BD1C-0C74947D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FEFF8-2093-4037-9270-4CED034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FF3E0-7F4B-4D6D-B651-6EDECB3A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BE95-E22B-43BF-9991-779037A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46B29-A5F2-4CF5-9CA7-80FAED91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F0D45-DC1B-4542-994C-B85313A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9C7D5-0069-4AB8-B609-65F9B6A1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3ADA-32E8-46BF-932C-64F51E6D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4A28-049C-4DDC-8D2C-8E1D6F03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058B2-C0DF-497E-A2FB-F232FCA5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5D8F7-74A1-4F70-89B2-09A528A1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87013-19C6-4211-91B0-CD3393F4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CC9C-515A-4439-8E78-6ADFF0E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B72C6-BC35-4D75-95B5-52D44B31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7657B-EB4E-4107-B83B-3C2408D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067D1-EEBC-4703-97D5-95C37E48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7764E-F454-4DDB-94CF-278770C4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53A01-C974-4A6F-9850-2C574DD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7E972-A7B4-4D95-AF76-79771DA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1A01-578A-4BCC-A323-BFBB2467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15915-DED5-4C5A-B99A-B30799BA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9AD58-B9DE-4A87-B5E9-248F7AA5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5C723-6604-4B10-B702-30C1FA4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B5D0C-5A87-4F16-B76A-E04FD459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61C00-C714-4331-BB75-F912CCD9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98B-A5F6-4AE5-92AC-F8E6F233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EE9E-2615-4B4B-A9AC-ABE5909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F301-F342-4B9D-B907-2727768A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9C8-55A3-450E-B377-CED62E3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34A9-21C3-4F58-9784-7232CD9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15BA-B208-40BA-B088-5C9A3688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7BEF-6305-4073-9B56-9B63DE2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635B-B5A6-4ADF-B2B1-FCC29E9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3108-BEA4-4FA7-84B2-3ACB02C1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B469-868E-450C-88C2-DF4CC799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FE6-E876-4F8E-97FD-BBCC5C5F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6AFF-AF86-444C-9393-9B4C98E3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6FB2-8066-4081-AB6D-652EB58A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80A4-4B7C-404F-B165-F07EEC0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39DF-B032-45BC-AEC9-778E678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7912-2DF3-4F7C-A22C-08BB773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7B7A-0627-4B12-8924-B4AA6AE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D9DA-4C38-4E4F-8183-B2ABA41B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3E6A-DAA2-4CEF-9C93-4BB22C5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E165-33D0-460B-AE9E-9A76F26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BEE4-6B49-4EE3-BF82-A4EFD4A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FCD1-8023-4A55-B670-F15D5CA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6D5F1-04CE-4986-A4FC-8CA8445C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1341-EA06-4D19-BA39-4FE3BFB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AD93-8C2D-43D3-BD9A-22BC01EA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810A-4C99-4E44-B7C3-D8CF2ECE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4AFCF-342E-4319-B92F-0E29110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B0E0-64C2-4858-B1B5-2F78BDB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3D27-D22C-4D89-8A6D-ACE46A64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155D-EC67-4033-BE4B-0B8826B6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4FDB-B6C1-49BD-8989-4A41CE56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1525-1D31-4343-AD1F-1B42CAE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CD66-C348-4674-9C7D-8131F61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CB6B-4DC3-4448-9D88-41DC74B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77BE4-BBE1-4BAC-96BB-22359EBB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FEE4-31B1-47A4-BB3F-1B87C538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CDBE-D7BE-47E6-BB18-16FBE01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24A0-6729-4326-99E8-27B8E793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89A8-06C7-4519-BB01-4C58E2B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D5BEF-EBD4-4153-A575-5B600BFD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84FC-C671-4DB6-8EFA-D67E7A9A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7394-616E-476D-BD7C-1499F2A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6E24-F6BA-4650-A49A-2CEE6F70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62B6C-42A7-4B00-8BED-AD4C084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09ED-0E50-4570-89A7-59D7241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9CDD2-4326-467E-8C37-526BEB4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FDEBF-6007-48FC-9F21-CFF2535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B96A-5D54-4E26-B1ED-523EA73E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1F81-28F0-4EDB-A62B-9C85B98E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42CC-DD23-4E2F-B963-44587BC6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F03F-38A5-4A10-B684-777076AB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8F4EFE-3FDC-472E-B5F2-88B6AE66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D1D90-B014-4A44-AA8A-FF44F2E2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D71CB-2A7C-4F36-8810-FD8D9F1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B3877-28FF-46A0-9933-112BB6B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6583D-7FA0-4D98-B504-538477C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588B3-0329-406B-A5F0-DF89F65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36CF2-13D9-4526-8CBD-58D4F695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092061-A6DA-422F-824B-97B6853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9DCF1-37B9-4607-96B0-9A60625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2F6C-3CA7-49CE-A94A-6D56365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D91F9-0097-46D5-9508-7C0BB4FD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4F134-1A65-4F7F-951E-DF81A58D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CDE43-A331-4D7A-A3AC-12DD0582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DD489-CDB9-47E1-959E-83B00FD0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E4DB5-A424-4E2C-B466-C7C5A6D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E3525-C236-4C7A-82F5-E7C70849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BD74-0ACC-4AA3-9BD9-9E926DCA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8505-7AB1-4A64-9BD2-6913DB6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6E3B-FAE0-4590-854E-70198561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7934-1BA5-4531-9AED-47A6DDAC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DC71-8F0A-46B3-AC74-F9DD36C3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79992-346F-4ADE-87C5-2DB38AD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9E96-4938-4B39-9E1F-0244507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73BC-FE0F-4D08-8A31-168C2498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4C287-2F0A-4561-A586-7EFEDE8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A8D6-5BB6-4434-A770-29076A5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DB82-5763-4786-B11B-030FD93B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4D473-F62C-4A46-9173-4C43B6A8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5865-2FE4-4B24-8D3D-E4B15147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37AF6-4529-4671-9745-6CD6159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C9E70-4294-47F3-BAB6-871464D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CEF8-2334-4B63-92AB-2127569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302A-698E-4DCF-8E7B-5BF48FA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5D8D-161F-49D4-9E3E-6DC41AA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95749-6ABA-4899-83F7-2FD8610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48BC-79EE-4483-B397-44D5B1A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6757-DFB4-4557-8E7A-908753EF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EAE5-6BC1-4574-9AD4-877849D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CD5DD-5C09-48C2-B3F7-6280BD70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A416B-2D45-424F-953B-78329422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27C7-5C9A-4204-A855-AA6AF23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91E8-F13A-441E-83F4-F4DFE13F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6B5-81C6-43EA-AD82-9DB6D7DAA88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211-40DA-46BF-845C-5E8BFE7C5B7D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036-904B-4201-B170-8483524A0AD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020-3C77-4034-A1AE-D3C103A7753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E8A-31C9-498A-B48C-14B127C4EF6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07E-E04A-4802-9282-C7E79014629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5D3-2E43-47E1-B9C2-7A006AD2D9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9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9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BE4C-FC1A-42A4-9092-DAA4E6493AD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4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5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5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935B-9CFF-47C9-9A39-199592C7945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0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B86-A0CD-47E7-ADDF-2582AA3541FC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294F-185E-49A4-9FFD-60FDF75F9E4C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5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6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8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3135-1576-4932-BF8C-556EB39A3E5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CELL SPAC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rom Nets to Cell Sp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"/>
          <p:cNvSpPr/>
          <p:nvPr/>
        </p:nvSpPr>
        <p:spPr>
          <a:xfrm>
            <a:off x="3851280" y="5013360"/>
            <a:ext cx="1368360" cy="12240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067280" y="5229360"/>
            <a:ext cx="1368360" cy="12240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282920" y="5445000"/>
            <a:ext cx="1368720" cy="12240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38160">
            <a:solidFill>
              <a:srgbClr val="6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FA8F-83CC-4593-8F35-92BC3A08D73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11280" y="333360"/>
            <a:ext cx="80643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must be a matrix of Conservative Ratings.            It is not required that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a full NullSpace,    but only that each transition in  C  has a non- zero entry in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 the other hand, it may be advisable to enrich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by complements of Key Ratings,     to make the geometrical image compl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cc"/>
                </a:solidFill>
                <a:latin typeface="Arial"/>
              </a:rPr>
              <a:t>The matrix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ffcc"/>
                </a:solidFill>
                <a:latin typeface="Arial"/>
              </a:rPr>
              <a:t>can be treated analog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0B9A7-F041-4FD7-98CF-05ED124BAB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"/>
          <p:cNvGraphicFramePr/>
          <p:nvPr/>
        </p:nvGraphicFramePr>
        <p:xfrm>
          <a:off x="1523880" y="1197000"/>
          <a:ext cx="5640480" cy="5035680"/>
        </p:xfrm>
        <a:graphic>
          <a:graphicData uri="http://schemas.openxmlformats.org/drawingml/2006/table">
            <a:tbl>
              <a:tblPr/>
              <a:tblGrid>
                <a:gridCol w="755640"/>
                <a:gridCol w="2065320"/>
                <a:gridCol w="1765440"/>
                <a:gridCol w="10540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B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     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1bb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051" name=""/>
          <p:cNvSpPr/>
          <p:nvPr/>
        </p:nvSpPr>
        <p:spPr>
          <a:xfrm>
            <a:off x="4859280" y="5445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981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50920" y="1341360"/>
            <a:ext cx="12254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olu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The Incidence Matrix of a 3-dimensional Cell Sp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         Lines                 Faces       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50920" y="63817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ff99"/>
                </a:solidFill>
                <a:latin typeface="Arial"/>
              </a:rPr>
              <a:t>                       </a:t>
            </a:r>
            <a:r>
              <a:rPr b="1" lang="en-GB" sz="1800" spc="-1" strike="noStrike">
                <a:solidFill>
                  <a:srgbClr val="99ff99"/>
                </a:solidFill>
                <a:latin typeface="Arial"/>
              </a:rPr>
              <a:t>Rule 4  demands  that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.A = 0</a:t>
            </a:r>
            <a:r>
              <a:rPr b="1" lang="en-GB" sz="1800" spc="-1" strike="noStrike">
                <a:solidFill>
                  <a:srgbClr val="99ff99"/>
                </a:solidFill>
                <a:latin typeface="Arial"/>
              </a:rPr>
              <a:t>   and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.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164360" y="1125360"/>
            <a:ext cx="197964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The black  fields are zero matr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A* =Transpos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pplication: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If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is the Flow- Matrix  of a Net,  then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*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 is th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Null Space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of the Net System,   and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 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is the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ull Space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of th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ual</a:t>
            </a: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 System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99"/>
                </a:solidFill>
                <a:latin typeface="Arial"/>
              </a:rPr>
              <a:t>For ill-conceived Nets,  A  or  B do not  exist;   the   Conservation-Laws do not 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6381720"/>
            <a:ext cx="2663640" cy="476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ED1F-FCCB-41DB-831D-6AD07DD3F9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684360" y="404640"/>
            <a:ext cx="77752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ff99"/>
                </a:solidFill>
                <a:latin typeface="Arial"/>
              </a:rPr>
              <a:t>One  other  Appl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99"/>
                </a:solidFill>
                <a:latin typeface="Arial"/>
              </a:rPr>
              <a:t>Let  (X,A,F)  be a given                        Cell Space of </a:t>
            </a:r>
            <a:r>
              <a:rPr b="1" lang="en-GB" sz="3200" spc="-1" strike="noStrike">
                <a:solidFill>
                  <a:srgbClr val="ffe103"/>
                </a:solidFill>
                <a:latin typeface="Arial"/>
              </a:rPr>
              <a:t>high</a:t>
            </a:r>
            <a:r>
              <a:rPr b="1" lang="en-GB" sz="3200" spc="-1" strike="noStrike">
                <a:solidFill>
                  <a:srgbClr val="66ff99"/>
                </a:solidFill>
                <a:latin typeface="Arial"/>
              </a:rPr>
              <a:t> Dimension </a:t>
            </a:r>
            <a:r>
              <a:rPr b="1" lang="en-GB" sz="3200" spc="-1" strike="noStrike">
                <a:solidFill>
                  <a:srgbClr val="ffe103"/>
                </a:solidFill>
                <a:latin typeface="Arial"/>
              </a:rPr>
              <a:t>N</a:t>
            </a:r>
            <a:r>
              <a:rPr b="1" lang="en-GB" sz="3200" spc="-1" strike="noStrike">
                <a:solidFill>
                  <a:srgbClr val="66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ff99"/>
                </a:solidFill>
                <a:latin typeface="Arial"/>
              </a:rPr>
              <a:t>To study the neighbourhood of          some cell or cells of arbitrary            dimension  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D &lt; N</a:t>
            </a:r>
            <a:r>
              <a:rPr b="1" lang="en-GB" sz="3200" spc="-1" strike="noStrike">
                <a:solidFill>
                  <a:srgbClr val="66ff99"/>
                </a:solidFill>
                <a:latin typeface="Arial"/>
              </a:rPr>
              <a:t> , use the Nets         Net(D-1), Net(D) and Net(D+1) or        small connected Subnets of them       to form a 3-dim. Cell Space and          its geometric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c0c0"/>
                </a:solidFill>
                <a:latin typeface="Arial"/>
              </a:rPr>
              <a:t>Net(D)</a:t>
            </a: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 can then be interpreted as a </a:t>
            </a:r>
            <a:r>
              <a:rPr b="1" lang="en-GB" sz="2400" spc="-1" strike="noStrike">
                <a:solidFill>
                  <a:srgbClr val="c0c0c0"/>
                </a:solidFill>
                <a:latin typeface="Arial"/>
              </a:rPr>
              <a:t>dynamic</a:t>
            </a: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 N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7164360" y="4581360"/>
            <a:ext cx="1566720" cy="185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6D88-F32A-4817-8B45-1A57AFD6B6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8157-1BA6-4C14-9413-488CE78EC4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rcRect l="0" t="2893" r="0" b="4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EB17-5F33-427A-973C-1A2E006B5E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rcRect l="0" t="0" r="0" b="93728"/>
          <a:stretch/>
        </p:blipFill>
        <p:spPr>
          <a:xfrm>
            <a:off x="539640" y="260280"/>
            <a:ext cx="7993080" cy="79236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7596360" y="692280"/>
            <a:ext cx="792000" cy="360360"/>
          </a:xfrm>
          <a:prstGeom prst="ellipse">
            <a:avLst/>
          </a:prstGeom>
          <a:solidFill>
            <a:srgbClr val="fff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740720" y="333360"/>
            <a:ext cx="647640" cy="503280"/>
          </a:xfrm>
          <a:prstGeom prst="ellipse">
            <a:avLst/>
          </a:prstGeom>
          <a:solidFill>
            <a:srgbClr val="ffff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4941720"/>
            <a:ext cx="863640" cy="503280"/>
          </a:xfrm>
          <a:prstGeom prst="rightArrow">
            <a:avLst>
              <a:gd name="adj1" fmla="val 50000"/>
              <a:gd name="adj2" fmla="val 42901"/>
            </a:avLst>
          </a:prstGeom>
          <a:solidFill>
            <a:srgbClr val="ff4f4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36000" y="6165720"/>
            <a:ext cx="10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2"/>
          <a:srcRect l="0" t="0" r="0" b="3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250920" y="5300640"/>
            <a:ext cx="1225440" cy="504720"/>
          </a:xfrm>
          <a:prstGeom prst="rightArrow">
            <a:avLst>
              <a:gd name="adj1" fmla="val 50000"/>
              <a:gd name="adj2" fmla="val 6069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539640" y="549360"/>
            <a:ext cx="7704360" cy="45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Forget it !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Its for your Computer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03043-CDA4-4C53-B124-A9AD4875933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rcRect l="0" t="0" r="0" b="20482"/>
          <a:stretch/>
        </p:blipFill>
        <p:spPr>
          <a:xfrm>
            <a:off x="826920" y="5951520"/>
            <a:ext cx="4032360" cy="90648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2050920" y="3284640"/>
            <a:ext cx="3097440" cy="1224000"/>
          </a:xfrm>
          <a:prstGeom prst="wedgeEllipseCallout">
            <a:avLst>
              <a:gd name="adj1" fmla="val -65120"/>
              <a:gd name="adj2" fmla="val 189949"/>
            </a:avLst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40000" y="3500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What's that         good for 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204000">
            <a:off x="3563640" y="4719240"/>
            <a:ext cx="2735280" cy="722520"/>
          </a:xfrm>
          <a:prstGeom prst="cloudCallout">
            <a:avLst>
              <a:gd name="adj1" fmla="val -32254"/>
              <a:gd name="adj2" fmla="val 33069"/>
            </a:avLst>
          </a:prstGeom>
          <a:gradFill rotWithShape="0">
            <a:gsLst>
              <a:gs pos="0">
                <a:srgbClr val="3399ff"/>
              </a:gs>
              <a:gs pos="50000">
                <a:srgbClr val="174675"/>
              </a:gs>
              <a:gs pos="100000">
                <a:srgbClr val="3399ff"/>
              </a:gs>
            </a:gsLst>
            <a:lin ang="519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924360" y="486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 don't k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271200">
            <a:off x="3041280" y="5373720"/>
            <a:ext cx="936720" cy="496800"/>
          </a:xfrm>
          <a:prstGeom prst="cloudCallout">
            <a:avLst>
              <a:gd name="adj1" fmla="val -70194"/>
              <a:gd name="adj2" fmla="val 669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3141720" y="5445000"/>
            <a:ext cx="79200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b"/>
                </a:solidFill>
                <a:latin typeface="Arial"/>
              </a:rPr>
              <a:t>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2"/>
          <a:stretch/>
        </p:blipFill>
        <p:spPr>
          <a:xfrm>
            <a:off x="5286240" y="0"/>
            <a:ext cx="3857760" cy="407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6488-A474-470C-9BFC-3437A1073E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9" name=""/>
          <p:cNvGrpSpPr/>
          <p:nvPr/>
        </p:nvGrpSpPr>
        <p:grpSpPr>
          <a:xfrm>
            <a:off x="2453040" y="2822040"/>
            <a:ext cx="4311360" cy="3733920"/>
            <a:chOff x="2453040" y="2822040"/>
            <a:chExt cx="4311360" cy="3733920"/>
          </a:xfrm>
        </p:grpSpPr>
        <p:sp>
          <p:nvSpPr>
            <p:cNvPr id="1080" name="_s823311"/>
            <p:cNvSpPr/>
            <p:nvPr/>
          </p:nvSpPr>
          <p:spPr>
            <a:xfrm flipV="1">
              <a:off x="3889440" y="2821680"/>
              <a:ext cx="1438560" cy="1244520"/>
            </a:xfrm>
            <a:custGeom>
              <a:avLst/>
              <a:gdLst>
                <a:gd name="textAreaLeft" fmla="*/ 516240 w 1438560"/>
                <a:gd name="textAreaRight" fmla="*/ 922320 w 1438560"/>
                <a:gd name="textAreaTop" fmla="*/ 446400 h 1244520"/>
                <a:gd name="textAreaBottom" fmla="*/ 7981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50000">
                  <a:srgbClr val="174675"/>
                </a:gs>
                <a:gs pos="100000">
                  <a:srgbClr val="3399ff"/>
                </a:gs>
              </a:gsLst>
              <a:lin ang="5400000"/>
            </a:gra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ET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823312"/>
            <p:cNvSpPr/>
            <p:nvPr/>
          </p:nvSpPr>
          <p:spPr>
            <a:xfrm flipV="1">
              <a:off x="3171960" y="4066920"/>
              <a:ext cx="2873520" cy="1244880"/>
            </a:xfrm>
            <a:custGeom>
              <a:avLst/>
              <a:gdLst>
                <a:gd name="textAreaLeft" fmla="*/ 631800 w 2873520"/>
                <a:gd name="textAreaRight" fmla="*/ 2241720 w 2873520"/>
                <a:gd name="textAreaTop" fmla="*/ 273600 h 1244880"/>
                <a:gd name="textAreaBottom" fmla="*/ 971280 h 124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NET 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_s823313"/>
            <p:cNvSpPr/>
            <p:nvPr/>
          </p:nvSpPr>
          <p:spPr>
            <a:xfrm flipV="1">
              <a:off x="2453040" y="5311080"/>
              <a:ext cx="4311360" cy="1244520"/>
            </a:xfrm>
            <a:custGeom>
              <a:avLst/>
              <a:gdLst>
                <a:gd name="textAreaLeft" fmla="*/ 748440 w 4311360"/>
                <a:gd name="textAreaRight" fmla="*/ 3562920 w 4311360"/>
                <a:gd name="textAreaTop" fmla="*/ 216000 h 1244520"/>
                <a:gd name="textAreaBottom" fmla="*/ 10285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50000">
                  <a:srgbClr val="174675"/>
                </a:gs>
                <a:gs pos="100000">
                  <a:srgbClr val="3399ff"/>
                </a:gs>
              </a:gsLst>
              <a:lin ang="5400000"/>
            </a:gra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NET 1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0" y="2060640"/>
            <a:ext cx="284328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63416"/>
                </a:solidFill>
                <a:latin typeface="Arial"/>
              </a:rPr>
              <a:t>Can we pile up  many Nets in an easy and </a:t>
            </a:r>
            <a:r>
              <a:rPr b="1" lang="en-GB" sz="1800" spc="-1" strike="noStrike" u="sng">
                <a:solidFill>
                  <a:srgbClr val="463416"/>
                </a:solidFill>
                <a:uFillTx/>
                <a:latin typeface="Arial"/>
              </a:rPr>
              <a:t>meaningful</a:t>
            </a:r>
            <a:r>
              <a:rPr b="1" lang="en-GB" sz="1800" spc="-1" strike="noStrike">
                <a:solidFill>
                  <a:srgbClr val="463416"/>
                </a:solidFill>
                <a:latin typeface="Arial"/>
              </a:rPr>
              <a:t>  way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ful in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5589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y Multiplication of Cell Sp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763640" y="6524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by</a:t>
            </a:r>
            <a:r>
              <a:rPr b="1" lang="en-GB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a trivial computer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EF5E-04C5-4BB3-A6CF-848D15F710D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>
            <a:off x="0" y="4149720"/>
            <a:ext cx="8820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For generality, we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 SE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 as a  CellSpace of Depth  D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NET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as a  CellSpace of Depth  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NETPILE 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    "     "              "       D &gt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nd study examples 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2"/>
          <a:srcRect l="16206" t="60070" r="21631" b="33688"/>
          <a:stretch/>
        </p:blipFill>
        <p:spPr>
          <a:xfrm>
            <a:off x="3851280" y="6208560"/>
            <a:ext cx="5292720" cy="6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3AC7B-411C-4F3C-AF46-42078AC82E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0" y="41497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We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 SET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 as a  CellSpace of Depth  D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NET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as a  CellSpace of Depth  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rcRect l="16206" t="60070" r="21631" b="33688"/>
          <a:stretch/>
        </p:blipFill>
        <p:spPr>
          <a:xfrm>
            <a:off x="1835280" y="1484280"/>
            <a:ext cx="5292720" cy="64944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3"/>
          <a:srcRect l="52584" t="60772" r="40648" b="34390"/>
          <a:stretch/>
        </p:blipFill>
        <p:spPr>
          <a:xfrm>
            <a:off x="1692360" y="6093000"/>
            <a:ext cx="576000" cy="5029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826920" y="6093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SET        NET  =  a copy of NET    for each SET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1AE58-3A8A-43E2-825B-6047F378315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 rot="2425200">
            <a:off x="7092720" y="2204640"/>
            <a:ext cx="1152360" cy="2232000"/>
          </a:xfrm>
          <a:prstGeom prst="downArrow">
            <a:avLst>
              <a:gd name="adj1" fmla="val 43250"/>
              <a:gd name="adj2" fmla="val 4835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2"/>
          <a:srcRect l="0" t="0" r="0" b="10591"/>
          <a:stretch/>
        </p:blipFill>
        <p:spPr>
          <a:xfrm>
            <a:off x="6372360" y="5129280"/>
            <a:ext cx="254304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5216E-6CF5-45A1-928F-4B50C29F7A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0" y="4149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We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a  </a:t>
            </a:r>
            <a:r>
              <a:rPr b="1" lang="en-GB" sz="2400" spc="-1" strike="noStrike">
                <a:solidFill>
                  <a:srgbClr val="463416"/>
                </a:solidFill>
                <a:latin typeface="Arial"/>
              </a:rPr>
              <a:t>NET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as a  CellSpace of Depth  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2"/>
          <a:srcRect l="16206" t="60070" r="21631" b="33688"/>
          <a:stretch/>
        </p:blipFill>
        <p:spPr>
          <a:xfrm>
            <a:off x="1835280" y="1484280"/>
            <a:ext cx="5292720" cy="64944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3"/>
          <a:srcRect l="52584" t="60772" r="40648" b="34390"/>
          <a:stretch/>
        </p:blipFill>
        <p:spPr>
          <a:xfrm>
            <a:off x="1692360" y="6093000"/>
            <a:ext cx="576000" cy="5029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826920" y="609300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NET        NET  =  a NETPILE of   Depth 2;    Example . . .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1D24-3546-4D3F-82F9-92DB40C3E9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2843280" y="26028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2"/>
          <a:srcRect l="16206" t="60070" r="21631" b="33688"/>
          <a:stretch/>
        </p:blipFill>
        <p:spPr>
          <a:xfrm>
            <a:off x="539640" y="6308640"/>
            <a:ext cx="5292720" cy="5493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46836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Example: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3"/>
          <a:srcRect l="53162" t="61504" r="40950" b="34843"/>
          <a:stretch/>
        </p:blipFill>
        <p:spPr>
          <a:xfrm>
            <a:off x="1835280" y="450864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995640" y="4869000"/>
            <a:ext cx="1368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43280" y="530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:   0             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03640" y="1628640"/>
            <a:ext cx="266544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EB86-895C-4E1C-952F-4A6B1C5A7EC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2843280" y="260280"/>
            <a:ext cx="576360" cy="50328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46836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Example: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2"/>
          <a:srcRect l="53162" t="61504" r="40950" b="34843"/>
          <a:stretch/>
        </p:blipFill>
        <p:spPr>
          <a:xfrm>
            <a:off x="1835280" y="450864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995640" y="4869000"/>
            <a:ext cx="1368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843280" y="530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:   0             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203640" y="1628640"/>
            <a:ext cx="266544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3"/>
          <a:srcRect l="17060" t="60070" r="66032" b="33380"/>
          <a:stretch/>
        </p:blipFill>
        <p:spPr>
          <a:xfrm>
            <a:off x="3851280" y="2421000"/>
            <a:ext cx="1440000" cy="57636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4"/>
          <a:srcRect l="58312" t="60070" r="22129" b="34208"/>
          <a:stretch/>
        </p:blipFill>
        <p:spPr>
          <a:xfrm>
            <a:off x="3924360" y="5589720"/>
            <a:ext cx="1439640" cy="50328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5"/>
          <a:srcRect l="36512" t="60070" r="45744" b="34208"/>
          <a:stretch/>
        </p:blipFill>
        <p:spPr>
          <a:xfrm>
            <a:off x="250920" y="2421000"/>
            <a:ext cx="15112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945A-21C9-4A2B-BD73-C1D72024A56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2843280" y="260280"/>
            <a:ext cx="576360" cy="50328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46836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Example: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2"/>
          <a:srcRect l="53162" t="61504" r="40950" b="34843"/>
          <a:stretch/>
        </p:blipFill>
        <p:spPr>
          <a:xfrm>
            <a:off x="1835280" y="450864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995640" y="4869000"/>
            <a:ext cx="1368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203640" y="1628640"/>
            <a:ext cx="3168720" cy="26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          2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1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651640" y="2060640"/>
            <a:ext cx="0" cy="12240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370836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51280" y="3500280"/>
            <a:ext cx="16574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924360" y="1844640"/>
            <a:ext cx="1584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3"/>
          <a:srcRect l="14400" t="81565" r="9019" b="1814"/>
          <a:stretch/>
        </p:blipFill>
        <p:spPr>
          <a:xfrm>
            <a:off x="1258920" y="5516640"/>
            <a:ext cx="5327640" cy="134136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298764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                                         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8FE06-34E5-43E4-AAA5-621315A6A4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2843280" y="260280"/>
            <a:ext cx="576360" cy="50328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46836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Example: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2"/>
          <a:srcRect l="53162" t="61504" r="40950" b="34843"/>
          <a:stretch/>
        </p:blipFill>
        <p:spPr>
          <a:xfrm>
            <a:off x="1835280" y="450864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995640" y="4869000"/>
            <a:ext cx="1368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203640" y="1628640"/>
            <a:ext cx="3168720" cy="26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          2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1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651640" y="2060640"/>
            <a:ext cx="0" cy="12240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70836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851280" y="3500280"/>
            <a:ext cx="16574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924360" y="1844640"/>
            <a:ext cx="1584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3"/>
          <a:srcRect l="14400" t="81565" r="9019" b="1814"/>
          <a:stretch/>
        </p:blipFill>
        <p:spPr>
          <a:xfrm>
            <a:off x="1258920" y="5516640"/>
            <a:ext cx="5327640" cy="1341360"/>
          </a:xfrm>
          <a:prstGeom prst="rect">
            <a:avLst/>
          </a:prstGeom>
          <a:ln w="0">
            <a:noFill/>
          </a:ln>
        </p:spPr>
      </p:pic>
      <p:sp>
        <p:nvSpPr>
          <p:cNvPr id="1184" name=""/>
          <p:cNvSpPr/>
          <p:nvPr/>
        </p:nvSpPr>
        <p:spPr>
          <a:xfrm>
            <a:off x="2987640" y="45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76720" y="1197000"/>
            <a:ext cx="0" cy="403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076720" y="537372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48360" y="1125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372360" y="112536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2276640"/>
            <a:ext cx="1871640" cy="4581360"/>
          </a:xfrm>
          <a:custGeom>
            <a:avLst/>
            <a:gdLst>
              <a:gd name="textAreaLeft" fmla="*/ 250560 w 1871640"/>
              <a:gd name="textAreaRight" fmla="*/ 1621080 w 1871640"/>
              <a:gd name="textAreaTop" fmla="*/ 979920 h 4581360"/>
              <a:gd name="textAreaBottom" fmla="*/ 3143880 h 45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38" stAng="-5400000" swAng="5400000"/>
                <a:lnTo>
                  <a:pt x="21600" y="10202"/>
                </a:lnTo>
                <a:arcTo wR="21600" hR="9238" stAng="0" swAng="2925386"/>
                <a:lnTo>
                  <a:pt x="7584" y="21012"/>
                </a:lnTo>
                <a:lnTo>
                  <a:pt x="0" y="18958"/>
                </a:lnTo>
                <a:lnTo>
                  <a:pt x="7584" y="15728"/>
                </a:lnTo>
                <a:lnTo>
                  <a:pt x="7584" y="17888"/>
                </a:lnTo>
                <a:arcTo wR="21600" hR="9238" stAng="2925386" swAng="-2848581"/>
                <a:lnTo>
                  <a:pt x="21571" y="9720"/>
                </a:lnTo>
                <a:arcTo wR="21600" hR="9238" stAng="-76805" swAng="-5323195"/>
                <a:close/>
              </a:path>
              <a:path fill="darkenLess" w="21600" h="21600">
                <a:moveTo>
                  <a:pt x="0" y="0"/>
                </a:moveTo>
                <a:arcTo wR="21600" hR="9238" stAng="-5400000" swAng="5400000"/>
                <a:lnTo>
                  <a:pt x="21600" y="10202"/>
                </a:lnTo>
                <a:arcTo wR="21600" hR="9238" stAng="0" swAng="-76805"/>
                <a:lnTo>
                  <a:pt x="21571" y="9720"/>
                </a:lnTo>
                <a:arcTo wR="21600" hR="9238" stAng="-76805" swAng="-532319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596360" y="2276640"/>
            <a:ext cx="129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plies               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DE5C-1193-49F4-99D2-D1B427A7357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1619280" y="333360"/>
            <a:ext cx="576360" cy="64764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468360" y="404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 GIVE :            Lower       and        Upper  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rcRect l="53162" t="61504" r="40950" b="34843"/>
          <a:stretch/>
        </p:blipFill>
        <p:spPr>
          <a:xfrm>
            <a:off x="1835280" y="450864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995640" y="4869000"/>
            <a:ext cx="13683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059280" y="1700280"/>
            <a:ext cx="4394160" cy="26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             2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    1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651640" y="2060640"/>
            <a:ext cx="0" cy="79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0836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851280" y="3500280"/>
            <a:ext cx="151272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356000" y="1844640"/>
            <a:ext cx="1152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7640" y="458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96360" y="227664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419640" y="328464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419640" y="1628640"/>
            <a:ext cx="57600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364000" y="321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516720" y="1628640"/>
            <a:ext cx="576360" cy="5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172360" y="3213000"/>
            <a:ext cx="576360" cy="505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172360" y="162864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459640" y="2133720"/>
            <a:ext cx="0" cy="10792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093080" y="1916280"/>
            <a:ext cx="107928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659640" y="3284640"/>
            <a:ext cx="288720" cy="43164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020000" y="3500280"/>
            <a:ext cx="64764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804000" y="2491920"/>
            <a:ext cx="0" cy="79236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9B9B-561D-4130-8A3B-8F950277EF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" descr=""/>
          <p:cNvPicPr/>
          <p:nvPr/>
        </p:nvPicPr>
        <p:blipFill>
          <a:blip r:embed="rId1"/>
          <a:srcRect l="52584" t="60772" r="40648" b="34390"/>
          <a:stretch/>
        </p:blipFill>
        <p:spPr>
          <a:xfrm>
            <a:off x="2843280" y="260280"/>
            <a:ext cx="576360" cy="50328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468360" y="260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Example: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       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08000" y="1557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08000" y="3284640"/>
            <a:ext cx="57636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19564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0" name="" descr=""/>
          <p:cNvPicPr/>
          <p:nvPr/>
        </p:nvPicPr>
        <p:blipFill>
          <a:blip r:embed="rId2"/>
          <a:srcRect l="53162" t="61504" r="40950" b="34843"/>
          <a:stretch/>
        </p:blipFill>
        <p:spPr>
          <a:xfrm>
            <a:off x="1835280" y="4581360"/>
            <a:ext cx="720720" cy="615960"/>
          </a:xfrm>
          <a:prstGeom prst="rect">
            <a:avLst/>
          </a:prstGeom>
          <a:ln w="0">
            <a:noFill/>
          </a:ln>
        </p:spPr>
      </p:pic>
      <p:sp>
        <p:nvSpPr>
          <p:cNvPr id="1231" name=""/>
          <p:cNvSpPr/>
          <p:nvPr/>
        </p:nvSpPr>
        <p:spPr>
          <a:xfrm>
            <a:off x="5364000" y="465300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419640" y="4653000"/>
            <a:ext cx="5760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3995280" y="4941720"/>
            <a:ext cx="136836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56400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56400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508720" y="3284640"/>
            <a:ext cx="287280" cy="43164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508720" y="1628640"/>
            <a:ext cx="287280" cy="43200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042920" y="1125360"/>
            <a:ext cx="720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987640" y="111456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916360" y="1052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203640" y="1628640"/>
            <a:ext cx="3168720" cy="26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                                   2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1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651640" y="2060640"/>
            <a:ext cx="0" cy="12240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708360" y="206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851280" y="3500280"/>
            <a:ext cx="16574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3850920" y="1844640"/>
            <a:ext cx="158436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68360" y="63817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Flow Multiplication yields  ODD Inter-Net Me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98764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                             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3D69-8637-4645-A141-A5FBABE6983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asic Application: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nstruction of N-dim. Signalling Sp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( mathematically: Operative Combinatorial Topology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hysically: N-dim. Minkowski Spaces, articulated by Signal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059280" y="2133720"/>
            <a:ext cx="43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059280" y="2133720"/>
            <a:ext cx="0" cy="388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059280" y="2133720"/>
            <a:ext cx="2376360" cy="23032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900000" y="2133720"/>
            <a:ext cx="2159280" cy="22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588000" y="184464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x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 position, stat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411280" y="6021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 time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437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forward"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24000" y="4437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"backward"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916360" y="1989000"/>
            <a:ext cx="2872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292720" y="3141720"/>
            <a:ext cx="1150920" cy="1150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076720" y="3500280"/>
            <a:ext cx="647640" cy="6494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68000" y="3213000"/>
            <a:ext cx="863640" cy="863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763640" y="3789360"/>
            <a:ext cx="432000" cy="43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EF139-5609-4BA2-B64C-02C254905AD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dac"/>
            </a:gs>
            <a:gs pos="100000">
              <a:srgbClr val="5e6c6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AAC4-04DB-4067-8217-74010D709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rcRect l="9046" t="0" r="16146" b="-12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611280" y="4365720"/>
            <a:ext cx="59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o understand the structure                                         of this regular Cell Space,                                                     it suffices to construct                                                    a small part of it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755640" y="0"/>
            <a:ext cx="36036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F23A-B5CB-45EF-89F6-29D1AECB3B8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" descr=""/>
          <p:cNvPicPr/>
          <p:nvPr/>
        </p:nvPicPr>
        <p:blipFill>
          <a:blip r:embed="rId1"/>
          <a:srcRect l="0" t="0" r="0" b="536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8172360" y="260280"/>
            <a:ext cx="720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6925-4AA9-49DC-A7A9-3A3B8918456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0E6-7D63-4A56-90AF-E3311E0F69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410364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1767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410364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4176720" cy="3181320"/>
          </a:xfrm>
          <a:prstGeom prst="rect">
            <a:avLst/>
          </a:prstGeom>
          <a:ln w="0">
            <a:noFill/>
          </a:ln>
        </p:spPr>
      </p:pic>
      <p:sp>
        <p:nvSpPr>
          <p:cNvPr id="1272" name=""/>
          <p:cNvSpPr/>
          <p:nvPr/>
        </p:nvSpPr>
        <p:spPr>
          <a:xfrm>
            <a:off x="4356000" y="3068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(1) and Net(2)  superim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985B-6E78-413F-AD83-262CE5174AF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rcRect l="-651" t="0" r="74722" b="64289"/>
          <a:stretch/>
        </p:blipFill>
        <p:spPr>
          <a:xfrm>
            <a:off x="395280" y="1125360"/>
            <a:ext cx="3889440" cy="360684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rcRect l="-651" t="0" r="74722" b="64289"/>
          <a:stretch/>
        </p:blipFill>
        <p:spPr>
          <a:xfrm>
            <a:off x="4572000" y="1125360"/>
            <a:ext cx="3889440" cy="360684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 flipH="1">
            <a:off x="971280" y="4724280"/>
            <a:ext cx="6476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87640" y="472428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8459640" y="1915920"/>
            <a:ext cx="43344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8459640" y="3500280"/>
            <a:ext cx="43344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900000" y="1628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084720" y="371628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835280" y="4221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484360" y="4221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35280" y="364500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556000" y="364500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132000" y="306864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484360" y="306864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835280" y="306864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203640" y="4221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203640" y="364500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187280" y="422100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187280" y="3645000"/>
            <a:ext cx="287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187280" y="306864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724360" y="458136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372360" y="1557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076720" y="1557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667640" y="1557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7667640" y="278136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667640" y="393372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724360" y="98100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651640" y="213372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020000" y="105264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020000" y="213372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372360" y="2708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020000" y="335772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076720" y="393372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03640" y="2781360"/>
            <a:ext cx="287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724360" y="3357720"/>
            <a:ext cx="287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372360" y="393372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020000" y="4581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8317080" y="335772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8244000" y="2205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364000" y="371628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364000" y="4292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732720" y="429264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084720" y="4292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8028000" y="371628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8028000" y="3141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380360" y="371628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380360" y="4292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084720" y="3068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2720" y="306864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732720" y="371628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380360" y="3068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195640" y="162864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43280" y="105264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547640" y="105264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2781360"/>
            <a:ext cx="21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900000" y="2781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843280" y="2205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547640" y="2205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547640" y="4581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68360" y="400536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547640" y="342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843280" y="335772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492360" y="400536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492360" y="2852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492360" y="170028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843280" y="4581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900000" y="4005360"/>
            <a:ext cx="216000" cy="215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364000" y="306864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39640" y="0"/>
            <a:ext cx="860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t(1) of Product                              Net(2) of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Occ.Net of Bucket-Chain)                     (e.g. Galton Boa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50920" y="6381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oth Nets can be separately interpreted as S/T ne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95280" y="53737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 Ratings of Galton Board )                     ( Valuations of B-Chain Oc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7164360" y="5734080"/>
            <a:ext cx="12952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U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3"/>
          <a:srcRect l="0" t="0" r="0" b="16115"/>
          <a:stretch/>
        </p:blipFill>
        <p:spPr>
          <a:xfrm>
            <a:off x="6012000" y="5850000"/>
            <a:ext cx="131904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C88CB-8144-447B-B850-34F14BE967E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47" name="" descr=""/>
          <p:cNvPicPr/>
          <p:nvPr/>
        </p:nvPicPr>
        <p:blipFill>
          <a:blip r:embed="rId2"/>
          <a:stretch/>
        </p:blipFill>
        <p:spPr>
          <a:xfrm>
            <a:off x="1332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3"/>
          <a:stretch/>
        </p:blipFill>
        <p:spPr>
          <a:xfrm rot="892800">
            <a:off x="4716000" y="5489640"/>
            <a:ext cx="1336680" cy="1368360"/>
          </a:xfrm>
          <a:prstGeom prst="rect">
            <a:avLst/>
          </a:prstGeom>
          <a:ln w="0">
            <a:noFill/>
          </a:ln>
        </p:spPr>
      </p:pic>
      <p:sp>
        <p:nvSpPr>
          <p:cNvPr id="1349" name=""/>
          <p:cNvSpPr/>
          <p:nvPr/>
        </p:nvSpPr>
        <p:spPr>
          <a:xfrm>
            <a:off x="250920" y="333360"/>
            <a:ext cx="2808360" cy="2664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012000" y="260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 aspera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A025-0675-422A-88B1-DC052844EA9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4F04-8B8D-4C73-859E-44794CA6B66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53" name="" descr=""/>
          <p:cNvPicPr/>
          <p:nvPr/>
        </p:nvPicPr>
        <p:blipFill>
          <a:blip r:embed="rId2"/>
          <a:stretch/>
        </p:blipFill>
        <p:spPr>
          <a:xfrm>
            <a:off x="1332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1354" name="" descr=""/>
          <p:cNvPicPr/>
          <p:nvPr/>
        </p:nvPicPr>
        <p:blipFill>
          <a:blip r:embed="rId3"/>
          <a:stretch/>
        </p:blipFill>
        <p:spPr>
          <a:xfrm rot="892800">
            <a:off x="2626920" y="2781360"/>
            <a:ext cx="1336680" cy="136836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250920" y="333360"/>
            <a:ext cx="2808360" cy="2664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72360" y="4869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5636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 as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6969"/>
            </a:gs>
            <a:gs pos="100000">
              <a:srgbClr val="3729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305F-85D2-4CB6-83E3-97734648E5A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6286680" y="1268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2"/>
          <a:stretch/>
        </p:blipFill>
        <p:spPr>
          <a:xfrm>
            <a:off x="1332000" y="3390840"/>
            <a:ext cx="3781440" cy="3467160"/>
          </a:xfrm>
          <a:prstGeom prst="rect">
            <a:avLst/>
          </a:prstGeom>
          <a:ln w="0">
            <a:noFill/>
          </a:ln>
        </p:spPr>
      </p:pic>
      <p:pic>
        <p:nvPicPr>
          <p:cNvPr id="1361" name="" descr=""/>
          <p:cNvPicPr/>
          <p:nvPr/>
        </p:nvPicPr>
        <p:blipFill>
          <a:blip r:embed="rId3"/>
          <a:stretch/>
        </p:blipFill>
        <p:spPr>
          <a:xfrm rot="892800">
            <a:off x="2626920" y="2781360"/>
            <a:ext cx="1336680" cy="136836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250920" y="333360"/>
            <a:ext cx="2808360" cy="2664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372360" y="486900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atch   Examples </a:t>
            </a:r>
            <a:r>
              <a:rPr b="1" lang="en-GB" sz="3200" spc="-1" strike="noStrike">
                <a:solidFill>
                  <a:srgbClr val="5f4545"/>
                </a:solidFill>
                <a:latin typeface="Arial"/>
              </a:rPr>
              <a:t>…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15636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 as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" descr=""/>
          <p:cNvPicPr/>
          <p:nvPr/>
        </p:nvPicPr>
        <p:blipFill>
          <a:blip r:embed="rId1"/>
          <a:srcRect l="0" t="18495" r="0" b="0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3"/>
          <a:stretch/>
        </p:blipFill>
        <p:spPr>
          <a:xfrm rot="998400">
            <a:off x="6300720" y="1773360"/>
            <a:ext cx="2401920" cy="21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6D11-6CA8-4821-BD9D-3D9CE61F4B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8604360" cy="68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4F853-722C-4E7E-BBC3-20FEA4284F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021040" cy="285732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395280" y="620640"/>
            <a:ext cx="8209080" cy="21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a NET, we have two kinds of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a  CELLSPACE  formed of  N  NE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 have  N+1  kinds of obje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308720" y="692280"/>
            <a:ext cx="503280" cy="43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8172360" y="692280"/>
            <a:ext cx="432000" cy="433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tretch/>
        </p:blipFill>
        <p:spPr>
          <a:xfrm>
            <a:off x="2700360" y="3719520"/>
            <a:ext cx="1942920" cy="19429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 rot="2281800">
            <a:off x="5003280" y="4221000"/>
            <a:ext cx="1008360" cy="86364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300720" y="4365720"/>
            <a:ext cx="792360" cy="358560"/>
          </a:xfrm>
          <a:prstGeom prst="line">
            <a:avLst/>
          </a:prstGeom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667640" y="465300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667640" y="4292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780000" y="6021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35640" y="6021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948360" y="602136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32360" y="6021360"/>
            <a:ext cx="289080" cy="289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300720" y="6021360"/>
            <a:ext cx="289080" cy="289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7740720" y="6021360"/>
            <a:ext cx="288720" cy="2890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067280" y="6165720"/>
            <a:ext cx="865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724360" y="616572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236000" y="616572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FD64-990A-44DC-9CB0-97639E75EF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" descr=""/>
          <p:cNvPicPr/>
          <p:nvPr/>
        </p:nvPicPr>
        <p:blipFill>
          <a:blip r:embed="rId1"/>
          <a:srcRect l="0" t="0" r="0" b="3798"/>
          <a:stretch/>
        </p:blipFill>
        <p:spPr>
          <a:xfrm>
            <a:off x="2124000" y="0"/>
            <a:ext cx="4969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B411-1901-4EB3-8FD4-2DA9A68510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/>
          <p:cNvPicPr/>
          <p:nvPr/>
        </p:nvPicPr>
        <p:blipFill>
          <a:blip r:embed="rId1"/>
          <a:srcRect l="0" t="0" r="0" b="21103"/>
          <a:stretch/>
        </p:blipFill>
        <p:spPr>
          <a:xfrm>
            <a:off x="3492360" y="5202360"/>
            <a:ext cx="2303640" cy="16556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395280" y="260280"/>
            <a:ext cx="828036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Basic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Cell Spaces, Rule 4 implies for neighboured Nets  Net (n),  Net (n+1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 T(n+1) == S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All Inter-Net Meshes are 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300720" y="2781360"/>
            <a:ext cx="28432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#GIVE  is odd, #TAKE is o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ach mesh which includes arrows of both n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638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Testing  Rule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2"/>
          <a:srcRect l="0" t="34269" r="2677" b="41242"/>
          <a:stretch/>
        </p:blipFill>
        <p:spPr>
          <a:xfrm>
            <a:off x="0" y="3068640"/>
            <a:ext cx="5832360" cy="21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6832-31E8-41EB-88C8-F42031B679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One suggested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 Application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et 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be the Flow Matrix of a Dynamic Net (Rules 1 and 2 apply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Let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 A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be the Right NullSpace of 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and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 B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the Left NullSpace of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 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Pile up 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 B 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………….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C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………….</a:t>
            </a: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 to form a 3-dim Cell Sp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12CEC-A545-43C1-9AD2-35ABC6ADC9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8:57Z</dcterms:created>
  <dc:creator>C.A.Petri</dc:creator>
  <dc:description/>
  <dc:language>en-US</dc:language>
  <cp:lastModifiedBy>Petri</cp:lastModifiedBy>
  <dcterms:modified xsi:type="dcterms:W3CDTF">2004-09-26T16:26:04Z</dcterms:modified>
  <cp:revision>204</cp:revision>
  <dc:subject/>
  <dc:title>Net Modelling</dc:title>
</cp:coreProperties>
</file>