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bomb.wav" ContentType="audio/x-wav"/>
  <Override PartName="/ppt/media/arrow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cashreg.wav" ContentType="audio/x-wav"/>
  <Override PartName="/ppt/media/image9.png" ContentType="image/png"/>
  <Override PartName="/ppt/media/image39.png" ContentType="image/png"/>
  <Override PartName="/ppt/media/image13.png" ContentType="image/png"/>
  <Override PartName="/ppt/media/image12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8.png" ContentType="image/png"/>
  <Override PartName="/ppt/media/whoosh.wav" ContentType="audio/x-wav"/>
  <Override PartName="/ppt/media/image29.png" ContentType="image/png"/>
  <Override PartName="/ppt/media/chimes.wav" ContentType="audio/x-wav"/>
  <Override PartName="/ppt/media/image30.png" ContentType="image/png"/>
  <Override PartName="/ppt/media/voltage.wav" ContentType="audio/x-wav"/>
  <Override PartName="/ppt/media/explode.wav" ContentType="audio/x-wav"/>
  <Override PartName="/ppt/media/image34.png" ContentType="image/png"/>
  <Override PartName="/ppt/media/image41.png" ContentType="image/png"/>
  <Override PartName="/ppt/media/image42.png" ContentType="image/png"/>
  <Override PartName="/ppt/media/breeze.wav" ContentType="audio/x-wav"/>
  <Override PartName="/ppt/media/image10.png" ContentType="image/png"/>
  <Override PartName="/ppt/media/image43.png" ContentType="image/png"/>
  <Override PartName="/ppt/media/drumroll.wav" ContentType="audio/x-wav"/>
  <Override PartName="/ppt/media/image27.png" ContentType="image/png"/>
  <Override PartName="/ppt/media/image26.png" ContentType="image/png"/>
  <Override PartName="/ppt/media/image23.png" ContentType="image/pn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click.wav" ContentType="audio/x-wav"/>
  <Override PartName="/ppt/media/image37.png" ContentType="image/png"/>
  <Override PartName="/ppt/media/image7.png" ContentType="image/png"/>
  <Override PartName="/ppt/media/coin.wav" ContentType="audio/x-wav"/>
  <Override PartName="/ppt/media/image11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  <p:sldId id="291" r:id="rId60"/>
    <p:sldId id="292" r:id="rId61"/>
    <p:sldId id="293" r:id="rId62"/>
    <p:sldId id="294" r:id="rId63"/>
    <p:sldId id="295" r:id="rId64"/>
    <p:sldId id="296" r:id="rId65"/>
    <p:sldId id="297" r:id="rId66"/>
    <p:sldId id="298" r:id="rId67"/>
    <p:sldId id="299" r:id="rId68"/>
    <p:sldId id="300" r:id="rId69"/>
    <p:sldId id="301" r:id="rId70"/>
    <p:sldId id="302" r:id="rId71"/>
    <p:sldId id="303" r:id="rId72"/>
    <p:sldId id="304" r:id="rId73"/>
    <p:sldId id="305" r:id="rId74"/>
    <p:sldId id="306" r:id="rId75"/>
    <p:sldId id="307" r:id="rId76"/>
    <p:sldId id="308" r:id="rId77"/>
    <p:sldId id="309" r:id="rId78"/>
    <p:sldId id="310" r:id="rId79"/>
    <p:sldId id="311" r:id="rId80"/>
    <p:sldId id="312" r:id="rId81"/>
    <p:sldId id="313" r:id="rId82"/>
    <p:sldId id="314" r:id="rId83"/>
    <p:sldId id="315" r:id="rId84"/>
    <p:sldId id="316" r:id="rId85"/>
    <p:sldId id="317" r:id="rId86"/>
    <p:sldId id="318" r:id="rId87"/>
    <p:sldId id="319" r:id="rId88"/>
    <p:sldId id="320" r:id="rId89"/>
    <p:sldId id="321" r:id="rId90"/>
    <p:sldId id="322" r:id="rId91"/>
    <p:sldId id="323" r:id="rId92"/>
    <p:sldId id="324" r:id="rId93"/>
    <p:sldId id="325" r:id="rId94"/>
    <p:sldId id="326" r:id="rId95"/>
    <p:sldId id="327" r:id="rId96"/>
    <p:sldId id="328" r:id="rId97"/>
    <p:sldId id="329" r:id="rId98"/>
    <p:sldId id="330" r:id="rId99"/>
    <p:sldId id="331" r:id="rId100"/>
    <p:sldId id="332" r:id="rId101"/>
    <p:sldId id="333" r:id="rId102"/>
    <p:sldId id="334" r:id="rId103"/>
    <p:sldId id="335" r:id="rId104"/>
    <p:sldId id="336" r:id="rId105"/>
    <p:sldId id="337" r:id="rId106"/>
    <p:sldId id="338" r:id="rId107"/>
    <p:sldId id="339" r:id="rId108"/>
    <p:sldId id="340" r:id="rId109"/>
    <p:sldId id="341" r:id="rId110"/>
    <p:sldId id="342" r:id="rId111"/>
    <p:sldId id="343" r:id="rId112"/>
    <p:sldId id="344" r:id="rId113"/>
    <p:sldId id="345" r:id="rId114"/>
    <p:sldId id="346" r:id="rId115"/>
    <p:sldId id="347" r:id="rId1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slide" Target="slides/slide36.xml"/><Relationship Id="rId61" Type="http://schemas.openxmlformats.org/officeDocument/2006/relationships/slide" Target="slides/slide37.xml"/><Relationship Id="rId62" Type="http://schemas.openxmlformats.org/officeDocument/2006/relationships/slide" Target="slides/slide38.xml"/><Relationship Id="rId63" Type="http://schemas.openxmlformats.org/officeDocument/2006/relationships/slide" Target="slides/slide39.xml"/><Relationship Id="rId64" Type="http://schemas.openxmlformats.org/officeDocument/2006/relationships/slide" Target="slides/slide40.xml"/><Relationship Id="rId65" Type="http://schemas.openxmlformats.org/officeDocument/2006/relationships/slide" Target="slides/slide41.xml"/><Relationship Id="rId66" Type="http://schemas.openxmlformats.org/officeDocument/2006/relationships/slide" Target="slides/slide42.xml"/><Relationship Id="rId67" Type="http://schemas.openxmlformats.org/officeDocument/2006/relationships/slide" Target="slides/slide43.xml"/><Relationship Id="rId68" Type="http://schemas.openxmlformats.org/officeDocument/2006/relationships/slide" Target="slides/slide44.xml"/><Relationship Id="rId69" Type="http://schemas.openxmlformats.org/officeDocument/2006/relationships/slide" Target="slides/slide45.xml"/><Relationship Id="rId70" Type="http://schemas.openxmlformats.org/officeDocument/2006/relationships/slide" Target="slides/slide46.xml"/><Relationship Id="rId71" Type="http://schemas.openxmlformats.org/officeDocument/2006/relationships/slide" Target="slides/slide47.xml"/><Relationship Id="rId72" Type="http://schemas.openxmlformats.org/officeDocument/2006/relationships/slide" Target="slides/slide48.xml"/><Relationship Id="rId73" Type="http://schemas.openxmlformats.org/officeDocument/2006/relationships/slide" Target="slides/slide49.xml"/><Relationship Id="rId74" Type="http://schemas.openxmlformats.org/officeDocument/2006/relationships/slide" Target="slides/slide50.xml"/><Relationship Id="rId75" Type="http://schemas.openxmlformats.org/officeDocument/2006/relationships/slide" Target="slides/slide51.xml"/><Relationship Id="rId76" Type="http://schemas.openxmlformats.org/officeDocument/2006/relationships/slide" Target="slides/slide52.xml"/><Relationship Id="rId77" Type="http://schemas.openxmlformats.org/officeDocument/2006/relationships/slide" Target="slides/slide53.xml"/><Relationship Id="rId78" Type="http://schemas.openxmlformats.org/officeDocument/2006/relationships/slide" Target="slides/slide54.xml"/><Relationship Id="rId79" Type="http://schemas.openxmlformats.org/officeDocument/2006/relationships/slide" Target="slides/slide55.xml"/><Relationship Id="rId80" Type="http://schemas.openxmlformats.org/officeDocument/2006/relationships/slide" Target="slides/slide56.xml"/><Relationship Id="rId81" Type="http://schemas.openxmlformats.org/officeDocument/2006/relationships/slide" Target="slides/slide57.xml"/><Relationship Id="rId82" Type="http://schemas.openxmlformats.org/officeDocument/2006/relationships/slide" Target="slides/slide58.xml"/><Relationship Id="rId83" Type="http://schemas.openxmlformats.org/officeDocument/2006/relationships/slide" Target="slides/slide59.xml"/><Relationship Id="rId84" Type="http://schemas.openxmlformats.org/officeDocument/2006/relationships/slide" Target="slides/slide60.xml"/><Relationship Id="rId85" Type="http://schemas.openxmlformats.org/officeDocument/2006/relationships/slide" Target="slides/slide61.xml"/><Relationship Id="rId86" Type="http://schemas.openxmlformats.org/officeDocument/2006/relationships/slide" Target="slides/slide62.xml"/><Relationship Id="rId87" Type="http://schemas.openxmlformats.org/officeDocument/2006/relationships/slide" Target="slides/slide63.xml"/><Relationship Id="rId88" Type="http://schemas.openxmlformats.org/officeDocument/2006/relationships/slide" Target="slides/slide64.xml"/><Relationship Id="rId89" Type="http://schemas.openxmlformats.org/officeDocument/2006/relationships/slide" Target="slides/slide65.xml"/><Relationship Id="rId90" Type="http://schemas.openxmlformats.org/officeDocument/2006/relationships/slide" Target="slides/slide66.xml"/><Relationship Id="rId91" Type="http://schemas.openxmlformats.org/officeDocument/2006/relationships/slide" Target="slides/slide67.xml"/><Relationship Id="rId92" Type="http://schemas.openxmlformats.org/officeDocument/2006/relationships/slide" Target="slides/slide68.xml"/><Relationship Id="rId93" Type="http://schemas.openxmlformats.org/officeDocument/2006/relationships/slide" Target="slides/slide69.xml"/><Relationship Id="rId94" Type="http://schemas.openxmlformats.org/officeDocument/2006/relationships/slide" Target="slides/slide70.xml"/><Relationship Id="rId95" Type="http://schemas.openxmlformats.org/officeDocument/2006/relationships/slide" Target="slides/slide71.xml"/><Relationship Id="rId96" Type="http://schemas.openxmlformats.org/officeDocument/2006/relationships/slide" Target="slides/slide72.xml"/><Relationship Id="rId97" Type="http://schemas.openxmlformats.org/officeDocument/2006/relationships/slide" Target="slides/slide73.xml"/><Relationship Id="rId98" Type="http://schemas.openxmlformats.org/officeDocument/2006/relationships/slide" Target="slides/slide74.xml"/><Relationship Id="rId99" Type="http://schemas.openxmlformats.org/officeDocument/2006/relationships/slide" Target="slides/slide75.xml"/><Relationship Id="rId100" Type="http://schemas.openxmlformats.org/officeDocument/2006/relationships/slide" Target="slides/slide76.xml"/><Relationship Id="rId101" Type="http://schemas.openxmlformats.org/officeDocument/2006/relationships/slide" Target="slides/slide77.xml"/><Relationship Id="rId102" Type="http://schemas.openxmlformats.org/officeDocument/2006/relationships/slide" Target="slides/slide78.xml"/><Relationship Id="rId103" Type="http://schemas.openxmlformats.org/officeDocument/2006/relationships/slide" Target="slides/slide79.xml"/><Relationship Id="rId104" Type="http://schemas.openxmlformats.org/officeDocument/2006/relationships/slide" Target="slides/slide80.xml"/><Relationship Id="rId105" Type="http://schemas.openxmlformats.org/officeDocument/2006/relationships/slide" Target="slides/slide81.xml"/><Relationship Id="rId106" Type="http://schemas.openxmlformats.org/officeDocument/2006/relationships/slide" Target="slides/slide82.xml"/><Relationship Id="rId107" Type="http://schemas.openxmlformats.org/officeDocument/2006/relationships/slide" Target="slides/slide83.xml"/><Relationship Id="rId108" Type="http://schemas.openxmlformats.org/officeDocument/2006/relationships/slide" Target="slides/slide84.xml"/><Relationship Id="rId109" Type="http://schemas.openxmlformats.org/officeDocument/2006/relationships/slide" Target="slides/slide85.xml"/><Relationship Id="rId110" Type="http://schemas.openxmlformats.org/officeDocument/2006/relationships/slide" Target="slides/slide86.xml"/><Relationship Id="rId111" Type="http://schemas.openxmlformats.org/officeDocument/2006/relationships/slide" Target="slides/slide87.xml"/><Relationship Id="rId112" Type="http://schemas.openxmlformats.org/officeDocument/2006/relationships/slide" Target="slides/slide88.xml"/><Relationship Id="rId113" Type="http://schemas.openxmlformats.org/officeDocument/2006/relationships/slide" Target="slides/slide89.xml"/><Relationship Id="rId114" Type="http://schemas.openxmlformats.org/officeDocument/2006/relationships/slide" Target="slides/slide90.xml"/><Relationship Id="rId115" Type="http://schemas.openxmlformats.org/officeDocument/2006/relationships/slide" Target="slides/slide91.xml"/><Relationship Id="rId116" Type="http://schemas.openxmlformats.org/officeDocument/2006/relationships/slide" Target="slides/slide92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447-A094-4D86-A740-66742796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10F-015E-49B8-BE63-82EEDFB2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58324-8D84-4DD1-935C-6D9BD4A2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36246-F20C-4D70-9968-060E24A3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8D04C0-4D91-4B3C-91CC-A68A385C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44F30-831F-48FD-BC27-95E13CC3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C532A-FE74-4EC6-A3B3-882107E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6BAB2-9AB9-4649-AB53-931A995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925B6-886C-4FFA-8810-DDA2AC73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C50157-7C79-4DA3-88AC-DFF76AE0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E168D-4316-48CA-AB0E-52AAFE08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4EDA4-B677-46CF-84F2-D7C0A7DE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F7F-079E-4870-A599-845F8D33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6FEF4-13A5-43BE-B91E-25D1049F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FE597-4C6C-40B7-BAC1-3DBE27B2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001E0-D014-48EA-AF0D-496DE138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0C7B1-A2B6-4411-A391-E9A13AD5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0296B-A5F9-428C-BACF-7CC432D1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F50A3-0535-4DA3-B7EF-6F3DE476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C9F65-415C-4236-81FB-B141231F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3A99C-D6EC-42DB-BBAC-539FE873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06E8E-425F-4E41-8399-8496BC52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F09D8-CD64-4A4E-B23C-BFAEA135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D7A-1E4B-4F47-BB8C-8FE6E22A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23450-FBA5-4710-BD7A-A123507A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B089C-68FF-4EEA-9A14-D1C5E069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786F3-41F2-4012-80FC-BBE60E52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6AB99-F34D-430D-BAA9-B6EA2964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A1EA2-BBD7-4AA9-86B5-499C0BEA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B80D5-C3E6-4475-B08C-87FEA11E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FB6D8-4DD1-4965-A8B4-926B2A36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26914-9FB3-48F8-9CBA-86B8312F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541BD-3E3D-44C9-AC31-632E1F56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8FBDD-B69D-443D-995E-81CB00EA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2678-2A6C-4897-A54A-500984F2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1C3C5-D5EE-45F2-A267-35504758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D1B90-A8D1-4CA2-AF0B-C3E46588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0372C-CB84-4048-80A2-45442CF3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59B8C-33F9-46B4-A488-273E998D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68890-610D-491B-A746-39785D8A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4247E-7B51-4A0A-B5D6-6C689AF1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79BA7-8E92-4F2F-8389-F2E2770E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F2E62-44B9-46D9-A16D-A7310611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7BBFE-3989-4575-B55D-914B2B69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54A34-1973-4484-820A-411AC1EA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325E-A55C-4A4C-B19A-F07960E2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1341A-C53C-4EF6-84A9-F0462109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0928C-CAD4-48EB-89C8-F16358F7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A97C1-E988-460F-9040-E7B6A75E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1A21B-18F1-4A9F-8694-7315D54C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0AE8C-BBFD-4696-ADEA-C2D7A786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A6DE3-2648-47A2-8044-F2EB86FD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1327A-6230-4DAC-BE71-47BF4A5F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54FB4-C1DB-4E3E-BFAA-02E49C23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CD160-98FE-4844-B7EC-A35D20E1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CFA8A-FAFD-4439-AF07-D9BECAD2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8967-984A-4C39-86D4-1A396E8B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6F4D3-DB35-46CD-87E7-91E2FE64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476EA-53FA-4078-BCDE-B452379A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1CF51-8F72-4ACB-B597-1FC0BD58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3F8A0-E535-48A1-89AF-B970B6E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4EA99-401A-4E90-A4AF-A86B61DE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43C61-9367-4253-823E-96B97390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704BA-7944-4109-9B5E-6F0A25EA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850A1A-F649-4A70-9B29-3D787045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D60FF1-3649-4E02-BA1A-D4AA3A93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440561-0AFB-4E56-BCA0-2D84E719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C1FC-B1DD-4571-B7B8-CA64EC8B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A082E2-98DB-4713-909F-A3318754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F134E6-29D8-4514-97FC-B7AD0008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FF437A-3ED6-4AA6-B0A7-B91A5B7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385D42-0929-45D9-A5B6-FEB16417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393814-044F-4A69-8750-04E12A6D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C8A1A7-46E5-4AB7-94CC-BE26BC5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A57C14-4A82-43F8-840C-214B4984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5F285E-B05B-4F5F-99E7-3F75E9D0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02BBF7-7AF0-48A3-B3A3-3A9C715B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B247A2-C519-48B0-A4B9-8E239725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A931-2BBC-4369-92E1-8B1F3483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606AA4-C6AC-48A2-844A-B52D611C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DCC71E-D8EF-402F-93C8-86FDFE06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369AED-77E3-4E61-B9CC-2C5860DD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0B69FE-FE41-4C4D-BC76-34F96184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D5933C-5279-4209-9F56-9A5F0966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18922D-8321-4F04-88C8-9374A826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954462-304A-4015-AA84-F4B78C9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FDF277-0A29-47B6-BEC1-FA1D2F6C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BAE0B1-8D3B-4B76-9B97-7329B337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F985ED-2C30-4351-91C9-025C3C92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290A-389F-4BCF-8920-9CC7BB46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C27E9A-9A27-4641-8EA9-23CDD154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A3A8D9-400E-4B21-935A-CA8DE3E1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A5BD9-84DB-48A4-B1B0-1DA08E6F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FF503-BE73-4C6C-88FC-5C8409AA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C67B8-32D8-4812-BCE4-70A469CF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3C1E4-2389-4221-AB65-69D5A043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CADE4-5B3A-464E-8AF9-622647F4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57721-03AF-4B5F-9BD8-349AAAC6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F62FC9-8E6E-4F84-B0FA-345A15D2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04C36-A1BA-4CA4-A993-5DA9310F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10FD-0007-4EBC-A686-5F11D08B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A55CE-25F9-4374-9B61-8039E93F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19B95-CFBA-42F0-9065-71D05AFE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620381-6F10-42D1-B1A8-BA71E8FF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CE7B4F-17E3-4E4F-A5C9-327A95BB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E37DD7-B93E-4785-BC1C-096317AE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685858-169F-4E76-8696-23E7DB1B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99744-A4E9-459A-BA32-64EB8312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53BD0-64A8-419C-A96E-4C66151D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ABCE7F-C5DF-4EB9-AB57-11C1609B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B8322-1D56-4B12-ABA5-9D0319A9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27F-0F5F-42A9-8A07-DF01A007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1095-354F-4AAB-A714-0350F514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73071-3386-4C03-8F67-1632AAC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2A758-3B3F-4C8E-B02C-9783D376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C3701-C075-4FC3-8D61-FBC0893F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5387B-F1C9-4A83-949E-20724522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E20C9-2AD1-4667-9E3C-327DB02E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F30218-0EBD-40B5-A804-0B38FFA3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2C61FC-8F09-430F-8987-ED7888E9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AE449-5837-46EF-863C-EDF86237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11752-BECB-4068-87D4-7EF875E2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E0CC9-1907-4FDE-891A-1EF9F092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6145-C4B1-401B-9728-F3D6E29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52938-72F3-4B12-A659-2F30815E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F0E07-49CC-484A-B644-5BA61953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383459-DEA8-4424-8017-CCB20D65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E3D06-E596-484D-83BB-80A31310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84797B-2721-4A81-9B1E-B041EFEC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3FD14F-C3FE-46CC-A083-F0F923D5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9967C8-1E69-43AA-9AB5-7DDB9CF4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A65DD1-5A1E-4CEC-95F9-A90A9BAD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9406E0-BE1A-4F67-AAB2-1593284A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6F140F-5303-4ED7-9C6B-B274D7D7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178E-437F-46CD-8896-9C4B60FC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3BB88F-E454-49DA-A22C-3251CA24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FBC7E1-1E3A-4C2C-A959-8BB1E7A2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D9A4FA-453D-4796-8168-E9244C7D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198253-9AEB-49CA-BE35-DFB8EAB8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88B284A-1C44-4D43-A331-FF6A14B7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F8D90E-EB29-42BE-B414-BADC9666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0C70C5-F566-4712-B595-5DE347D8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AB12AD-A0DB-4630-87F9-9F655E43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68EF03-41A8-4617-8854-884D1FC8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24FB29-8FA4-436B-B52B-7BD92C8E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3102-E75E-4809-AFAD-FA454B2A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481B8-0224-4B91-B5F2-B436F6C7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634B4D-0EB7-4E92-A611-3E3B0A7E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805EAC-BAF0-408F-BB24-1B4A9B76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B664B9-A37B-430E-9830-F08ED03A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349A26-B777-4106-B027-C2E58D7B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FCE8E9-AEC4-401A-BD06-56D8E1F5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A604F-A176-4069-BA50-089E4DCC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059772-CDD9-431D-ABF8-F7C7F1EE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209E40-3AEE-4BD9-BB42-E46E4D38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BFF71-D5FF-4B1B-A2D1-85C53F5F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DD5A-48F0-41AE-BB90-DB1B63A2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A96AA2-2CB4-4460-A3AB-4C7BD10E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71ACE9-65BA-4AF9-87A7-84A055C5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20968-E808-472E-8D4A-F7DE5437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1EA77D-72C3-4E6E-BD30-F9C8060A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3C7F01-CB39-4C7E-86C2-CCF8633A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4A57B5-7086-49BE-8E49-1E7F62D5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B11322-8B00-4CC2-BD9B-7C3A1E30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2DC382-BE40-4800-A8E8-EBAC94A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BCC57C-E935-4AA6-A2A4-8B5CFBBE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66CC0B-09E7-4B40-8B5B-FBE97D5C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872F-A916-4687-95FE-22DAF01F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2C2C47-C1EF-4D31-99C9-694D44A4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D132C-A824-40D4-894D-45C2DBEF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03A2EF-14D4-4691-8E03-4F61D0B0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72C9FC-0EF7-46C1-8E33-4FEC4E41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E47922-2544-43FD-A272-560973DB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6BD079-A4CD-49FA-9F75-DD1DB286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6F1B72-1388-4836-B79D-1E5D0E39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330790-739E-4FC6-A3DE-0937DA48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19745C-91A9-41B9-8A6C-904D0B48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44A65A-3F03-406D-A7C4-9641B6AA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CACF-48A9-4C31-8973-4A033CDB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FC5831-DC6E-4D4C-9444-DB80AE4D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9209EC-29D0-4A0A-AA84-1A5AD2E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464606-0CA4-4A52-BCEF-3D839E73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C0AB9A-E5B5-460A-82D7-71E236B3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C3813E-E688-4DA6-B32F-A49E6088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2E77A7-2130-423E-9D64-39587D64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221638-D771-4D35-A5AC-DAF36F96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249966-6F17-4F69-A1CA-0B33099B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F7CF1E-77CC-4303-AB7D-049F64A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B58B38-54ED-4EBB-AE2A-66E0CEFD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F03D-25A8-4D56-ADA6-7154A723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D45D1F-A4C3-4DB8-B0B0-9EEEDF0B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AB6BD9-C40B-4A9B-B772-4D5296EC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72BC16-2C6A-4588-8505-E8723364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925402-7F19-4B6A-88D3-145FB5B2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681D5C-F23D-4E11-9B96-97270AF8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29ECE6-D2A9-4835-AD77-183D6F95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2FD265-980B-4E30-BBEA-C70CE9C9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A16BD-113D-4455-8209-06693B11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D60E8-91C2-438E-9957-45E11A17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59C-81CD-4C34-935D-2FFDC02F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B6D21-97F8-465D-B08D-A03C5496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8206-D7F0-4F72-8263-00D2FB39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8C211-9874-4C9D-9979-81987A69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4556-0F02-4FEB-B39F-A135ED93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3364-1BB6-46A4-AFD3-2A0A6CA1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C256E-F1F2-402E-9089-6CED5986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C9CE9-0A65-4B49-91EF-CF62F631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6617-236C-4B40-9F8B-306B75EF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D621-5F32-4BF5-8755-EF6E0C0A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25E8D-ED83-41D1-A081-0A2888EB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8B6-14E3-4033-95E4-0A56D31A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A968-3712-4A6D-93A2-0BAAEFF2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DB90-C65C-41A8-AEB8-9B18CF58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A6FD-E603-44E9-A416-D16E71CC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7A24-A442-46C8-A4A2-D459035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80C6-5302-4BF2-B247-A56B9D3C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D7775-7D85-41F2-86F4-722A39BF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2C48-CB34-4C10-953A-A2460FC0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C441-CEA1-4E78-A817-2147DEEC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B610-6739-4C68-9E04-32C0C964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258C9-D44D-46B7-9E72-40CBD7E2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34B-19A8-47E5-8F74-36089034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CEF54-A211-47EC-9612-A2BFE875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3114E-7F3E-4043-AC19-BC37412F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8E973-9A22-4AB6-B1D7-F155361F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D54D2-07DE-4439-B4D9-525AB1D0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5172-4F57-4BF7-8B9A-23BAD7C0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DD5C4-8540-4158-AFFB-E40FF237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32072-F2E8-412B-AFE0-B11B564F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A0C7F-B7A1-431D-BE9E-02AA4BE7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31DBE-DF02-4115-B8B4-45EF8C6C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C9790-5CB8-4776-99FF-E61DBC8C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19F-CCEE-496A-B77D-A4B7A894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83318-B3EC-46C1-BB52-8FC27008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E4DAA-69AD-423A-871F-F38633FE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3F11B-AF51-47F7-8796-D4AEC625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A8DD4-9B54-41CC-BC33-3162BA2B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A159F-2658-4BEC-813A-76573719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18E03-A0DF-4999-8DA3-967BA4CA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B8C6F-0F78-4FE7-92BF-E3936B5A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E8C72-87AA-40E2-A5F6-266D5F38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6F168-72FF-468D-8C7E-6A8A0410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A6BD6-FB54-423A-8AA6-A0AA380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2C6-F5F3-4A86-8187-2A589D3F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9A40D-2BA0-43BC-AC2A-A0594FC5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8C5F2-700D-4A98-9C7A-A10CA1DE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7B484-4C42-47E9-A1A5-2DF0FB76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D8AF-75C3-4992-B6FF-DB4B28A2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3C81F-8BF6-4157-A8D5-189F64A0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86EE2-8FDF-449A-B9FF-C7C51A3C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EBCED-80DA-445A-9430-1B79FA84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E55C1-24F2-481E-AF44-8B7AC31D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F69DA-8408-41FC-8CF7-3FDB622C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19185-E511-442F-B6F7-16308751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4F5-BE7A-4533-9C2F-596FA2A7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55CDC-D546-4682-9FA2-F0726F83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5BC79-4FB0-4D40-941E-AAD3AC0A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1FCA6-1712-4CA7-8C6C-0B3C3F35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70D20-6C91-4E32-B161-9CBF9E05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ADE57-CA5C-4B68-B697-6359C848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1D304-9B24-4AD7-9E56-1424AA70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2F4EA-3C7B-4993-ADCA-BA99AD6B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D813-5A82-4C4A-B3B5-AF488014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5DD5A-1CE1-4140-BB94-7A21D48E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C060A-740A-4866-BF65-9D5F3DCF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F24-E3E1-4FC6-942A-FF7904C2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8FFD4-61F0-4E1E-9095-8946EFEB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C5763-D141-45F8-A765-D26B8715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6F40C-00D4-4433-BC0E-9ABE2667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29664-C24D-4DC8-BE22-52603F18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DB720-848E-40A1-B12D-DA604872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65063-A687-47CF-AE2C-C9A61605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0B80F-B30F-415F-99C4-588C692D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6CCD5-370E-4080-A060-EFC56272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7D17C-27CE-4870-96B5-8CD56A58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971DF-B07A-4F99-98A8-FABB4ED4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464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8B43-C606-48BA-B2F1-0EFFB0790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4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773F-8C52-40BB-8B89-DB47983C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F197-1851-484A-81E2-CF63CD5C2A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1D97-FBA2-496F-A965-6684C21EDD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11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11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446F-9A4A-445F-8A43-46A302711A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888E-734B-4C2A-B0B0-0AD34F35F0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3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B008-3141-4965-90BB-E8132DF29D0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3C6C-A6B2-4DB2-8F2F-E45C39FC21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B377-8E51-4DDE-A871-CECBBD7BE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9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40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40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1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E805-A8F7-4FFA-864A-570E1A5A7BA0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6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46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7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2A48-EA74-4635-8960-E67A2296166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6277-40C4-4DEA-9AD1-55091A6AE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51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2771-F8D6-45B3-BEFE-B68B36F89D3E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56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DC2F-0FF5-4474-88C8-09E58645B996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1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4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48BB-AC61-492C-897A-2AE9CF995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6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dt" idx="6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ftr" idx="6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sldNum" idx="6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59B0-F7FE-4553-8C15-CE722A042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AB46-9412-42DA-93F6-E707A600CA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4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5AF2-85A6-4EA0-A69D-A1BE66BF0C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67F5-55BA-4B44-829B-0F48FC60E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AD74-3352-4304-A753-8A4EFC3DE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2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3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BDDD-024C-449E-BF48-CCD3FC836A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0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1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2B75-83C7-4BF2-A347-4FFC4132FDB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8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B936-F201-4FDD-9CCE-67720B35E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2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image" Target="../media/image26.png"/><Relationship Id="rId4" Type="http://schemas.openxmlformats.org/officeDocument/2006/relationships/image" Target="../media/image31.png"/><Relationship Id="rId5" Type="http://schemas.openxmlformats.org/officeDocument/2006/relationships/image" Target="../media/image3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0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9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7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29.png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76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0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0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0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0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0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20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20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20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20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0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20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20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20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20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20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20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0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29.png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76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2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2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9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29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76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29.png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2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2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29.png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41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2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29.png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76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2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2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2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2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2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40.png"/><Relationship Id="rId10" Type="http://schemas.openxmlformats.org/officeDocument/2006/relationships/image" Target="../media/image29.png"/><Relationship Id="rId11" Type="http://schemas.openxmlformats.org/officeDocument/2006/relationships/image" Target="../media/image42.png"/><Relationship Id="rId12" Type="http://schemas.openxmlformats.org/officeDocument/2006/relationships/image" Target="../media/image42.png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76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2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2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DEFINITION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468000" y="2997360"/>
            <a:ext cx="828036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 of  "Net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ic Transition 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lict and Conf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tings and Val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F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n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2971E-9E8A-47D2-AD0F-A137BE8A69B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7BCF-39F4-48C7-A23F-45DD53C848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D642-9F90-4DD5-BD69-740BE452232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66"/>
                </a:solidFill>
                <a:latin typeface="Tahoma"/>
              </a:rPr>
              <a:t>For the next step, we need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66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99ff66"/>
                </a:solidFill>
                <a:latin typeface="Tahoma"/>
              </a:rPr>
              <a:t>the following Definition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f8fc62"/>
                </a:solidFill>
                <a:latin typeface="Tahoma"/>
              </a:rPr>
              <a:t>Reverse</a:t>
            </a:r>
            <a:r>
              <a:rPr b="0" lang="en-US" sz="4000" spc="-1" strike="noStrike">
                <a:solidFill>
                  <a:srgbClr val="f8fc62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f a Net is obtained by    changing the direction of all Flow Arrows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f8fc62"/>
                </a:solidFill>
                <a:latin typeface="Tahoma"/>
              </a:rPr>
              <a:t>Dual</a:t>
            </a:r>
            <a:r>
              <a:rPr b="0" lang="en-US" sz="4000" spc="-1" strike="noStrike">
                <a:solidFill>
                  <a:srgbClr val="f8fc62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f a Net is obtained by interchanging States and Transitions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f8fc62"/>
                </a:solidFill>
                <a:latin typeface="Tahoma"/>
              </a:rPr>
              <a:t>Degree</a:t>
            </a:r>
            <a:r>
              <a:rPr b="0" lang="en-US" sz="4000" spc="-1" strike="noStrike">
                <a:solidFill>
                  <a:srgbClr val="f8fc62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f a Net is the maximal    number of in- or out-arrows of element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2C5-E359-4462-B551-B9ED1ED07AE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1080" cy="724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917AD-164D-4E27-960A-26C25CDE0B1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"/>
          <p:cNvSpPr/>
          <p:nvPr/>
        </p:nvSpPr>
        <p:spPr>
          <a:xfrm>
            <a:off x="826920" y="404640"/>
            <a:ext cx="2305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ver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u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gre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2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543640" cy="5950080"/>
          </a:xfrm>
          <a:prstGeom prst="rect">
            <a:avLst/>
          </a:prstGeom>
          <a:ln w="0">
            <a:noFill/>
          </a:ln>
        </p:spPr>
      </p:pic>
      <p:sp>
        <p:nvSpPr>
          <p:cNvPr id="1803" name=""/>
          <p:cNvSpPr/>
          <p:nvPr/>
        </p:nvSpPr>
        <p:spPr>
          <a:xfrm>
            <a:off x="3995640" y="558972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re :  Legs-degree =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ails-degree 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395280" y="4797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must be kept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68360" y="1125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hange of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24000" y="2924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hange of 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90AC1-41C8-4250-80F4-C52928ED3E0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611280" y="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Types of Nets, informal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156360" y="4869000"/>
            <a:ext cx="21607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9" name="" descr=""/>
          <p:cNvPicPr/>
          <p:nvPr/>
        </p:nvPicPr>
        <p:blipFill>
          <a:blip r:embed="rId1"/>
          <a:srcRect l="0" t="6992" r="0" b="0"/>
          <a:stretch/>
        </p:blipFill>
        <p:spPr>
          <a:xfrm>
            <a:off x="0" y="765000"/>
            <a:ext cx="8748720" cy="608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2CDE-8FD3-44FF-A9F7-16F964E78C4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Types of Nets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0" y="1916280"/>
            <a:ext cx="889308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RGANIZ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t  is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nected cycle-fre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bbe0e3"/>
                </a:solidFill>
                <a:latin typeface="Tahoma"/>
              </a:rPr>
              <a:t>.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  with all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-ele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inne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s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PROD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t      is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nected cycle-fre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bbe0e3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bbe0e3"/>
                </a:solidFill>
                <a:latin typeface="Tahoma"/>
              </a:rPr>
              <a:t>.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  with all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T-elements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inn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4869000"/>
            <a:ext cx="882000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SYSTE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Net             is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nected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cycl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  </a:t>
            </a:r>
            <a:r>
              <a:rPr b="0" lang="en-US" sz="2800" spc="-1" strike="noStrike">
                <a:solidFill>
                  <a:srgbClr val="bbe0e3"/>
                </a:solidFill>
                <a:latin typeface="Tahoma"/>
              </a:rPr>
              <a:t>. .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all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-arc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ong to cycles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2061-D8D7-4351-AFCE-095D24E3669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395280" y="404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gain,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in Types of Ne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4" name="" descr=""/>
          <p:cNvPicPr/>
          <p:nvPr/>
        </p:nvPicPr>
        <p:blipFill>
          <a:blip r:embed="rId1"/>
          <a:srcRect l="0" t="7703" r="0" b="4124"/>
          <a:stretch/>
        </p:blipFill>
        <p:spPr>
          <a:xfrm>
            <a:off x="0" y="1298520"/>
            <a:ext cx="9144000" cy="555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A9B1-9778-4FC4-81F5-6185346AD25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nnectivity matrix 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“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a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use on a computer, to do 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d / or 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orm of a rectangular table  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with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tri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1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G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1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156360" y="4365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156360" y="5157720"/>
            <a:ext cx="576360" cy="503280"/>
          </a:xfrm>
          <a:prstGeom prst="ellipse">
            <a:avLst/>
          </a:prstGeom>
          <a:solidFill>
            <a:srgbClr val="f8fc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7308720" y="5157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7236000" y="4365720"/>
            <a:ext cx="576000" cy="503280"/>
          </a:xfrm>
          <a:prstGeom prst="ellipse">
            <a:avLst/>
          </a:prstGeom>
          <a:solidFill>
            <a:srgbClr val="f8fc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6732720" y="530064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6659640" y="450864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A61A-123E-4E36-99CC-BF0B5CCEB5F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250920" y="333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This 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2843280" y="3429000"/>
            <a:ext cx="865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755640" y="602136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53964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2195640" y="2492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948360" y="450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6948360" y="76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6948360" y="2637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780000" y="2565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780000" y="443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4211640" y="602136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the c-Matrix:  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378000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364000" y="692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5364000" y="443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867280" y="1844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E196-61C1-45C7-B5DA-E13AF1B435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844F-E4B9-402F-9D6D-1B7A440C3E1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s 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Matrix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468360" y="2133720"/>
            <a:ext cx="718920" cy="31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1" name=""/>
          <p:cNvGraphicFramePr/>
          <p:nvPr/>
        </p:nvGraphicFramePr>
        <p:xfrm>
          <a:off x="1187280" y="1989000"/>
          <a:ext cx="6480360" cy="3456000"/>
        </p:xfrm>
        <a:graphic>
          <a:graphicData uri="http://schemas.openxmlformats.org/drawingml/2006/table">
            <a:tbl>
              <a:tblPr/>
              <a:tblGrid>
                <a:gridCol w="925560"/>
                <a:gridCol w="925560"/>
                <a:gridCol w="925560"/>
                <a:gridCol w="927000"/>
                <a:gridCol w="925560"/>
                <a:gridCol w="925560"/>
                <a:gridCol w="92556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862" name=""/>
          <p:cNvSpPr/>
          <p:nvPr/>
        </p:nvSpPr>
        <p:spPr>
          <a:xfrm>
            <a:off x="755640" y="1197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1    t2     t3    t4     t5    t6    t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468360" y="5661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ahoma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ahoma"/>
              </a:rPr>
              <a:t>connectivity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matri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BE2D09-7BA8-4DD1-97C5-44FC6021B2E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250920" y="333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: This 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2843280" y="3429000"/>
            <a:ext cx="865080" cy="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755640" y="602136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3964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195640" y="2492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s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948360" y="450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6948360" y="76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948360" y="2637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780000" y="2565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3780000" y="443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0" y="407664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the c-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78000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364000" y="692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s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5364000" y="443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s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867280" y="1844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s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0" name=""/>
          <p:cNvGraphicFramePr/>
          <p:nvPr/>
        </p:nvGraphicFramePr>
        <p:xfrm>
          <a:off x="0" y="4724280"/>
          <a:ext cx="3348000" cy="2070360"/>
        </p:xfrm>
        <a:graphic>
          <a:graphicData uri="http://schemas.openxmlformats.org/drawingml/2006/table">
            <a:tbl>
              <a:tblPr/>
              <a:tblGrid>
                <a:gridCol w="479520"/>
                <a:gridCol w="476280"/>
                <a:gridCol w="479160"/>
                <a:gridCol w="478080"/>
                <a:gridCol w="479160"/>
                <a:gridCol w="476280"/>
                <a:gridCol w="47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D516-1D58-45E4-AACD-0D99F9C4BCA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1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273800" cy="5805360"/>
          </a:xfrm>
          <a:prstGeom prst="rect">
            <a:avLst/>
          </a:prstGeom>
          <a:ln w="0">
            <a:noFill/>
          </a:ln>
        </p:spPr>
      </p:pic>
      <p:sp>
        <p:nvSpPr>
          <p:cNvPr id="190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 1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0" i="1" lang="en-US" sz="3200" spc="-1" strike="noStrike">
                <a:solidFill>
                  <a:srgbClr val="ff5050"/>
                </a:solidFill>
                <a:latin typeface="Tahoma"/>
              </a:rPr>
              <a:t>static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.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Now we make it </a:t>
            </a:r>
            <a:r>
              <a:rPr b="0" i="1" lang="en-US" sz="3200" spc="-1" strike="noStrike">
                <a:solidFill>
                  <a:srgbClr val="ff5050"/>
                </a:solidFill>
                <a:latin typeface="Tahoma"/>
              </a:rPr>
              <a:t>dynamic</a:t>
            </a:r>
            <a:r>
              <a:rPr b="0" i="1" lang="en-US" sz="3200" spc="-1" strike="noStrike">
                <a:solidFill>
                  <a:srgbClr val="003399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y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ule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84E1-D9ED-4552-85B8-DE337AE2E28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empor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8893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a step in Time, we </a:t>
            </a: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mark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s which ar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ol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esen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 symbol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c Time-Step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an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Ev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a set of Transitions, which change that marking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marking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M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way described  by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7993080" cy="3500280"/>
          </a:xfrm>
          <a:prstGeom prst="rect">
            <a:avLst/>
          </a:prstGeom>
          <a:ln w="0">
            <a:noFill/>
          </a:ln>
        </p:spPr>
      </p:pic>
      <p:pic>
        <p:nvPicPr>
          <p:cNvPr id="1906" name="" descr=""/>
          <p:cNvPicPr/>
          <p:nvPr/>
        </p:nvPicPr>
        <p:blipFill>
          <a:blip r:embed="rId2"/>
          <a:stretch/>
        </p:blipFill>
        <p:spPr>
          <a:xfrm>
            <a:off x="6948360" y="1484280"/>
            <a:ext cx="569880" cy="569880"/>
          </a:xfrm>
          <a:prstGeom prst="rect">
            <a:avLst/>
          </a:prstGeom>
          <a:ln w="0">
            <a:noFill/>
          </a:ln>
        </p:spPr>
      </p:pic>
      <p:sp>
        <p:nvSpPr>
          <p:cNvPr id="1907" name=""/>
          <p:cNvSpPr/>
          <p:nvPr/>
        </p:nvSpPr>
        <p:spPr>
          <a:xfrm>
            <a:off x="7020000" y="4149720"/>
            <a:ext cx="1873080" cy="934920"/>
          </a:xfrm>
          <a:prstGeom prst="cloudCallout">
            <a:avLst>
              <a:gd name="adj1" fmla="val -53305"/>
              <a:gd name="adj2" fmla="val 60865"/>
            </a:avLst>
          </a:prstGeom>
          <a:solidFill>
            <a:srgbClr val="def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7380360" y="4292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olve  Conflicts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B435-4ECC-43A0-9CD5-A4495D6C129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/>
          <p:nvPr/>
        </p:nvSpPr>
        <p:spPr>
          <a:xfrm>
            <a:off x="3203640" y="1268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843280" y="1125360"/>
            <a:ext cx="1152360" cy="93528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059280" y="12682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2" name="" descr=""/>
          <p:cNvPicPr/>
          <p:nvPr/>
        </p:nvPicPr>
        <p:blipFill>
          <a:blip r:embed="rId2"/>
          <a:stretch/>
        </p:blipFill>
        <p:spPr>
          <a:xfrm>
            <a:off x="539640" y="-19080"/>
            <a:ext cx="8136000" cy="68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89825-25EC-4F8A-A5B4-2BD59DE2A45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324000" y="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 a Basic Net is giv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D4DCD-2F36-4885-99E9-8449126CDA6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6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57" name="" descr=""/>
          <p:cNvPicPr/>
          <p:nvPr/>
        </p:nvPicPr>
        <p:blipFill>
          <a:blip r:embed="rId2"/>
          <a:stretch/>
        </p:blipFill>
        <p:spPr>
          <a:xfrm>
            <a:off x="5003640" y="458136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958" name=""/>
          <p:cNvSpPr/>
          <p:nvPr/>
        </p:nvSpPr>
        <p:spPr>
          <a:xfrm>
            <a:off x="324000" y="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an arbitrary Marking is suppli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E8F5B-C5D4-4E6C-8C18-5B72475DEF6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0" name="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81" name="" descr=""/>
          <p:cNvPicPr/>
          <p:nvPr/>
        </p:nvPicPr>
        <p:blipFill>
          <a:blip r:embed="rId2"/>
          <a:stretch/>
        </p:blipFill>
        <p:spPr>
          <a:xfrm>
            <a:off x="5003640" y="458136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982" name=""/>
          <p:cNvSpPr/>
          <p:nvPr/>
        </p:nvSpPr>
        <p:spPr>
          <a:xfrm>
            <a:off x="324000" y="0"/>
            <a:ext cx="856908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These transitions      form an Ev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435640" y="476280"/>
            <a:ext cx="360360" cy="36036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5580000" y="620640"/>
            <a:ext cx="360360" cy="36036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9B9A7-85FD-4C4A-9F3A-0BDE3189044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/>
          <p:nvPr/>
        </p:nvSpPr>
        <p:spPr>
          <a:xfrm>
            <a:off x="4572000" y="1413000"/>
            <a:ext cx="43344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2987640" y="1268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5508720" y="184464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2268360" y="1773360"/>
            <a:ext cx="719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851280" y="1628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5003640" y="162864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6012000" y="263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6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2007" name="" descr=""/>
          <p:cNvPicPr/>
          <p:nvPr/>
        </p:nvPicPr>
        <p:blipFill>
          <a:blip r:embed="rId2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/>
          <p:nvPr/>
        </p:nvSpPr>
        <p:spPr>
          <a:xfrm>
            <a:off x="324000" y="26028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transitions       have occu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lang="en-US" sz="3200" spc="-1" strike="noStrike" u="sng">
                <a:solidFill>
                  <a:srgbClr val="ffff99"/>
                </a:solidFill>
                <a:uFillTx/>
                <a:latin typeface="Tahoma"/>
              </a:rPr>
              <a:t>concur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5508720" y="404640"/>
            <a:ext cx="36036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651640" y="549360"/>
            <a:ext cx="36036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86327-78D6-44C6-A1EE-38D0ED43D37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EW  EXAMPLE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25D1B-32C6-44E7-9BCC-DCF92519219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efinition of “Net (S,T,F)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0" y="1125360"/>
            <a:ext cx="914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7" name="" descr=""/>
          <p:cNvPicPr/>
          <p:nvPr/>
        </p:nvPicPr>
        <p:blipFill>
          <a:blip r:embed="rId1"/>
          <a:stretch/>
        </p:blipFill>
        <p:spPr>
          <a:xfrm>
            <a:off x="2340000" y="692280"/>
            <a:ext cx="4103640" cy="2896920"/>
          </a:xfrm>
          <a:prstGeom prst="rect">
            <a:avLst/>
          </a:prstGeom>
          <a:ln w="0">
            <a:noFill/>
          </a:ln>
        </p:spPr>
      </p:pic>
      <p:sp>
        <p:nvSpPr>
          <p:cNvPr id="1718" name=""/>
          <p:cNvSpPr/>
          <p:nvPr/>
        </p:nvSpPr>
        <p:spPr>
          <a:xfrm>
            <a:off x="324000" y="321300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set of STATES     s1, s2, …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set of TRANSITIONS   t1, t2, …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FLOW-relation betwee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4572000" y="3357720"/>
            <a:ext cx="1944720" cy="43164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435640" y="4005360"/>
            <a:ext cx="2016000" cy="50328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1" name="" descr=""/>
          <p:cNvPicPr/>
          <p:nvPr/>
        </p:nvPicPr>
        <p:blipFill>
          <a:blip r:embed="rId2"/>
          <a:stretch/>
        </p:blipFill>
        <p:spPr>
          <a:xfrm>
            <a:off x="250920" y="5489640"/>
            <a:ext cx="4608360" cy="1368360"/>
          </a:xfrm>
          <a:prstGeom prst="rect">
            <a:avLst/>
          </a:prstGeom>
          <a:ln w="0">
            <a:noFill/>
          </a:ln>
        </p:spPr>
      </p:pic>
      <p:pic>
        <p:nvPicPr>
          <p:cNvPr id="1722" name="" descr=""/>
          <p:cNvPicPr/>
          <p:nvPr/>
        </p:nvPicPr>
        <p:blipFill>
          <a:blip r:embed="rId3"/>
          <a:stretch/>
        </p:blipFill>
        <p:spPr>
          <a:xfrm>
            <a:off x="3924360" y="5273640"/>
            <a:ext cx="3311640" cy="158436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324000" y="6093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ahoma"/>
              </a:rPr>
              <a:t>F =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ake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Microsoft Sans Serif"/>
              </a:rPr>
              <a:t>U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g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341F-7851-47B6-B501-2BF261833BE9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6" name="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27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028" name=""/>
          <p:cNvSpPr/>
          <p:nvPr/>
        </p:nvSpPr>
        <p:spPr>
          <a:xfrm>
            <a:off x="324000" y="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Example: Two Transitions in CONFLI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3564000" y="4149720"/>
            <a:ext cx="288720" cy="503280"/>
          </a:xfrm>
          <a:prstGeom prst="upDownArrow">
            <a:avLst>
              <a:gd name="adj1" fmla="val 50000"/>
              <a:gd name="adj2" fmla="val 3470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987640" y="90792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250920" y="630864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Tahoma"/>
              </a:rPr>
              <a:t>( This is, formally, an Organization !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13D12-7904-4746-A37B-A6F83011367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6" name="" descr=""/>
          <p:cNvPicPr/>
          <p:nvPr/>
        </p:nvPicPr>
        <p:blipFill>
          <a:blip r:embed="rId1"/>
          <a:stretch/>
        </p:blipFill>
        <p:spPr>
          <a:xfrm>
            <a:off x="5003640" y="458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47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048" name=""/>
          <p:cNvSpPr/>
          <p:nvPr/>
        </p:nvSpPr>
        <p:spPr>
          <a:xfrm>
            <a:off x="324000" y="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ransitions in CONFLI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3564000" y="4149720"/>
            <a:ext cx="288720" cy="503280"/>
          </a:xfrm>
          <a:prstGeom prst="upDownArrow">
            <a:avLst>
              <a:gd name="adj1" fmla="val 50000"/>
              <a:gd name="adj2" fmla="val 3470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2987640" y="907920"/>
            <a:ext cx="568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Rule 2, only one can occur. The space       is too small to hold two marks (“token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5148360" y="148428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62954-7214-499C-8FEB-602F4F2F5D0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6" name="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67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068" name=""/>
          <p:cNvSpPr/>
          <p:nvPr/>
        </p:nvSpPr>
        <p:spPr>
          <a:xfrm>
            <a:off x="324000" y="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ransitions in CONFLI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564000" y="4149720"/>
            <a:ext cx="288720" cy="503280"/>
          </a:xfrm>
          <a:prstGeom prst="upDownArrow">
            <a:avLst>
              <a:gd name="adj1" fmla="val 50000"/>
              <a:gd name="adj2" fmla="val 3470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4572000" y="907920"/>
            <a:ext cx="41036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WHO  </a:t>
            </a:r>
            <a:r>
              <a:rPr b="1" lang="en-US" sz="3200" spc="-1" strike="noStrike">
                <a:solidFill>
                  <a:srgbClr val="f8fc62"/>
                </a:solidFill>
                <a:latin typeface="Tahoma"/>
              </a:rPr>
              <a:t>will                 resolve                             that conflic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611280" y="544500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f 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YOU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on’t take that </a:t>
            </a:r>
            <a:r>
              <a:rPr b="1" lang="en-US" sz="3600" spc="-1" strike="noStrike">
                <a:solidFill>
                  <a:srgbClr val="f8fc62"/>
                </a:solidFill>
                <a:latin typeface="Tahoma"/>
              </a:rPr>
              <a:t>CHANCE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8fc62"/>
                </a:solidFill>
                <a:latin typeface="Tahoma"/>
              </a:rPr>
              <a:t>CHANCE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will do it for 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YOU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AB370-FE9E-4188-A5B7-898E7E71322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gradFill rotWithShape="0">
            <a:gsLst>
              <a:gs pos="0">
                <a:srgbClr val="f8fc62"/>
              </a:gs>
              <a:gs pos="100000">
                <a:srgbClr val="72742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6" name="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87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088" name=""/>
          <p:cNvSpPr/>
          <p:nvPr/>
        </p:nvSpPr>
        <p:spPr>
          <a:xfrm>
            <a:off x="3635280" y="90792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492360" y="1197000"/>
            <a:ext cx="496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3780000" y="907920"/>
            <a:ext cx="53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Tahoma"/>
              </a:rPr>
              <a:t>Others</a:t>
            </a:r>
            <a:r>
              <a:rPr b="1" lang="en-US" sz="3600" spc="-1" strike="noStrike">
                <a:solidFill>
                  <a:srgbClr val="f8fc62"/>
                </a:solidFill>
                <a:latin typeface="Tahoma"/>
              </a:rPr>
              <a:t>  might  play   the role of Chance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49865-10D0-4844-AF40-E8ECD93C3F1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"/>
          <p:cNvSpPr/>
          <p:nvPr/>
        </p:nvSpPr>
        <p:spPr>
          <a:xfrm>
            <a:off x="5796000" y="306864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3059280" y="4581360"/>
            <a:ext cx="43308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3276720" y="3645000"/>
            <a:ext cx="433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835280" y="1916280"/>
            <a:ext cx="43308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4859280" y="443700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4427640" y="3500280"/>
            <a:ext cx="86364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619280" y="299736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>
            <a:off x="5292360" y="3500280"/>
            <a:ext cx="431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5508720" y="3500280"/>
            <a:ext cx="50328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3708000" y="3860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3492000" y="48690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H="1" flipV="1">
            <a:off x="2484000" y="3573360"/>
            <a:ext cx="792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H="1" flipV="1">
            <a:off x="2340000" y="3716280"/>
            <a:ext cx="719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V="1">
            <a:off x="2050920" y="23493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5" name="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106" name="" descr=""/>
          <p:cNvPicPr/>
          <p:nvPr/>
        </p:nvPicPr>
        <p:blipFill>
          <a:blip r:embed="rId2"/>
          <a:stretch/>
        </p:blipFill>
        <p:spPr>
          <a:xfrm>
            <a:off x="1763640" y="3141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107" name=""/>
          <p:cNvSpPr/>
          <p:nvPr/>
        </p:nvSpPr>
        <p:spPr>
          <a:xfrm>
            <a:off x="3635280" y="90792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3492360" y="1197000"/>
            <a:ext cx="496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3780000" y="9079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c62"/>
                </a:solidFill>
                <a:latin typeface="Tahoma"/>
              </a:rPr>
              <a:t>There</a:t>
            </a:r>
            <a:r>
              <a:rPr b="1" lang="en-US" sz="3600" spc="-1" strike="noStrike">
                <a:solidFill>
                  <a:srgbClr val="f8fc62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8fc62"/>
                </a:solidFill>
                <a:latin typeface="Tahoma"/>
              </a:rPr>
              <a:t>you</a:t>
            </a:r>
            <a:r>
              <a:rPr b="1" lang="en-US" sz="3600" spc="-1" strike="noStrike">
                <a:solidFill>
                  <a:srgbClr val="f8fc62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8fc62"/>
                </a:solidFill>
                <a:latin typeface="Tahoma"/>
              </a:rPr>
              <a:t>are</a:t>
            </a:r>
            <a:r>
              <a:rPr b="1" lang="en-US" sz="3600" spc="-1" strike="noStrike">
                <a:solidFill>
                  <a:srgbClr val="f8fc62"/>
                </a:solidFill>
                <a:latin typeface="Tahoma"/>
              </a:rPr>
              <a:t>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0E30F-3F1C-4F74-98D4-92B8A09683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E489-B6A2-42EE-9712-A1D54D16BA5E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2268360" y="98100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FLI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12" name=""/>
          <p:cNvSpPr/>
          <p:nvPr/>
        </p:nvSpPr>
        <p:spPr>
          <a:xfrm>
            <a:off x="1258920" y="2421000"/>
            <a:ext cx="720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rises from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ack of re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a given sit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1116000" y="4508640"/>
            <a:ext cx="6985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Unused capacity is also a resource.                  It is involved in every trans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It may be represented by "anti-tokens"        .     which flow against the F-dir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68D8-B0BD-4614-A99B-E836E12A1DB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2268360" y="98100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FLI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16" name=""/>
          <p:cNvSpPr/>
          <p:nvPr/>
        </p:nvSpPr>
        <p:spPr>
          <a:xfrm>
            <a:off x="1908000" y="2421000"/>
            <a:ext cx="54723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a System is resolved             at its Boundaries on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It is resolved by its        </a:t>
            </a:r>
            <a:r>
              <a:rPr b="1" lang="en-US" sz="3600" spc="-1" strike="noStrike">
                <a:solidFill>
                  <a:srgbClr val="527c3a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    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3492360" y="5805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vice ver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7FCA-310B-4F89-9F41-D6FDF9693F1F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1476360" y="907920"/>
            <a:ext cx="626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20" name=""/>
          <p:cNvSpPr/>
          <p:nvPr/>
        </p:nvSpPr>
        <p:spPr>
          <a:xfrm>
            <a:off x="1692360" y="2276640"/>
            <a:ext cx="66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s that which settles indeci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at which resolves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755640" y="4437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the lowest level, INFORMATION is represented by the distribution of tokens over alternative po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9D5D-2ECD-4DBD-B738-1EA79432511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 txBox="1"/>
          <p:nvPr/>
        </p:nvSpPr>
        <p:spPr>
          <a:xfrm>
            <a:off x="1476360" y="907920"/>
            <a:ext cx="626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24" name=""/>
          <p:cNvSpPr/>
          <p:nvPr/>
        </p:nvSpPr>
        <p:spPr>
          <a:xfrm>
            <a:off x="1692360" y="249228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at which resolves CONFL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1476360" y="4221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INFORMATION is said to FLOW across the boundary of a System -- in or out or both – whenever CONFLICTS are res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71DC-D865-4351-9408-FA16279453A4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2340000" y="1052640"/>
            <a:ext cx="43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F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28" name=""/>
          <p:cNvSpPr/>
          <p:nvPr/>
        </p:nvSpPr>
        <p:spPr>
          <a:xfrm>
            <a:off x="1042920" y="234936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ours CONFLICT and CONCURRENCY together and prevents thus the unique recognition of INFORMATION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1116000" y="4365720"/>
            <a:ext cx="705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USION must be excluded in constructs serving  the  distinct  flow of  INFORMATION,   e.g. for COMPU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It can be do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" descr=""/>
          <p:cNvPicPr/>
          <p:nvPr/>
        </p:nvPicPr>
        <p:blipFill>
          <a:blip r:embed="rId1"/>
          <a:srcRect l="0" t="0" r="0" b="4861"/>
          <a:stretch/>
        </p:blipFill>
        <p:spPr>
          <a:xfrm>
            <a:off x="1547640" y="333360"/>
            <a:ext cx="5832720" cy="6524640"/>
          </a:xfrm>
          <a:prstGeom prst="rect">
            <a:avLst/>
          </a:prstGeom>
          <a:ln w="0">
            <a:noFill/>
          </a:ln>
        </p:spPr>
      </p:pic>
      <p:sp>
        <p:nvSpPr>
          <p:cNvPr id="1725" name=""/>
          <p:cNvSpPr/>
          <p:nvPr/>
        </p:nvSpPr>
        <p:spPr>
          <a:xfrm>
            <a:off x="4284720" y="6597720"/>
            <a:ext cx="295128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2E541-7DAE-4FDF-A3C5-AC8408C2E70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1" name="" descr=""/>
          <p:cNvPicPr/>
          <p:nvPr/>
        </p:nvPicPr>
        <p:blipFill>
          <a:blip r:embed="rId1"/>
          <a:srcRect l="4515" t="26723" r="7215" b="0"/>
          <a:stretch/>
        </p:blipFill>
        <p:spPr>
          <a:xfrm>
            <a:off x="1547640" y="1268280"/>
            <a:ext cx="5688360" cy="2068560"/>
          </a:xfrm>
          <a:prstGeom prst="rect">
            <a:avLst/>
          </a:prstGeom>
          <a:ln w="0">
            <a:noFill/>
          </a:ln>
        </p:spPr>
      </p:pic>
      <p:pic>
        <p:nvPicPr>
          <p:cNvPr id="2132" name="" descr=""/>
          <p:cNvPicPr/>
          <p:nvPr/>
        </p:nvPicPr>
        <p:blipFill>
          <a:blip r:embed="rId2"/>
          <a:stretch/>
        </p:blipFill>
        <p:spPr>
          <a:xfrm>
            <a:off x="5724360" y="6597720"/>
            <a:ext cx="570240" cy="260280"/>
          </a:xfrm>
          <a:prstGeom prst="rect">
            <a:avLst/>
          </a:prstGeom>
          <a:ln w="0">
            <a:noFill/>
          </a:ln>
        </p:spPr>
      </p:pic>
      <p:sp>
        <p:nvSpPr>
          <p:cNvPr id="2133" name=""/>
          <p:cNvSpPr/>
          <p:nvPr/>
        </p:nvSpPr>
        <p:spPr>
          <a:xfrm>
            <a:off x="755640" y="393372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Let us take a closer look at this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E3B8E-6C61-4BF2-8239-59AF8B524F6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5" name="" descr=""/>
          <p:cNvPicPr/>
          <p:nvPr/>
        </p:nvPicPr>
        <p:blipFill>
          <a:blip r:embed="rId1"/>
          <a:srcRect l="4515" t="26723" r="7215" b="0"/>
          <a:stretch/>
        </p:blipFill>
        <p:spPr>
          <a:xfrm>
            <a:off x="1547640" y="1268280"/>
            <a:ext cx="5688360" cy="2068560"/>
          </a:xfrm>
          <a:prstGeom prst="rect">
            <a:avLst/>
          </a:prstGeom>
          <a:ln w="0">
            <a:noFill/>
          </a:ln>
        </p:spPr>
      </p:pic>
      <p:pic>
        <p:nvPicPr>
          <p:cNvPr id="2136" name="" descr=""/>
          <p:cNvPicPr/>
          <p:nvPr/>
        </p:nvPicPr>
        <p:blipFill>
          <a:blip r:embed="rId2"/>
          <a:stretch/>
        </p:blipFill>
        <p:spPr>
          <a:xfrm>
            <a:off x="5724360" y="6597720"/>
            <a:ext cx="570240" cy="260280"/>
          </a:xfrm>
          <a:prstGeom prst="rect">
            <a:avLst/>
          </a:prstGeom>
          <a:ln w="0">
            <a:noFill/>
          </a:ln>
        </p:spPr>
      </p:pic>
      <p:pic>
        <p:nvPicPr>
          <p:cNvPr id="2137" name="" descr=""/>
          <p:cNvPicPr/>
          <p:nvPr/>
        </p:nvPicPr>
        <p:blipFill>
          <a:blip r:embed="rId3"/>
          <a:stretch/>
        </p:blipFill>
        <p:spPr>
          <a:xfrm>
            <a:off x="0" y="5013360"/>
            <a:ext cx="219564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1FC93-451D-45AA-9B39-ADB57EF10A9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/>
          <p:nvPr/>
        </p:nvSpPr>
        <p:spPr>
          <a:xfrm>
            <a:off x="611280" y="41497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  is a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ahoma"/>
              </a:rPr>
              <a:t>non-emp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t of Tran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9" name="" descr=""/>
          <p:cNvPicPr/>
          <p:nvPr/>
        </p:nvPicPr>
        <p:blipFill>
          <a:blip r:embed="rId1"/>
          <a:srcRect l="4515" t="26723" r="7215" b="0"/>
          <a:stretch/>
        </p:blipFill>
        <p:spPr>
          <a:xfrm>
            <a:off x="1547640" y="1268280"/>
            <a:ext cx="5688360" cy="2068560"/>
          </a:xfrm>
          <a:prstGeom prst="rect">
            <a:avLst/>
          </a:prstGeom>
          <a:ln w="0">
            <a:noFill/>
          </a:ln>
        </p:spPr>
      </p:pic>
      <p:pic>
        <p:nvPicPr>
          <p:cNvPr id="2140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2141" name="" descr=""/>
          <p:cNvPicPr/>
          <p:nvPr/>
        </p:nvPicPr>
        <p:blipFill>
          <a:blip r:embed="rId3"/>
          <a:stretch/>
        </p:blipFill>
        <p:spPr>
          <a:xfrm>
            <a:off x="4211640" y="227664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2142" name="" descr=""/>
          <p:cNvPicPr/>
          <p:nvPr/>
        </p:nvPicPr>
        <p:blipFill>
          <a:blip r:embed="rId4"/>
          <a:stretch/>
        </p:blipFill>
        <p:spPr>
          <a:xfrm>
            <a:off x="5580000" y="2276640"/>
            <a:ext cx="1784520" cy="1190520"/>
          </a:xfrm>
          <a:prstGeom prst="rect">
            <a:avLst/>
          </a:prstGeom>
          <a:ln w="0">
            <a:noFill/>
          </a:ln>
        </p:spPr>
      </p:pic>
      <p:pic>
        <p:nvPicPr>
          <p:cNvPr id="2143" name="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2017800" cy="1190520"/>
          </a:xfrm>
          <a:prstGeom prst="rect">
            <a:avLst/>
          </a:prstGeom>
          <a:ln w="0">
            <a:noFill/>
          </a:ln>
        </p:spPr>
      </p:pic>
      <p:pic>
        <p:nvPicPr>
          <p:cNvPr id="2144" name="" descr=""/>
          <p:cNvPicPr/>
          <p:nvPr/>
        </p:nvPicPr>
        <p:blipFill>
          <a:blip r:embed="rId6"/>
          <a:stretch/>
        </p:blipFill>
        <p:spPr>
          <a:xfrm>
            <a:off x="1332000" y="2276640"/>
            <a:ext cx="2016000" cy="119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494A2-7B31-402C-85B2-85F4FAB82F1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5" name="" descr=""/>
          <p:cNvPicPr/>
          <p:nvPr/>
        </p:nvPicPr>
        <p:blipFill>
          <a:blip r:embed="rId1"/>
          <a:stretch/>
        </p:blipFill>
        <p:spPr>
          <a:xfrm>
            <a:off x="0" y="4697280"/>
            <a:ext cx="1920960" cy="2160720"/>
          </a:xfrm>
          <a:prstGeom prst="rect">
            <a:avLst/>
          </a:prstGeom>
          <a:ln w="0">
            <a:noFill/>
          </a:ln>
        </p:spPr>
      </p:pic>
      <p:pic>
        <p:nvPicPr>
          <p:cNvPr id="2146" name="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2147" name="" descr=""/>
          <p:cNvPicPr/>
          <p:nvPr/>
        </p:nvPicPr>
        <p:blipFill>
          <a:blip r:embed="rId3"/>
          <a:srcRect l="4515" t="26723" r="7215" b="0"/>
          <a:stretch/>
        </p:blipFill>
        <p:spPr>
          <a:xfrm>
            <a:off x="1547640" y="1268280"/>
            <a:ext cx="5688360" cy="2068560"/>
          </a:xfrm>
          <a:prstGeom prst="rect">
            <a:avLst/>
          </a:prstGeom>
          <a:ln w="0">
            <a:noFill/>
          </a:ln>
        </p:spPr>
      </p:pic>
      <p:pic>
        <p:nvPicPr>
          <p:cNvPr id="2148" name="" descr=""/>
          <p:cNvPicPr/>
          <p:nvPr/>
        </p:nvPicPr>
        <p:blipFill>
          <a:blip r:embed="rId4"/>
          <a:stretch/>
        </p:blipFill>
        <p:spPr>
          <a:xfrm>
            <a:off x="4716360" y="1413000"/>
            <a:ext cx="1905120" cy="1190520"/>
          </a:xfrm>
          <a:prstGeom prst="rect">
            <a:avLst/>
          </a:prstGeom>
          <a:ln w="0">
            <a:noFill/>
          </a:ln>
        </p:spPr>
      </p:pic>
      <p:sp>
        <p:nvSpPr>
          <p:cNvPr id="2149" name=""/>
          <p:cNvSpPr/>
          <p:nvPr/>
        </p:nvSpPr>
        <p:spPr>
          <a:xfrm>
            <a:off x="2050920" y="2565360"/>
            <a:ext cx="4608720" cy="1295280"/>
          </a:xfrm>
          <a:prstGeom prst="wedgeRoundRectCallout">
            <a:avLst>
              <a:gd name="adj1" fmla="val -53962"/>
              <a:gd name="adj2" fmla="val 170833"/>
              <a:gd name="adj3" fmla="val 1666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2124000" y="278136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41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463416"/>
                </a:solidFill>
                <a:latin typeface="Tahoma"/>
              </a:rPr>
              <a:t>Time is what happens when nothing else happ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1" name="" descr=""/>
          <p:cNvPicPr/>
          <p:nvPr/>
        </p:nvPicPr>
        <p:blipFill>
          <a:blip r:embed="rId5"/>
          <a:stretch/>
        </p:blipFill>
        <p:spPr>
          <a:xfrm>
            <a:off x="5580000" y="5950080"/>
            <a:ext cx="1863720" cy="1224000"/>
          </a:xfrm>
          <a:prstGeom prst="rect">
            <a:avLst/>
          </a:prstGeom>
          <a:ln w="0">
            <a:noFill/>
          </a:ln>
        </p:spPr>
      </p:pic>
      <p:sp>
        <p:nvSpPr>
          <p:cNvPr id="2152" name=""/>
          <p:cNvSpPr/>
          <p:nvPr/>
        </p:nvSpPr>
        <p:spPr>
          <a:xfrm>
            <a:off x="3924360" y="5229360"/>
            <a:ext cx="1942920" cy="936360"/>
          </a:xfrm>
          <a:prstGeom prst="cloudCallout">
            <a:avLst>
              <a:gd name="adj1" fmla="val 38314"/>
              <a:gd name="adj2" fmla="val 76101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4140360" y="5373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Century Gothic"/>
              </a:rPr>
              <a:t>   </a:t>
            </a:r>
            <a:r>
              <a:rPr b="1" lang="en-US" sz="1800" spc="-1" strike="noStrike">
                <a:solidFill>
                  <a:srgbClr val="463416"/>
                </a:solidFill>
                <a:latin typeface="Century Gothic"/>
              </a:rPr>
              <a:t>How  do  you </a:t>
            </a:r>
            <a:r>
              <a:rPr b="1" i="1" lang="en-US" sz="1800" spc="-1" strike="noStrike">
                <a:solidFill>
                  <a:srgbClr val="0066cc"/>
                </a:solidFill>
                <a:latin typeface="Century Gothic"/>
              </a:rPr>
              <a:t>know </a:t>
            </a:r>
            <a:r>
              <a:rPr b="1" i="1" lang="en-US" sz="1800" spc="-1" strike="noStrike">
                <a:solidFill>
                  <a:srgbClr val="463416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0F6AE-D59E-4AFE-BFA9-29F5B5EC812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4" name="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971640" y="0"/>
            <a:ext cx="7056360" cy="6858000"/>
          </a:xfrm>
          <a:prstGeom prst="rect">
            <a:avLst/>
          </a:prstGeom>
          <a:ln w="0">
            <a:noFill/>
          </a:ln>
        </p:spPr>
      </p:pic>
      <p:pic>
        <p:nvPicPr>
          <p:cNvPr id="2155" name="" descr=""/>
          <p:cNvPicPr/>
          <p:nvPr/>
        </p:nvPicPr>
        <p:blipFill>
          <a:blip r:embed="rId2"/>
          <a:stretch/>
        </p:blipFill>
        <p:spPr>
          <a:xfrm>
            <a:off x="6659640" y="692280"/>
            <a:ext cx="1201680" cy="142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5CE18-D35F-4997-B1E1-5093FE3679A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84000" y="2492280"/>
            <a:ext cx="8459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8fc62"/>
                </a:solidFill>
                <a:latin typeface="Arial"/>
              </a:rPr>
              <a:t>Now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we use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Net Simulation Progra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which executes Time-Step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according to Rule 2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BDD30-2BC1-484C-B54B-A062F75B1535}" type="slidenum">
              <a:t>45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68000" y="2205000"/>
            <a:ext cx="8675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ur Simulator can wor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cc99"/>
                </a:solidFill>
                <a:latin typeface="Arial"/>
              </a:rPr>
              <a:t>FORWA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also </a:t>
            </a:r>
            <a:r>
              <a:rPr b="1" lang="en-US" sz="3600" spc="-1" strike="noStrike">
                <a:solidFill>
                  <a:srgbClr val="f8fc62"/>
                </a:solidFill>
                <a:latin typeface="Arial"/>
              </a:rPr>
              <a:t>BACKWARD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sometimes we want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research the </a:t>
            </a:r>
            <a:r>
              <a:rPr b="1" lang="en-US" sz="3200" spc="-1" strike="noStrike">
                <a:solidFill>
                  <a:srgbClr val="f8fc62"/>
                </a:solidFill>
                <a:latin typeface="Arial"/>
              </a:rPr>
              <a:t>pa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8fc62"/>
                </a:solidFill>
                <a:latin typeface="Arial"/>
              </a:rPr>
              <a:t>histor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 given Net Stru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D299-EF72-4BB6-BAF8-A51605C7902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1008000" y="188640"/>
            <a:ext cx="8136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an apply 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*  steps of </a:t>
            </a:r>
            <a:r>
              <a:rPr b="0" lang="en-US" sz="4000" spc="-1" strike="noStrike">
                <a:solidFill>
                  <a:srgbClr val="f8fc62"/>
                </a:solidFill>
                <a:latin typeface="Arial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ransition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*  </a:t>
            </a:r>
            <a:r>
              <a:rPr b="0" lang="en-US" sz="4000" spc="-1" strike="noStrike">
                <a:solidFill>
                  <a:srgbClr val="f8fc62"/>
                </a:solidFill>
                <a:latin typeface="Arial"/>
              </a:rPr>
              <a:t>maxim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eps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can delegate choices to a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*  </a:t>
            </a:r>
            <a:r>
              <a:rPr b="0" lang="en-US" sz="4000" spc="-1" strike="noStrike">
                <a:solidFill>
                  <a:srgbClr val="f8fc62"/>
                </a:solidFill>
                <a:latin typeface="Arial"/>
              </a:rPr>
              <a:t>rando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enera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C2E6-9494-49A8-836E-D42DDE32449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250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rganization Net:  </a:t>
            </a:r>
            <a:r>
              <a:rPr b="0" i="1" lang="en-US" sz="3200" spc="-1" strike="noStrike">
                <a:solidFill>
                  <a:srgbClr val="f8fc62"/>
                </a:solidFill>
                <a:latin typeface="Tahoma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755640" y="602136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53964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2195640" y="2492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948360" y="450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54053-CC90-4181-B535-2FC03C03F8F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NET SIMULATO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5229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K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X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COL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ART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9" name=""/>
          <p:cNvSpPr/>
          <p:nvPr/>
        </p:nvSpPr>
        <p:spPr>
          <a:xfrm>
            <a:off x="3203640" y="2637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3492360" y="184464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3419640" y="184464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3203640" y="450864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3203640" y="4005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3203640" y="5445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5" name="" descr=""/>
          <p:cNvPicPr/>
          <p:nvPr/>
        </p:nvPicPr>
        <p:blipFill>
          <a:blip r:embed="rId8"/>
          <a:stretch/>
        </p:blipFill>
        <p:spPr>
          <a:xfrm>
            <a:off x="7093080" y="3933720"/>
            <a:ext cx="863640" cy="792360"/>
          </a:xfrm>
          <a:prstGeom prst="rect">
            <a:avLst/>
          </a:prstGeom>
          <a:ln w="0">
            <a:noFill/>
          </a:ln>
        </p:spPr>
      </p:pic>
      <p:sp>
        <p:nvSpPr>
          <p:cNvPr id="2196" name=""/>
          <p:cNvSpPr/>
          <p:nvPr/>
        </p:nvSpPr>
        <p:spPr>
          <a:xfrm>
            <a:off x="6948360" y="3789360"/>
            <a:ext cx="115272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7093080" y="3933720"/>
            <a:ext cx="792000" cy="792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716360" y="5157720"/>
            <a:ext cx="338472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003640" y="5445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OD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203640" y="2205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203640" y="3573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6AF78-6656-4A97-BCC8-A3487D81B6D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/>
          <p:nvPr/>
        </p:nvSpPr>
        <p:spPr>
          <a:xfrm>
            <a:off x="250920" y="260280"/>
            <a:ext cx="8569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or later use, we defin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3200" spc="-1" strike="noStrike">
                <a:solidFill>
                  <a:srgbClr val="ffff00"/>
                </a:solidFill>
                <a:latin typeface="Tahoma"/>
              </a:rPr>
              <a:t>A State        is an OPEN singleton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3200" spc="-1" strike="noStrike">
                <a:solidFill>
                  <a:srgbClr val="99ccff"/>
                </a:solidFill>
                <a:latin typeface="Tahoma"/>
              </a:rPr>
              <a:t>A Transition       is a CLOSED singleton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The CLOSURE of a subset  Y of 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s  Y plus all Transitions connected with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losure (Y) :=  Y 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T@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468360" y="5229360"/>
            <a:ext cx="5183280" cy="936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340000" y="1052640"/>
            <a:ext cx="431640" cy="43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132000" y="1844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DB7D9E-80C8-457D-B69D-4BEBBDCAE4D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NET SIMULATO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5229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K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IN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X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COL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ART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"/>
          <p:cNvSpPr/>
          <p:nvPr/>
        </p:nvSpPr>
        <p:spPr>
          <a:xfrm>
            <a:off x="3203640" y="2637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3492360" y="184464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3419640" y="184464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8" name="" descr=""/>
          <p:cNvPicPr/>
          <p:nvPr/>
        </p:nvPicPr>
        <p:blipFill>
          <a:blip r:embed="rId8"/>
          <a:stretch/>
        </p:blipFill>
        <p:spPr>
          <a:xfrm>
            <a:off x="3203640" y="213372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09" name="" descr=""/>
          <p:cNvPicPr/>
          <p:nvPr/>
        </p:nvPicPr>
        <p:blipFill>
          <a:blip r:embed="rId9"/>
          <a:stretch/>
        </p:blipFill>
        <p:spPr>
          <a:xfrm>
            <a:off x="3203640" y="357336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10" name=""/>
          <p:cNvSpPr/>
          <p:nvPr/>
        </p:nvSpPr>
        <p:spPr>
          <a:xfrm>
            <a:off x="3203640" y="450864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3203640" y="4005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3203640" y="5445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3" name="" descr=""/>
          <p:cNvPicPr/>
          <p:nvPr/>
        </p:nvPicPr>
        <p:blipFill>
          <a:blip r:embed="rId10"/>
          <a:stretch/>
        </p:blipFill>
        <p:spPr>
          <a:xfrm>
            <a:off x="7093080" y="3933720"/>
            <a:ext cx="863640" cy="792360"/>
          </a:xfrm>
          <a:prstGeom prst="rect">
            <a:avLst/>
          </a:prstGeom>
          <a:ln w="0">
            <a:noFill/>
          </a:ln>
        </p:spPr>
      </p:pic>
      <p:sp>
        <p:nvSpPr>
          <p:cNvPr id="2214" name=""/>
          <p:cNvSpPr/>
          <p:nvPr/>
        </p:nvSpPr>
        <p:spPr>
          <a:xfrm>
            <a:off x="6948360" y="3789360"/>
            <a:ext cx="115272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7093080" y="3933720"/>
            <a:ext cx="792000" cy="7923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4716360" y="5157720"/>
            <a:ext cx="338472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5003640" y="5445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N E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F53A6-909A-4D85-9411-0DA7C013B08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3A3E48-BEBF-4990-A5F1-8273D989909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2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CFB14C-77BB-406C-942D-178CD334EFB3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5" name="" descr=""/>
          <p:cNvPicPr/>
          <p:nvPr/>
        </p:nvPicPr>
        <p:blipFill>
          <a:blip r:embed="rId1"/>
          <a:stretch/>
        </p:blipFill>
        <p:spPr>
          <a:xfrm>
            <a:off x="5364000" y="5084640"/>
            <a:ext cx="50508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5BC847-0A1E-478A-8C25-74A6FBA965C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1BFFED-F9D6-4873-BA21-54FBC20D5B8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0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E6658-30B0-4A01-A1FF-C0D8F9AD694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3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505080" cy="432000"/>
          </a:xfrm>
          <a:prstGeom prst="rect">
            <a:avLst/>
          </a:prstGeom>
          <a:ln w="0">
            <a:noFill/>
          </a:ln>
        </p:spPr>
      </p:pic>
      <p:pic>
        <p:nvPicPr>
          <p:cNvPr id="2354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505080" cy="43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36BA7C-98BB-4818-8772-D1C9CE1A1A1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7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505080" cy="431640"/>
          </a:xfrm>
          <a:prstGeom prst="rect">
            <a:avLst/>
          </a:prstGeom>
          <a:ln w="0">
            <a:noFill/>
          </a:ln>
        </p:spPr>
      </p:pic>
      <p:pic>
        <p:nvPicPr>
          <p:cNvPr id="2378" name="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504720" cy="432000"/>
          </a:xfrm>
          <a:prstGeom prst="rect">
            <a:avLst/>
          </a:prstGeom>
          <a:ln w="0">
            <a:noFill/>
          </a:ln>
        </p:spPr>
      </p:pic>
      <p:pic>
        <p:nvPicPr>
          <p:cNvPr id="2379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50508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237DB-47C2-4A23-A70E-21A9CB67E04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2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505080" cy="431640"/>
          </a:xfrm>
          <a:prstGeom prst="rect">
            <a:avLst/>
          </a:prstGeom>
          <a:ln w="0">
            <a:noFill/>
          </a:ln>
        </p:spPr>
      </p:pic>
      <p:pic>
        <p:nvPicPr>
          <p:cNvPr id="2403" name="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FD78FB-CBD9-4B36-AF0D-F66D5C31484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6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505080" cy="43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A169B-BF26-4D23-88C8-2471F058220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999D-6BF0-4A23-9CE4-2E34DC46852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9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505080" cy="431640"/>
          </a:xfrm>
          <a:prstGeom prst="rect">
            <a:avLst/>
          </a:prstGeom>
          <a:ln w="0">
            <a:noFill/>
          </a:ln>
        </p:spPr>
      </p:pic>
      <p:pic>
        <p:nvPicPr>
          <p:cNvPr id="2450" name="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E0380-2C99-4668-8419-FC13561BF53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3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3E60FA-27A0-4616-B4EF-80409F3AD0F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6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505080" cy="431640"/>
          </a:xfrm>
          <a:prstGeom prst="rect">
            <a:avLst/>
          </a:prstGeom>
          <a:ln w="0">
            <a:noFill/>
          </a:ln>
        </p:spPr>
      </p:pic>
      <p:pic>
        <p:nvPicPr>
          <p:cNvPr id="2497" name="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50508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FCB4F-7866-4615-BD94-F1AD2C46BCE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0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505080" cy="431640"/>
          </a:xfrm>
          <a:prstGeom prst="rect">
            <a:avLst/>
          </a:prstGeom>
          <a:ln w="0">
            <a:noFill/>
          </a:ln>
        </p:spPr>
      </p:pic>
      <p:pic>
        <p:nvPicPr>
          <p:cNvPr id="2521" name="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505080" cy="432000"/>
          </a:xfrm>
          <a:prstGeom prst="rect">
            <a:avLst/>
          </a:prstGeom>
          <a:ln w="0">
            <a:noFill/>
          </a:ln>
        </p:spPr>
      </p:pic>
      <p:pic>
        <p:nvPicPr>
          <p:cNvPr id="2522" name="" descr=""/>
          <p:cNvPicPr/>
          <p:nvPr/>
        </p:nvPicPr>
        <p:blipFill>
          <a:blip r:embed="rId3"/>
          <a:stretch/>
        </p:blipFill>
        <p:spPr>
          <a:xfrm>
            <a:off x="2195640" y="321300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380612-62E7-44CA-922B-58D05B50F6F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5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505080" cy="431640"/>
          </a:xfrm>
          <a:prstGeom prst="rect">
            <a:avLst/>
          </a:prstGeom>
          <a:ln w="0">
            <a:noFill/>
          </a:ln>
        </p:spPr>
      </p:pic>
      <p:pic>
        <p:nvPicPr>
          <p:cNvPr id="2546" name="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505080" cy="432000"/>
          </a:xfrm>
          <a:prstGeom prst="rect">
            <a:avLst/>
          </a:prstGeom>
          <a:ln w="0">
            <a:noFill/>
          </a:ln>
        </p:spPr>
      </p:pic>
      <p:pic>
        <p:nvPicPr>
          <p:cNvPr id="2547" name="" descr=""/>
          <p:cNvPicPr/>
          <p:nvPr/>
        </p:nvPicPr>
        <p:blipFill>
          <a:blip r:embed="rId3"/>
          <a:stretch/>
        </p:blipFill>
        <p:spPr>
          <a:xfrm>
            <a:off x="5364000" y="5084640"/>
            <a:ext cx="50508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23E0C-C8FB-4D91-B58E-9DA487376E1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0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505080" cy="431640"/>
          </a:xfrm>
          <a:prstGeom prst="rect">
            <a:avLst/>
          </a:prstGeom>
          <a:ln w="0">
            <a:noFill/>
          </a:ln>
        </p:spPr>
      </p:pic>
      <p:pic>
        <p:nvPicPr>
          <p:cNvPr id="2571" name="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504720" cy="432000"/>
          </a:xfrm>
          <a:prstGeom prst="rect">
            <a:avLst/>
          </a:prstGeom>
          <a:ln w="0">
            <a:noFill/>
          </a:ln>
        </p:spPr>
      </p:pic>
      <p:pic>
        <p:nvPicPr>
          <p:cNvPr id="2572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505080" cy="432000"/>
          </a:xfrm>
          <a:prstGeom prst="rect">
            <a:avLst/>
          </a:prstGeom>
          <a:ln w="0">
            <a:noFill/>
          </a:ln>
        </p:spPr>
      </p:pic>
      <p:pic>
        <p:nvPicPr>
          <p:cNvPr id="2573" name="" descr=""/>
          <p:cNvPicPr/>
          <p:nvPr/>
        </p:nvPicPr>
        <p:blipFill>
          <a:blip r:embed="rId4"/>
          <a:stretch/>
        </p:blipFill>
        <p:spPr>
          <a:xfrm>
            <a:off x="5364000" y="5084640"/>
            <a:ext cx="50508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613582-7ACF-4D36-9911-5325B2A35F6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6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504720" cy="432000"/>
          </a:xfrm>
          <a:prstGeom prst="rect">
            <a:avLst/>
          </a:prstGeom>
          <a:ln w="0">
            <a:noFill/>
          </a:ln>
        </p:spPr>
      </p:pic>
      <p:pic>
        <p:nvPicPr>
          <p:cNvPr id="2597" name="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505080" cy="432000"/>
          </a:xfrm>
          <a:prstGeom prst="rect">
            <a:avLst/>
          </a:prstGeom>
          <a:ln w="0">
            <a:noFill/>
          </a:ln>
        </p:spPr>
      </p:pic>
      <p:pic>
        <p:nvPicPr>
          <p:cNvPr id="2598" name="" descr=""/>
          <p:cNvPicPr/>
          <p:nvPr/>
        </p:nvPicPr>
        <p:blipFill>
          <a:blip r:embed="rId3"/>
          <a:stretch/>
        </p:blipFill>
        <p:spPr>
          <a:xfrm>
            <a:off x="5364000" y="5084640"/>
            <a:ext cx="50508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24388-6026-41DC-ACC7-4F8FA1E9885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1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504720" cy="432000"/>
          </a:xfrm>
          <a:prstGeom prst="rect">
            <a:avLst/>
          </a:prstGeom>
          <a:ln w="0">
            <a:noFill/>
          </a:ln>
        </p:spPr>
      </p:pic>
      <p:pic>
        <p:nvPicPr>
          <p:cNvPr id="2622" name="" descr=""/>
          <p:cNvPicPr/>
          <p:nvPr/>
        </p:nvPicPr>
        <p:blipFill>
          <a:blip r:embed="rId2"/>
          <a:stretch/>
        </p:blipFill>
        <p:spPr>
          <a:xfrm>
            <a:off x="5364000" y="5084640"/>
            <a:ext cx="50508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1214C4-3ECA-43FD-A3F4-55A5542DA48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5" name="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A7CCB-1848-4ECD-8D60-C30F826D1B2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"/>
          <p:cNvSpPr/>
          <p:nvPr/>
        </p:nvSpPr>
        <p:spPr>
          <a:xfrm>
            <a:off x="755640" y="33336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68436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6877080" y="314172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708360" y="501336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3708360" y="126828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3708360" y="3141720"/>
            <a:ext cx="6494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6877080" y="126828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6877080" y="5013360"/>
            <a:ext cx="649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050920" y="306864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5219640" y="4941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219640" y="119700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19640" y="2133720"/>
            <a:ext cx="79236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1332000" y="3429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916360" y="3429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 flipV="1">
            <a:off x="2700360" y="1844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2700360" y="3716280"/>
            <a:ext cx="100800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356000" y="155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6012000" y="155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4356000" y="1773360"/>
            <a:ext cx="936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940360" y="2708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4356000" y="5300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6012000" y="5300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684360" y="58770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so on. We s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A65F57-D9B2-4254-A512-EFABCF9AAB3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1" name="" descr=""/>
          <p:cNvPicPr/>
          <p:nvPr/>
        </p:nvPicPr>
        <p:blipFill>
          <a:blip r:embed="rId1"/>
          <a:srcRect l="0" t="0" r="0" b="69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4D4A-6B96-403B-B76C-3AF8B7E1ABB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NET SIMULATO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5229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K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IN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X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COL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ART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"/>
          <p:cNvSpPr/>
          <p:nvPr/>
        </p:nvSpPr>
        <p:spPr>
          <a:xfrm>
            <a:off x="3203640" y="2637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3492360" y="184464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3419640" y="184464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5" name="" descr=""/>
          <p:cNvPicPr/>
          <p:nvPr/>
        </p:nvPicPr>
        <p:blipFill>
          <a:blip r:embed="rId8"/>
          <a:stretch/>
        </p:blipFill>
        <p:spPr>
          <a:xfrm>
            <a:off x="3203640" y="213372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676" name="" descr=""/>
          <p:cNvPicPr/>
          <p:nvPr/>
        </p:nvPicPr>
        <p:blipFill>
          <a:blip r:embed="rId9"/>
          <a:stretch/>
        </p:blipFill>
        <p:spPr>
          <a:xfrm>
            <a:off x="3203640" y="357336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77" name=""/>
          <p:cNvSpPr/>
          <p:nvPr/>
        </p:nvSpPr>
        <p:spPr>
          <a:xfrm>
            <a:off x="3203640" y="450864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3203640" y="4005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3203640" y="5445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0" name="" descr=""/>
          <p:cNvPicPr/>
          <p:nvPr/>
        </p:nvPicPr>
        <p:blipFill>
          <a:blip r:embed="rId10"/>
          <a:stretch/>
        </p:blipFill>
        <p:spPr>
          <a:xfrm>
            <a:off x="7093080" y="3933720"/>
            <a:ext cx="863640" cy="792360"/>
          </a:xfrm>
          <a:prstGeom prst="rect">
            <a:avLst/>
          </a:prstGeom>
          <a:ln w="0">
            <a:noFill/>
          </a:ln>
        </p:spPr>
      </p:pic>
      <p:sp>
        <p:nvSpPr>
          <p:cNvPr id="2681" name=""/>
          <p:cNvSpPr/>
          <p:nvPr/>
        </p:nvSpPr>
        <p:spPr>
          <a:xfrm>
            <a:off x="6948360" y="3789360"/>
            <a:ext cx="115272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7093080" y="3933720"/>
            <a:ext cx="792000" cy="7923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4716360" y="5157720"/>
            <a:ext cx="338472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5003640" y="5445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YCLES 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09D4A-193B-43AE-B6A1-DCF3ED8BC16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8fc62"/>
                </a:solidFill>
                <a:uFillTx/>
                <a:latin typeface="Arial"/>
              </a:rPr>
              <a:t>Result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of the Simulation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8fc62"/>
                </a:solidFill>
                <a:latin typeface="Arial"/>
              </a:rPr>
              <a:t>Thi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RGnet showed </a:t>
            </a:r>
            <a:r>
              <a:rPr b="0" lang="en-GB" sz="3200" spc="-1" strike="noStrike">
                <a:solidFill>
                  <a:srgbClr val="f8fc62"/>
                </a:solidFill>
                <a:latin typeface="Arial"/>
              </a:rPr>
              <a:t>repetitiv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8fc62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8fc62"/>
                </a:solidFill>
                <a:latin typeface="Arial"/>
              </a:rPr>
              <a:t>A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8fc62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nsitions occurred once or more of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8fc62"/>
                </a:solidFill>
                <a:latin typeface="Arial"/>
              </a:rPr>
              <a:t>A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8fc62"/>
                </a:solidFill>
                <a:latin typeface="Arial"/>
              </a:rPr>
              <a:t>marking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we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8fc62"/>
                </a:solidFill>
                <a:latin typeface="Arial"/>
              </a:rPr>
              <a:t>Deadlock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id </a:t>
            </a:r>
            <a:r>
              <a:rPr b="0" lang="en-GB" sz="3200" spc="-1" strike="noStrike">
                <a:solidFill>
                  <a:srgbClr val="ffcc99"/>
                </a:solidFill>
                <a:latin typeface="Arial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cc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0" y="3500280"/>
            <a:ext cx="9144000" cy="26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99"/>
                </a:solidFill>
                <a:latin typeface="Tahoma"/>
              </a:rPr>
              <a:t>    </a:t>
            </a:r>
            <a:r>
              <a:rPr b="0" lang="en-GB" sz="3200" spc="-1" strike="noStrike">
                <a:solidFill>
                  <a:srgbClr val="ffcc99"/>
                </a:solidFill>
                <a:latin typeface="Tahoma"/>
              </a:rPr>
              <a:t>This </a:t>
            </a:r>
            <a:r>
              <a:rPr b="1" lang="en-GB" sz="3600" spc="-1" strike="noStrike" u="sng">
                <a:solidFill>
                  <a:srgbClr val="f8fc62"/>
                </a:solidFill>
                <a:uFillTx/>
                <a:latin typeface="Tahoma"/>
              </a:rPr>
              <a:t>Question</a:t>
            </a:r>
            <a:r>
              <a:rPr b="0" lang="en-GB" sz="3200" spc="-1" strike="noStrike">
                <a:solidFill>
                  <a:srgbClr val="ffcc99"/>
                </a:solidFill>
                <a:latin typeface="Tahoma"/>
              </a:rPr>
              <a:t> rem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cc99"/>
                </a:solidFill>
                <a:latin typeface="Tahoma"/>
              </a:rPr>
              <a:t>?  Do </a:t>
            </a:r>
            <a:r>
              <a:rPr b="0" lang="en-GB" sz="3200" spc="-1" strike="noStrike">
                <a:solidFill>
                  <a:srgbClr val="f8fc62"/>
                </a:solidFill>
                <a:latin typeface="Tahoma"/>
              </a:rPr>
              <a:t>all</a:t>
            </a:r>
            <a:r>
              <a:rPr b="0" lang="en-GB" sz="3200" spc="-1" strike="noStrike">
                <a:solidFill>
                  <a:srgbClr val="ffcc99"/>
                </a:solidFill>
                <a:latin typeface="Tahoma"/>
              </a:rPr>
              <a:t> ORGnets have those properti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99"/>
                </a:solidFill>
                <a:latin typeface="Tahoma"/>
              </a:rPr>
              <a:t>The answer is given by   </a:t>
            </a:r>
            <a:r>
              <a:rPr b="0" lang="en-GB" sz="3600" spc="-1" strike="noStrike">
                <a:solidFill>
                  <a:srgbClr val="ff6600"/>
                </a:solidFill>
                <a:latin typeface="Tahoma"/>
              </a:rPr>
              <a:t>NET</a:t>
            </a:r>
            <a:r>
              <a:rPr b="0" lang="en-GB" sz="40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6600"/>
                </a:solidFill>
                <a:latin typeface="Tahoma"/>
              </a:rPr>
              <a:t>ANALYSIS</a:t>
            </a:r>
            <a:r>
              <a:rPr b="0" lang="en-GB" sz="4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6600"/>
                </a:solidFill>
                <a:latin typeface="Tahoma"/>
              </a:rPr>
              <a:t>                   </a:t>
            </a:r>
            <a:r>
              <a:rPr b="0" lang="en-GB" sz="2000" spc="-1" strike="noStrike">
                <a:solidFill>
                  <a:srgbClr val="666699"/>
                </a:solidFill>
                <a:latin typeface="Tahoma"/>
              </a:rPr>
              <a:t>.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51FDF-AEBF-462C-9B65-0ABB23D2A00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"/>
          <p:cNvSpPr/>
          <p:nvPr/>
        </p:nvSpPr>
        <p:spPr>
          <a:xfrm>
            <a:off x="1547640" y="1484280"/>
            <a:ext cx="61930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 NEW 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8fc62"/>
                </a:solidFill>
                <a:latin typeface="Tahoma"/>
              </a:rPr>
              <a:t>A  </a:t>
            </a:r>
            <a:r>
              <a:rPr b="0" lang="en-US" sz="4000" spc="-1" strike="noStrike">
                <a:solidFill>
                  <a:srgbClr val="f8fc62"/>
                </a:solidFill>
                <a:latin typeface="Tahoma"/>
              </a:rPr>
              <a:t>Production</a:t>
            </a:r>
            <a:r>
              <a:rPr b="0" lang="en-US" sz="3200" spc="-1" strike="noStrike">
                <a:solidFill>
                  <a:srgbClr val="f8fc62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c62"/>
                </a:solidFill>
                <a:latin typeface="Tahoma"/>
              </a:rPr>
              <a:t>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B4AED-F501-4C96-80DD-68D70F4F698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"/>
          <p:cNvSpPr/>
          <p:nvPr/>
        </p:nvSpPr>
        <p:spPr>
          <a:xfrm>
            <a:off x="1547640" y="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8fc62"/>
                </a:solidFill>
                <a:latin typeface="Tahoma"/>
              </a:rPr>
              <a:t>A  </a:t>
            </a:r>
            <a:r>
              <a:rPr b="0" lang="en-US" sz="4000" spc="-1" strike="noStrike">
                <a:solidFill>
                  <a:srgbClr val="f8fc62"/>
                </a:solidFill>
                <a:latin typeface="Tahoma"/>
              </a:rPr>
              <a:t>Production</a:t>
            </a:r>
            <a:r>
              <a:rPr b="0" lang="en-US" sz="3200" spc="-1" strike="noStrike">
                <a:solidFill>
                  <a:srgbClr val="f8fc62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c62"/>
                </a:solidFill>
                <a:latin typeface="Tahoma"/>
              </a:rPr>
              <a:t>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1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2702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2703" name="" descr=""/>
          <p:cNvPicPr/>
          <p:nvPr/>
        </p:nvPicPr>
        <p:blipFill>
          <a:blip r:embed="rId3"/>
          <a:stretch/>
        </p:blipFill>
        <p:spPr>
          <a:xfrm>
            <a:off x="1476360" y="4941720"/>
            <a:ext cx="576360" cy="505080"/>
          </a:xfrm>
          <a:prstGeom prst="rect">
            <a:avLst/>
          </a:prstGeom>
          <a:ln w="0">
            <a:noFill/>
          </a:ln>
        </p:spPr>
      </p:pic>
      <p:sp>
        <p:nvSpPr>
          <p:cNvPr id="2704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2C4C0-A0EE-44E7-BFF2-48281CD5488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72D2-50FE-4102-A2D5-A637E338D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324000" y="0"/>
            <a:ext cx="88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GB" sz="3600" spc="-1" strike="noStrike">
                <a:solidFill>
                  <a:srgbClr val="f8fc62"/>
                </a:solidFill>
                <a:latin typeface="Tahoma"/>
              </a:rPr>
              <a:t>This</a:t>
            </a:r>
            <a:r>
              <a:rPr b="0" lang="en-GB" sz="3200" spc="-1" strike="noStrike">
                <a:solidFill>
                  <a:srgbClr val="f8fc62"/>
                </a:solidFill>
                <a:latin typeface="Tahoma"/>
              </a:rPr>
              <a:t>  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oductio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Net                 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s the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f8fc62"/>
                </a:solidFill>
                <a:latin typeface="Tahoma"/>
              </a:rPr>
              <a:t>Dual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of the previous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 ORGnet.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 can feed our Simulator with the </a:t>
            </a:r>
            <a:r>
              <a:rPr b="1" lang="en-GB" sz="3200" spc="-1" strike="noStrike">
                <a:solidFill>
                  <a:srgbClr val="f8fc62"/>
                </a:solidFill>
                <a:latin typeface="Tahoma"/>
              </a:rPr>
              <a:t>Transpos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f the ORGnet Matrix  </a:t>
            </a:r>
            <a:r>
              <a:rPr b="1" i="1" lang="en-GB" sz="3200" spc="-1" strike="noStrike">
                <a:solidFill>
                  <a:srgbClr val="ffcc99"/>
                </a:solidFill>
                <a:latin typeface="Tahoma"/>
              </a:rPr>
              <a:t>c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6" name=""/>
          <p:cNvGraphicFramePr/>
          <p:nvPr/>
        </p:nvGraphicFramePr>
        <p:xfrm>
          <a:off x="250920" y="4365720"/>
          <a:ext cx="3744720" cy="2070000"/>
        </p:xfrm>
        <a:graphic>
          <a:graphicData uri="http://schemas.openxmlformats.org/drawingml/2006/table">
            <a:tbl>
              <a:tblPr/>
              <a:tblGrid>
                <a:gridCol w="534960"/>
                <a:gridCol w="536400"/>
                <a:gridCol w="533520"/>
                <a:gridCol w="534960"/>
                <a:gridCol w="534960"/>
                <a:gridCol w="534960"/>
                <a:gridCol w="534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7" name=""/>
          <p:cNvGraphicFramePr/>
          <p:nvPr/>
        </p:nvGraphicFramePr>
        <p:xfrm>
          <a:off x="5940360" y="1844640"/>
          <a:ext cx="2160720" cy="3622680"/>
        </p:xfrm>
        <a:graphic>
          <a:graphicData uri="http://schemas.openxmlformats.org/drawingml/2006/table">
            <a:tbl>
              <a:tblPr/>
              <a:tblGrid>
                <a:gridCol w="558360"/>
                <a:gridCol w="522720"/>
                <a:gridCol w="574560"/>
                <a:gridCol w="50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2718" name=""/>
          <p:cNvSpPr/>
          <p:nvPr/>
        </p:nvSpPr>
        <p:spPr>
          <a:xfrm>
            <a:off x="3924360" y="2637000"/>
            <a:ext cx="1008000" cy="1008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8fc62"/>
          </a:solidFill>
          <a:ln w="9360">
            <a:solidFill>
              <a:srgbClr val="f8fc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611280" y="3573360"/>
            <a:ext cx="194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468360" y="350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  (OR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212400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c62"/>
                </a:solidFill>
                <a:latin typeface="Tahoma"/>
              </a:rPr>
              <a:t>trans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5508720" y="566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  (PR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NET SIMULATO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5229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K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X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COL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ART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Verdana"/>
              </a:rPr>
              <a:t>MOD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6" name=""/>
          <p:cNvSpPr/>
          <p:nvPr/>
        </p:nvSpPr>
        <p:spPr>
          <a:xfrm>
            <a:off x="3203640" y="2637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3492360" y="184464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3419640" y="184464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3203640" y="450864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3203640" y="4005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3203640" y="5445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2" name="" descr=""/>
          <p:cNvPicPr/>
          <p:nvPr/>
        </p:nvPicPr>
        <p:blipFill>
          <a:blip r:embed="rId8"/>
          <a:stretch/>
        </p:blipFill>
        <p:spPr>
          <a:xfrm>
            <a:off x="7093080" y="3933720"/>
            <a:ext cx="863640" cy="792360"/>
          </a:xfrm>
          <a:prstGeom prst="rect">
            <a:avLst/>
          </a:prstGeom>
          <a:ln w="0">
            <a:noFill/>
          </a:ln>
        </p:spPr>
      </p:pic>
      <p:sp>
        <p:nvSpPr>
          <p:cNvPr id="2733" name=""/>
          <p:cNvSpPr/>
          <p:nvPr/>
        </p:nvSpPr>
        <p:spPr>
          <a:xfrm>
            <a:off x="6948360" y="3789360"/>
            <a:ext cx="115272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7093080" y="3933720"/>
            <a:ext cx="792000" cy="792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5e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716360" y="5157720"/>
            <a:ext cx="338472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4859280" y="5373720"/>
            <a:ext cx="324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203640" y="2205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203640" y="3573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4932360" y="5373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MODES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A753A-E51A-4483-A65C-144350DD1806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NET SIMULATO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5229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K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c62"/>
                </a:solidFill>
                <a:latin typeface="Verdana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8fc62"/>
                </a:solidFill>
                <a:latin typeface="Verdana"/>
              </a:rPr>
              <a:t>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COL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ART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3" name=""/>
          <p:cNvSpPr/>
          <p:nvPr/>
        </p:nvSpPr>
        <p:spPr>
          <a:xfrm>
            <a:off x="3203640" y="2637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3492360" y="184464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3419640" y="184464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6" name="" descr=""/>
          <p:cNvPicPr/>
          <p:nvPr/>
        </p:nvPicPr>
        <p:blipFill>
          <a:blip r:embed="rId8"/>
          <a:stretch/>
        </p:blipFill>
        <p:spPr>
          <a:xfrm>
            <a:off x="3203640" y="213372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47" name="" descr=""/>
          <p:cNvPicPr/>
          <p:nvPr/>
        </p:nvPicPr>
        <p:blipFill>
          <a:blip r:embed="rId9"/>
          <a:stretch/>
        </p:blipFill>
        <p:spPr>
          <a:xfrm>
            <a:off x="3203640" y="407664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48" name=""/>
          <p:cNvSpPr/>
          <p:nvPr/>
        </p:nvSpPr>
        <p:spPr>
          <a:xfrm>
            <a:off x="3203640" y="450864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3203640" y="3573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3203640" y="5445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1" name="" descr=""/>
          <p:cNvPicPr/>
          <p:nvPr/>
        </p:nvPicPr>
        <p:blipFill>
          <a:blip r:embed="rId10"/>
          <a:stretch/>
        </p:blipFill>
        <p:spPr>
          <a:xfrm>
            <a:off x="7093080" y="3933720"/>
            <a:ext cx="863640" cy="792360"/>
          </a:xfrm>
          <a:prstGeom prst="rect">
            <a:avLst/>
          </a:prstGeom>
          <a:ln w="0">
            <a:noFill/>
          </a:ln>
        </p:spPr>
      </p:pic>
      <p:sp>
        <p:nvSpPr>
          <p:cNvPr id="2752" name=""/>
          <p:cNvSpPr/>
          <p:nvPr/>
        </p:nvSpPr>
        <p:spPr>
          <a:xfrm>
            <a:off x="6948360" y="3789360"/>
            <a:ext cx="115272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7093080" y="3933720"/>
            <a:ext cx="792000" cy="7923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4716360" y="5157720"/>
            <a:ext cx="338472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5003640" y="5445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N E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EA327-117B-454B-9EDA-777EA5D47980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2768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2769" name="" descr=""/>
          <p:cNvPicPr/>
          <p:nvPr/>
        </p:nvPicPr>
        <p:blipFill>
          <a:blip r:embed="rId3"/>
          <a:stretch/>
        </p:blipFill>
        <p:spPr>
          <a:xfrm>
            <a:off x="1476360" y="4941720"/>
            <a:ext cx="576360" cy="505080"/>
          </a:xfrm>
          <a:prstGeom prst="rect">
            <a:avLst/>
          </a:prstGeom>
          <a:ln w="0">
            <a:noFill/>
          </a:ln>
        </p:spPr>
      </p:pic>
      <p:sp>
        <p:nvSpPr>
          <p:cNvPr id="2770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1042920" y="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supplied: Raw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6588000" y="2133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7667640" y="2637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ED886-2933-418C-AC72-495252CE5792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gradFill rotWithShape="0">
            <a:gsLst>
              <a:gs pos="0">
                <a:srgbClr val="f8fc62"/>
              </a:gs>
              <a:gs pos="100000">
                <a:srgbClr val="72742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5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576000" cy="504720"/>
          </a:xfrm>
          <a:prstGeom prst="rect">
            <a:avLst/>
          </a:prstGeom>
          <a:ln w="0">
            <a:noFill/>
          </a:ln>
        </p:spPr>
      </p:pic>
      <p:pic>
        <p:nvPicPr>
          <p:cNvPr id="279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2797" name="" descr=""/>
          <p:cNvPicPr/>
          <p:nvPr/>
        </p:nvPicPr>
        <p:blipFill>
          <a:blip r:embed="rId3"/>
          <a:stretch/>
        </p:blipFill>
        <p:spPr>
          <a:xfrm>
            <a:off x="4500720" y="5013360"/>
            <a:ext cx="576000" cy="504720"/>
          </a:xfrm>
          <a:prstGeom prst="rect">
            <a:avLst/>
          </a:prstGeom>
          <a:ln w="0">
            <a:noFill/>
          </a:ln>
        </p:spPr>
      </p:pic>
      <p:sp>
        <p:nvSpPr>
          <p:cNvPr id="2798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588000" y="2133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7667640" y="2637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6659640" y="4221000"/>
            <a:ext cx="24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8fc62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8fc62"/>
                </a:solidFill>
                <a:latin typeface="Tahoma"/>
              </a:rPr>
              <a:t>ACHIE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788E5-679B-4F31-957F-DA09089D5DF0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NET SIMULATO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5229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K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c62"/>
                </a:solidFill>
                <a:latin typeface="Verdana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8fc62"/>
                </a:solidFill>
                <a:latin typeface="Verdana"/>
              </a:rPr>
              <a:t>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COL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ART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5" name=""/>
          <p:cNvSpPr/>
          <p:nvPr/>
        </p:nvSpPr>
        <p:spPr>
          <a:xfrm>
            <a:off x="3203640" y="2637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3492360" y="184464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3419640" y="184464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8" name="" descr=""/>
          <p:cNvPicPr/>
          <p:nvPr/>
        </p:nvPicPr>
        <p:blipFill>
          <a:blip r:embed="rId8"/>
          <a:stretch/>
        </p:blipFill>
        <p:spPr>
          <a:xfrm>
            <a:off x="3203640" y="213372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19" name="" descr=""/>
          <p:cNvPicPr/>
          <p:nvPr/>
        </p:nvPicPr>
        <p:blipFill>
          <a:blip r:embed="rId9"/>
          <a:stretch/>
        </p:blipFill>
        <p:spPr>
          <a:xfrm>
            <a:off x="3203640" y="407664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20" name=""/>
          <p:cNvSpPr/>
          <p:nvPr/>
        </p:nvSpPr>
        <p:spPr>
          <a:xfrm>
            <a:off x="3203640" y="450864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3203640" y="3573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3203640" y="5445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3" name="" descr=""/>
          <p:cNvPicPr/>
          <p:nvPr/>
        </p:nvPicPr>
        <p:blipFill>
          <a:blip r:embed="rId10"/>
          <a:stretch/>
        </p:blipFill>
        <p:spPr>
          <a:xfrm>
            <a:off x="7093080" y="3933720"/>
            <a:ext cx="863640" cy="792360"/>
          </a:xfrm>
          <a:prstGeom prst="rect">
            <a:avLst/>
          </a:prstGeom>
          <a:ln w="0">
            <a:noFill/>
          </a:ln>
        </p:spPr>
      </p:pic>
      <p:sp>
        <p:nvSpPr>
          <p:cNvPr id="2824" name=""/>
          <p:cNvSpPr/>
          <p:nvPr/>
        </p:nvSpPr>
        <p:spPr>
          <a:xfrm>
            <a:off x="6948360" y="3789360"/>
            <a:ext cx="115272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7093080" y="3933720"/>
            <a:ext cx="792000" cy="7923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4716360" y="5157720"/>
            <a:ext cx="338472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5003640" y="5445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FINAL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4C242-A55F-4AA8-ABDC-B8A6169B0E2D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399564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85928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292720" y="5300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059280" y="1628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4356000" y="2565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732720" y="59500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292720" y="4508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164360" y="3933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6300720" y="3933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2627280" y="59500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3132000" y="3860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268360" y="3860640"/>
            <a:ext cx="3607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258920" y="4869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700360" y="5300640"/>
            <a:ext cx="2872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700360" y="4508640"/>
            <a:ext cx="2872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732720" y="4941720"/>
            <a:ext cx="28728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4427640" y="1628640"/>
            <a:ext cx="28728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4284720" y="1125360"/>
            <a:ext cx="21600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4571640" y="1052640"/>
            <a:ext cx="36036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4572000" y="1916280"/>
            <a:ext cx="0" cy="64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419640" y="1700280"/>
            <a:ext cx="1008000" cy="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3419640" y="1844640"/>
            <a:ext cx="1008000" cy="0"/>
          </a:xfrm>
          <a:prstGeom prst="line">
            <a:avLst/>
          </a:prstGeom>
          <a:ln w="572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588000" y="4292640"/>
            <a:ext cx="216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H="1">
            <a:off x="6948000" y="4292640"/>
            <a:ext cx="36036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6877080" y="5229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5651640" y="4724280"/>
            <a:ext cx="1081080" cy="28908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5651640" y="5157720"/>
            <a:ext cx="1008000" cy="287280"/>
          </a:xfrm>
          <a:prstGeom prst="line">
            <a:avLst/>
          </a:prstGeom>
          <a:ln w="572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843280" y="5589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556000" y="4221000"/>
            <a:ext cx="21564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2916360" y="4149720"/>
            <a:ext cx="28728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843280" y="4724280"/>
            <a:ext cx="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627280" y="4869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1619280" y="4653000"/>
            <a:ext cx="1081080" cy="28872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H="1" flipV="1">
            <a:off x="1547280" y="5157720"/>
            <a:ext cx="1079640" cy="287280"/>
          </a:xfrm>
          <a:prstGeom prst="line">
            <a:avLst/>
          </a:prstGeom>
          <a:ln w="572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435640" y="486900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5292720" y="4941720"/>
            <a:ext cx="28728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95280" y="26028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repair           short circui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11280" y="342900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split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442764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split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300720" y="1700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Arial"/>
              </a:rPr>
              <a:t>1939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A48B8-7316-4DF5-8F73-8E7AF481381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9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2840" name="" descr=""/>
          <p:cNvPicPr/>
          <p:nvPr/>
        </p:nvPicPr>
        <p:blipFill>
          <a:blip r:embed="rId2"/>
          <a:stretch/>
        </p:blipFill>
        <p:spPr>
          <a:xfrm>
            <a:off x="1476360" y="4941720"/>
            <a:ext cx="576360" cy="505080"/>
          </a:xfrm>
          <a:prstGeom prst="rect">
            <a:avLst/>
          </a:prstGeom>
          <a:ln w="0">
            <a:noFill/>
          </a:ln>
        </p:spPr>
      </p:pic>
      <p:sp>
        <p:nvSpPr>
          <p:cNvPr id="2841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6588000" y="2133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7667640" y="2637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611280" y="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 Try: Supply missing Resour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5" name="" descr=""/>
          <p:cNvPicPr/>
          <p:nvPr/>
        </p:nvPicPr>
        <p:blipFill>
          <a:blip r:embed="rId3"/>
          <a:stretch/>
        </p:blipFill>
        <p:spPr>
          <a:xfrm>
            <a:off x="1547640" y="328464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2856" name="" descr=""/>
          <p:cNvPicPr/>
          <p:nvPr/>
        </p:nvPicPr>
        <p:blipFill>
          <a:blip r:embed="rId4"/>
          <a:stretch/>
        </p:blipFill>
        <p:spPr>
          <a:xfrm>
            <a:off x="4427640" y="3213000"/>
            <a:ext cx="720720" cy="6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C6628-50FB-4854-A592-755B1A146268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NET SIMULATO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5229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K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c62"/>
                </a:solidFill>
                <a:latin typeface="Verdana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8fc62"/>
                </a:solidFill>
                <a:latin typeface="Verdana"/>
              </a:rPr>
              <a:t>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COL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ART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0" name=""/>
          <p:cNvSpPr/>
          <p:nvPr/>
        </p:nvSpPr>
        <p:spPr>
          <a:xfrm>
            <a:off x="3203640" y="2637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3492360" y="184464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3419640" y="184464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3" name="" descr=""/>
          <p:cNvPicPr/>
          <p:nvPr/>
        </p:nvPicPr>
        <p:blipFill>
          <a:blip r:embed="rId8"/>
          <a:stretch/>
        </p:blipFill>
        <p:spPr>
          <a:xfrm>
            <a:off x="3203640" y="213372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64" name="" descr=""/>
          <p:cNvPicPr/>
          <p:nvPr/>
        </p:nvPicPr>
        <p:blipFill>
          <a:blip r:embed="rId9"/>
          <a:stretch/>
        </p:blipFill>
        <p:spPr>
          <a:xfrm>
            <a:off x="3203640" y="407664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65" name=""/>
          <p:cNvSpPr/>
          <p:nvPr/>
        </p:nvSpPr>
        <p:spPr>
          <a:xfrm>
            <a:off x="3203640" y="450864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3203640" y="3573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3203640" y="5445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8" name="" descr=""/>
          <p:cNvPicPr/>
          <p:nvPr/>
        </p:nvPicPr>
        <p:blipFill>
          <a:blip r:embed="rId10"/>
          <a:stretch/>
        </p:blipFill>
        <p:spPr>
          <a:xfrm>
            <a:off x="7093080" y="3933720"/>
            <a:ext cx="863640" cy="792360"/>
          </a:xfrm>
          <a:prstGeom prst="rect">
            <a:avLst/>
          </a:prstGeom>
          <a:ln w="0">
            <a:noFill/>
          </a:ln>
        </p:spPr>
      </p:pic>
      <p:sp>
        <p:nvSpPr>
          <p:cNvPr id="2869" name=""/>
          <p:cNvSpPr/>
          <p:nvPr/>
        </p:nvSpPr>
        <p:spPr>
          <a:xfrm>
            <a:off x="6948360" y="3789360"/>
            <a:ext cx="115272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7093080" y="3933720"/>
            <a:ext cx="792000" cy="7923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4716360" y="5157720"/>
            <a:ext cx="338472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5003640" y="5445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N E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CFE15-D43E-486C-97BE-6E3EF044EA70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4" name="" descr=""/>
          <p:cNvPicPr/>
          <p:nvPr/>
        </p:nvPicPr>
        <p:blipFill>
          <a:blip r:embed="rId1"/>
          <a:stretch/>
        </p:blipFill>
        <p:spPr>
          <a:xfrm>
            <a:off x="4500720" y="3284640"/>
            <a:ext cx="576000" cy="504720"/>
          </a:xfrm>
          <a:prstGeom prst="rect">
            <a:avLst/>
          </a:prstGeom>
          <a:ln w="0">
            <a:noFill/>
          </a:ln>
        </p:spPr>
      </p:pic>
      <p:pic>
        <p:nvPicPr>
          <p:cNvPr id="2885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2886" name="" descr=""/>
          <p:cNvPicPr/>
          <p:nvPr/>
        </p:nvPicPr>
        <p:blipFill>
          <a:blip r:embed="rId3"/>
          <a:stretch/>
        </p:blipFill>
        <p:spPr>
          <a:xfrm>
            <a:off x="1403280" y="4941720"/>
            <a:ext cx="576360" cy="505080"/>
          </a:xfrm>
          <a:prstGeom prst="rect">
            <a:avLst/>
          </a:prstGeom>
          <a:ln w="0">
            <a:noFill/>
          </a:ln>
        </p:spPr>
      </p:pic>
      <p:sp>
        <p:nvSpPr>
          <p:cNvPr id="2887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6588000" y="2133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7667640" y="2637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0" name="" descr=""/>
          <p:cNvPicPr/>
          <p:nvPr/>
        </p:nvPicPr>
        <p:blipFill>
          <a:blip r:embed="rId4"/>
          <a:stretch/>
        </p:blipFill>
        <p:spPr>
          <a:xfrm>
            <a:off x="1547640" y="328464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F1C85-CA9C-44B6-94E4-F911363B64E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2" name="" descr=""/>
          <p:cNvPicPr/>
          <p:nvPr/>
        </p:nvPicPr>
        <p:blipFill>
          <a:blip r:embed="rId1"/>
          <a:stretch/>
        </p:blipFill>
        <p:spPr>
          <a:xfrm>
            <a:off x="4500720" y="3284640"/>
            <a:ext cx="576000" cy="504720"/>
          </a:xfrm>
          <a:prstGeom prst="rect">
            <a:avLst/>
          </a:prstGeom>
          <a:ln w="0">
            <a:noFill/>
          </a:ln>
        </p:spPr>
      </p:pic>
      <p:pic>
        <p:nvPicPr>
          <p:cNvPr id="2913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576000" cy="504720"/>
          </a:xfrm>
          <a:prstGeom prst="rect">
            <a:avLst/>
          </a:prstGeom>
          <a:ln w="0">
            <a:noFill/>
          </a:ln>
        </p:spPr>
      </p:pic>
      <p:pic>
        <p:nvPicPr>
          <p:cNvPr id="2914" name="" descr=""/>
          <p:cNvPicPr/>
          <p:nvPr/>
        </p:nvPicPr>
        <p:blipFill>
          <a:blip r:embed="rId3"/>
          <a:stretch/>
        </p:blipFill>
        <p:spPr>
          <a:xfrm>
            <a:off x="4500720" y="5013360"/>
            <a:ext cx="576000" cy="504720"/>
          </a:xfrm>
          <a:prstGeom prst="rect">
            <a:avLst/>
          </a:prstGeom>
          <a:ln w="0">
            <a:noFill/>
          </a:ln>
        </p:spPr>
      </p:pic>
      <p:sp>
        <p:nvSpPr>
          <p:cNvPr id="2915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6588000" y="2133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7667640" y="2637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8" name="" descr=""/>
          <p:cNvPicPr/>
          <p:nvPr/>
        </p:nvPicPr>
        <p:blipFill>
          <a:blip r:embed="rId4"/>
          <a:stretch/>
        </p:blipFill>
        <p:spPr>
          <a:xfrm>
            <a:off x="1547640" y="328464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497F6-9147-42FB-9754-0A1225C217A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0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2941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6588000" y="2133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7667640" y="2637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4" name="" descr=""/>
          <p:cNvPicPr/>
          <p:nvPr/>
        </p:nvPicPr>
        <p:blipFill>
          <a:blip r:embed="rId2"/>
          <a:stretch/>
        </p:blipFill>
        <p:spPr>
          <a:xfrm>
            <a:off x="7524720" y="335772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2955" name=""/>
          <p:cNvSpPr/>
          <p:nvPr/>
        </p:nvSpPr>
        <p:spPr>
          <a:xfrm>
            <a:off x="6443640" y="429264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99"/>
                </a:solidFill>
                <a:latin typeface="Tahoma"/>
              </a:rPr>
              <a:t>Achieved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250920" y="58053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c62"/>
                </a:solidFill>
                <a:latin typeface="Tahoma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One Resource has not been used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EB9C0-8DE4-4965-868D-D4B1C8BD6BF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gradFill rotWithShape="0">
            <a:gsLst>
              <a:gs pos="0">
                <a:srgbClr val="f8fc62"/>
              </a:gs>
              <a:gs pos="100000">
                <a:srgbClr val="72742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6588000" y="2133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7667640" y="2637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 that SQUANDER ?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unused Resource   WASTE ? Or has the Net an </a:t>
            </a:r>
            <a:r>
              <a:rPr b="0" lang="en-US" sz="3200" spc="-1" strike="noStrike">
                <a:solidFill>
                  <a:srgbClr val="f8fc62"/>
                </a:solidFill>
                <a:latin typeface="Tahoma"/>
              </a:rPr>
              <a:t>unnecess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8fc62"/>
                </a:solidFill>
                <a:latin typeface="Tahoma"/>
              </a:rPr>
              <a:t>bran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2" name="" descr=""/>
          <p:cNvPicPr/>
          <p:nvPr/>
        </p:nvPicPr>
        <p:blipFill>
          <a:blip r:embed="rId1"/>
          <a:stretch/>
        </p:blipFill>
        <p:spPr>
          <a:xfrm>
            <a:off x="7524720" y="335772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2983" name=""/>
          <p:cNvSpPr/>
          <p:nvPr/>
        </p:nvSpPr>
        <p:spPr>
          <a:xfrm>
            <a:off x="324000" y="6021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estions are answered by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4" name="" descr=""/>
          <p:cNvPicPr/>
          <p:nvPr/>
        </p:nvPicPr>
        <p:blipFill>
          <a:blip r:embed="rId2"/>
          <a:stretch/>
        </p:blipFill>
        <p:spPr>
          <a:xfrm>
            <a:off x="1476360" y="3213000"/>
            <a:ext cx="720720" cy="6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BE1C8-9F5D-40D2-B369-93BCB84EC6F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6588000" y="2133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7596360" y="263700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CKWARD  SIMULATIO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</a:t>
            </a:r>
            <a:r>
              <a:rPr b="1" lang="en-US" sz="3200" spc="-1" strike="noStrike">
                <a:solidFill>
                  <a:srgbClr val="f8fc62"/>
                </a:solidFill>
                <a:latin typeface="Tahoma"/>
              </a:rPr>
              <a:t>need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r the Production of the END PRODUC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0" name="" descr=""/>
          <p:cNvPicPr/>
          <p:nvPr/>
        </p:nvPicPr>
        <p:blipFill>
          <a:blip r:embed="rId1"/>
          <a:stretch/>
        </p:blipFill>
        <p:spPr>
          <a:xfrm>
            <a:off x="7524720" y="335772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70A2B-7ACA-45E5-AE59-08FBFEF2B58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NET SIMULATOR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5229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c62"/>
                </a:solidFill>
                <a:latin typeface="Verdana"/>
              </a:rPr>
              <a:t>BACK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</a:t>
            </a:r>
            <a:r>
              <a:rPr b="0" lang="en-US" sz="28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c62"/>
                </a:solidFill>
                <a:latin typeface="Verdana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8fc62"/>
                </a:solidFill>
                <a:latin typeface="Verdana"/>
              </a:rPr>
              <a:t>STE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DO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COL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c62"/>
                </a:solidFill>
                <a:latin typeface="Verdana"/>
              </a:rPr>
              <a:t>S-COLO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TART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"/>
          <p:cNvSpPr/>
          <p:nvPr/>
        </p:nvSpPr>
        <p:spPr>
          <a:xfrm>
            <a:off x="3203640" y="213372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3492360" y="1844640"/>
            <a:ext cx="1429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3419640" y="184464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7" name="" descr=""/>
          <p:cNvPicPr/>
          <p:nvPr/>
        </p:nvPicPr>
        <p:blipFill>
          <a:blip r:embed="rId9"/>
          <a:stretch/>
        </p:blipFill>
        <p:spPr>
          <a:xfrm>
            <a:off x="3203640" y="4076640"/>
            <a:ext cx="792000" cy="36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18" name=""/>
          <p:cNvSpPr/>
          <p:nvPr/>
        </p:nvSpPr>
        <p:spPr>
          <a:xfrm>
            <a:off x="3203640" y="450864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3203640" y="357336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3203640" y="544500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1" name="" descr=""/>
          <p:cNvPicPr/>
          <p:nvPr/>
        </p:nvPicPr>
        <p:blipFill>
          <a:blip r:embed="rId10"/>
          <a:stretch/>
        </p:blipFill>
        <p:spPr>
          <a:xfrm>
            <a:off x="7093080" y="3933720"/>
            <a:ext cx="863640" cy="792360"/>
          </a:xfrm>
          <a:prstGeom prst="rect">
            <a:avLst/>
          </a:prstGeom>
          <a:ln w="0">
            <a:noFill/>
          </a:ln>
        </p:spPr>
      </p:pic>
      <p:sp>
        <p:nvSpPr>
          <p:cNvPr id="3022" name=""/>
          <p:cNvSpPr/>
          <p:nvPr/>
        </p:nvSpPr>
        <p:spPr>
          <a:xfrm>
            <a:off x="6948360" y="3789360"/>
            <a:ext cx="1152720" cy="1079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7093080" y="3933720"/>
            <a:ext cx="792000" cy="79236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4716360" y="5157720"/>
            <a:ext cx="3384720" cy="1150920"/>
          </a:xfrm>
          <a:prstGeom prst="rect">
            <a:avLst/>
          </a:prstGeom>
          <a:solidFill>
            <a:srgbClr val="0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5003640" y="5445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N E 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6" name="" descr=""/>
          <p:cNvPicPr/>
          <p:nvPr/>
        </p:nvPicPr>
        <p:blipFill>
          <a:blip r:embed="rId11"/>
          <a:stretch/>
        </p:blipFill>
        <p:spPr>
          <a:xfrm>
            <a:off x="3203640" y="2629080"/>
            <a:ext cx="792000" cy="368280"/>
          </a:xfrm>
          <a:prstGeom prst="rect">
            <a:avLst/>
          </a:prstGeom>
          <a:ln w="0">
            <a:noFill/>
          </a:ln>
        </p:spPr>
      </p:pic>
      <p:pic>
        <p:nvPicPr>
          <p:cNvPr id="3027" name="" descr=""/>
          <p:cNvPicPr/>
          <p:nvPr/>
        </p:nvPicPr>
        <p:blipFill>
          <a:blip r:embed="rId12"/>
          <a:stretch/>
        </p:blipFill>
        <p:spPr>
          <a:xfrm>
            <a:off x="3203640" y="5877000"/>
            <a:ext cx="792000" cy="368280"/>
          </a:xfrm>
          <a:prstGeom prst="rect">
            <a:avLst/>
          </a:prstGeom>
          <a:ln w="0">
            <a:noFill/>
          </a:ln>
        </p:spPr>
      </p:pic>
      <p:sp>
        <p:nvSpPr>
          <p:cNvPr id="3028" name=""/>
          <p:cNvSpPr/>
          <p:nvPr/>
        </p:nvSpPr>
        <p:spPr>
          <a:xfrm rot="20307000">
            <a:off x="4284720" y="1988640"/>
            <a:ext cx="1657440" cy="792360"/>
          </a:xfrm>
          <a:prstGeom prst="leftArrow">
            <a:avLst>
              <a:gd name="adj1" fmla="val 50000"/>
              <a:gd name="adj2" fmla="val 52294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 rot="736800">
            <a:off x="4284360" y="6070320"/>
            <a:ext cx="1657440" cy="787320"/>
          </a:xfrm>
          <a:prstGeom prst="leftArrow">
            <a:avLst>
              <a:gd name="adj1" fmla="val 50000"/>
              <a:gd name="adj2" fmla="val 52629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6E35-29B1-46FB-995B-550C1F14F99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6588000" y="2133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7596360" y="263700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4" name="" descr=""/>
          <p:cNvPicPr/>
          <p:nvPr/>
        </p:nvPicPr>
        <p:blipFill>
          <a:blip r:embed="rId1"/>
          <a:stretch/>
        </p:blipFill>
        <p:spPr>
          <a:xfrm>
            <a:off x="7524720" y="335772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87371-4ED8-439B-8FFC-AD488E37377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6588000" y="2133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7596360" y="263700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7596360" y="3357720"/>
            <a:ext cx="431640" cy="431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4500720" y="1557360"/>
            <a:ext cx="576000" cy="5032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4500720" y="5013360"/>
            <a:ext cx="576000" cy="503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4500720" y="3284640"/>
            <a:ext cx="576000" cy="5032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E6FFC-DB7E-4BFB-BCAD-824162607B7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2" name="" descr=""/>
          <p:cNvPicPr/>
          <p:nvPr/>
        </p:nvPicPr>
        <p:blipFill>
          <a:blip r:embed="rId1"/>
          <a:srcRect l="5904" t="43708" r="8264" b="22707"/>
          <a:stretch/>
        </p:blipFill>
        <p:spPr>
          <a:xfrm>
            <a:off x="0" y="1628640"/>
            <a:ext cx="9144000" cy="2684520"/>
          </a:xfrm>
          <a:prstGeom prst="rect">
            <a:avLst/>
          </a:prstGeom>
          <a:ln w="0">
            <a:noFill/>
          </a:ln>
        </p:spPr>
      </p:pic>
      <p:sp>
        <p:nvSpPr>
          <p:cNvPr id="1773" name=""/>
          <p:cNvSpPr/>
          <p:nvPr/>
        </p:nvSpPr>
        <p:spPr>
          <a:xfrm>
            <a:off x="3492360" y="3068640"/>
            <a:ext cx="1584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258920" y="213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 a&gt;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084720" y="227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 b&gt;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419640" y="3284640"/>
            <a:ext cx="180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42920" y="33336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other way to treat Short Circuits is                  to assign different weights to the ar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0" y="44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Wear and tear                  ( Tool; Lubricant;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755640" y="5445000"/>
            <a:ext cx="6476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484360" y="5516640"/>
            <a:ext cx="576360" cy="504720"/>
          </a:xfrm>
          <a:prstGeom prst="rect">
            <a:avLst/>
          </a:prstGeom>
          <a:solidFill>
            <a:srgbClr val="86d1e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403280" y="5589720"/>
            <a:ext cx="1081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 flipH="1">
            <a:off x="1331640" y="5877000"/>
            <a:ext cx="115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547640" y="52293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547640" y="5877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084720" y="5516640"/>
            <a:ext cx="64800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7667640" y="5589720"/>
            <a:ext cx="576360" cy="504720"/>
          </a:xfrm>
          <a:prstGeom prst="rect">
            <a:avLst/>
          </a:prstGeom>
          <a:solidFill>
            <a:srgbClr val="86d1e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732720" y="580536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948360" y="537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924360" y="6165720"/>
            <a:ext cx="1079280" cy="692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995640" y="6308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5003640" y="5950080"/>
            <a:ext cx="1008360" cy="2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20716200">
            <a:off x="5078520" y="604692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012000" y="60930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635280" y="5589720"/>
            <a:ext cx="1224000" cy="36036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A7D4-FAC3-4888-8931-460057BA350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6588000" y="213372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D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7596360" y="263700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7524720" y="3357720"/>
            <a:ext cx="576360" cy="50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4500720" y="1557360"/>
            <a:ext cx="57600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4500720" y="5013360"/>
            <a:ext cx="576000" cy="50328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4500720" y="3284640"/>
            <a:ext cx="576000" cy="5032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1476360" y="4941720"/>
            <a:ext cx="576360" cy="503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1547640" y="3213000"/>
            <a:ext cx="576360" cy="647640"/>
          </a:xfrm>
          <a:prstGeom prst="ellipse">
            <a:avLst/>
          </a:prstGeom>
          <a:gradFill rotWithShape="0">
            <a:gsLst>
              <a:gs pos="0">
                <a:srgbClr val="174675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1476360" y="1557360"/>
            <a:ext cx="719280" cy="5032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324000" y="227664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ern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 rot="1984200">
            <a:off x="684000" y="2997000"/>
            <a:ext cx="576000" cy="217440"/>
          </a:xfrm>
          <a:prstGeom prst="rightArrow">
            <a:avLst>
              <a:gd name="adj1" fmla="val 50000"/>
              <a:gd name="adj2" fmla="val 66225"/>
            </a:avLst>
          </a:prstGeom>
          <a:solidFill>
            <a:srgbClr val="ff505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 rot="20049000">
            <a:off x="684000" y="1988640"/>
            <a:ext cx="576000" cy="217800"/>
          </a:xfrm>
          <a:prstGeom prst="rightArrow">
            <a:avLst>
              <a:gd name="adj1" fmla="val 50000"/>
              <a:gd name="adj2" fmla="val 66116"/>
            </a:avLst>
          </a:prstGeom>
          <a:solidFill>
            <a:srgbClr val="ff505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E3420-F5F1-4DEE-8C2D-C9722DBDA5C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"/>
          <p:cNvSpPr/>
          <p:nvPr/>
        </p:nvSpPr>
        <p:spPr>
          <a:xfrm>
            <a:off x="140328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4356000" y="4869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435600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1332000" y="479736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403280" y="314172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4356000" y="1413000"/>
            <a:ext cx="863640" cy="79200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7380360" y="3213000"/>
            <a:ext cx="863640" cy="792360"/>
          </a:xfrm>
          <a:prstGeom prst="ellipse">
            <a:avLst/>
          </a:prstGeom>
          <a:solidFill>
            <a:srgbClr val="f8fc62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2987640" y="148428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2987640" y="242100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2987640" y="4941720"/>
            <a:ext cx="649440" cy="57636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6012000" y="3284640"/>
            <a:ext cx="649080" cy="576000"/>
          </a:xfrm>
          <a:prstGeom prst="rect">
            <a:avLst/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2268360" y="1773360"/>
            <a:ext cx="71928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3635280" y="17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2195640" y="5229360"/>
            <a:ext cx="79200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3635280" y="5229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5219640" y="3573360"/>
            <a:ext cx="79236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6659640" y="3573360"/>
            <a:ext cx="720720" cy="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5148360" y="1989000"/>
            <a:ext cx="863640" cy="12956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 flipV="1">
            <a:off x="5148360" y="3933360"/>
            <a:ext cx="863640" cy="11509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 flipV="1">
            <a:off x="2268360" y="2924280"/>
            <a:ext cx="719280" cy="4334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 flipV="1">
            <a:off x="3635280" y="2060280"/>
            <a:ext cx="792360" cy="5763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1835280" y="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7524720" y="3357720"/>
            <a:ext cx="576360" cy="502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4500720" y="3284640"/>
            <a:ext cx="576000" cy="5032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6360" y="4941720"/>
            <a:ext cx="576360" cy="503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547640" y="3213000"/>
            <a:ext cx="576360" cy="647640"/>
          </a:xfrm>
          <a:prstGeom prst="ellipse">
            <a:avLst/>
          </a:prstGeom>
          <a:gradFill rotWithShape="0">
            <a:gsLst>
              <a:gs pos="0">
                <a:srgbClr val="174675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1476360" y="1557360"/>
            <a:ext cx="719280" cy="5032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 rot="1984200">
            <a:off x="684000" y="2997000"/>
            <a:ext cx="576000" cy="217440"/>
          </a:xfrm>
          <a:prstGeom prst="rightArrow">
            <a:avLst>
              <a:gd name="adj1" fmla="val 50000"/>
              <a:gd name="adj2" fmla="val 66225"/>
            </a:avLst>
          </a:prstGeom>
          <a:solidFill>
            <a:srgbClr val="ff505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 rot="20049000">
            <a:off x="684000" y="1988640"/>
            <a:ext cx="576000" cy="217800"/>
          </a:xfrm>
          <a:prstGeom prst="rightArrow">
            <a:avLst>
              <a:gd name="adj1" fmla="val 50000"/>
              <a:gd name="adj2" fmla="val 66116"/>
            </a:avLst>
          </a:prstGeom>
          <a:solidFill>
            <a:srgbClr val="ff505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395280" y="227664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1403280" y="9079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1403280" y="263700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4284720" y="26370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r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7308720" y="256536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1258920" y="4292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2771640" y="4365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ahoma"/>
              </a:rPr>
              <a:t>c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1547640" y="26028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 Example: What is needed for a Meal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83D7D-54AF-430F-8055-DF65C1D9EF11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4" name="" descr=""/>
          <p:cNvPicPr/>
          <p:nvPr/>
        </p:nvPicPr>
        <p:blipFill>
          <a:blip r:embed="rId1"/>
          <a:srcRect l="11706" t="17011" r="11706" b="12790"/>
          <a:stretch/>
        </p:blipFill>
        <p:spPr>
          <a:xfrm>
            <a:off x="4464000" y="0"/>
            <a:ext cx="4680000" cy="4297320"/>
          </a:xfrm>
          <a:prstGeom prst="rect">
            <a:avLst/>
          </a:prstGeom>
          <a:ln w="0">
            <a:noFill/>
          </a:ln>
        </p:spPr>
      </p:pic>
      <p:sp>
        <p:nvSpPr>
          <p:cNvPr id="3155" name=""/>
          <p:cNvSpPr/>
          <p:nvPr/>
        </p:nvSpPr>
        <p:spPr>
          <a:xfrm>
            <a:off x="2124000" y="59500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. . to be continued . .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79C93-7FD3-4E3F-BB9B-0E57927731B6}" type="slidenum">
              <a:t>9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9T18:43:25Z</dcterms:created>
  <dc:creator>Petri</dc:creator>
  <dc:description/>
  <dc:language>en-US</dc:language>
  <cp:lastModifiedBy>Petri</cp:lastModifiedBy>
  <dcterms:modified xsi:type="dcterms:W3CDTF">2004-09-26T15:28:23Z</dcterms:modified>
  <cp:revision>138</cp:revision>
  <dc:subject/>
  <dc:title>Slide 1</dc:title>
</cp:coreProperties>
</file>