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1.png" ContentType="image/png"/>
  <Override PartName="/ppt/media/coin.wav" ContentType="audio/x-wav"/>
  <Override PartName="/ppt/media/image10.png" ContentType="image/png"/>
  <Override PartName="/ppt/media/image9.png" ContentType="image/png"/>
  <Override PartName="/ppt/media/image8.png" ContentType="image/png"/>
  <Override PartName="/ppt/media/laser.wav" ContentType="audio/x-wav"/>
  <Override PartName="/ppt/media/image27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24.png" ContentType="image/png"/>
  <Override PartName="/ppt/media/image31.png" ContentType="image/png"/>
  <Override PartName="/ppt/media/image1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image25.png" ContentType="image/png"/>
  <Override PartName="/ppt/media/breeze.wav" ContentType="audio/x-wav"/>
  <Override PartName="/ppt/media/image26.png" ContentType="image/png"/>
  <Override PartName="/ppt/media/image28.png" ContentType="image/png"/>
  <Override PartName="/ppt/media/image30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click.wav" ContentType="audio/x-wav"/>
  <Override PartName="/ppt/media/explode.wav" ContentType="audio/x-wav"/>
  <Override PartName="/ppt/media/image5.png" ContentType="image/png"/>
  <Override PartName="/ppt/media/image35.png" ContentType="image/png"/>
  <Override PartName="/ppt/media/bomb.wav" ContentType="audio/x-wav"/>
  <Override PartName="/ppt/media/arrow.wav" ContentType="audio/x-wav"/>
  <Override PartName="/ppt/media/image23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102-AEBF-497F-9C00-010700AC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71E-ECAB-4E2B-8242-E5B54618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5F368-2A47-4D23-BBC5-762F4978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1C56D-9D8B-4A85-8C04-96FEAA33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BBF05-394B-42E6-89B0-5E111335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9E117-BBA8-4F10-A3A1-B8B1316C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E8336-D195-4BEA-92F7-49128335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52CF6-C0C7-4ECC-9CCE-2A3B2BA5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9C6C6-AA38-4B23-8B11-24A4D0BF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2F18B-A75E-4B41-B91D-13412782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D0F28-ECD4-4842-8026-A66393C8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CDFD80-F570-465D-B75A-04F9D943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18C-17EE-4D18-AC1B-D3519D6E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4669D5-2153-44B8-8C9C-8379DEEA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E34D34-9F6E-4A5E-B879-6927B7DD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7C8B2C-A019-44F5-AD94-EBBC9596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EBE349-C244-4D94-9429-CE874FFC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F6623A-C274-4EF7-95F0-D57DB4AE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5CBEE7-5010-479E-86F0-C56556C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8E5B16-5C74-49D7-BE63-7D9A44C0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0C2A78-38A2-47F6-BEA3-835060B1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836CB9-8569-4C65-8619-A3D9E493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D5418-0671-42B8-8A25-8C83F323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CFD-4EE9-4046-BD57-644A2122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0D915C-2E4D-4BC3-B847-0F10388B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DF11B-E078-47C3-9BEB-A483592A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A5C8E-3A04-4C87-9D05-27633F4B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83273-1900-465E-9F7C-3BBAE315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482C0-D0DB-40CE-A72C-27F6BB8B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8A752-D552-4CFE-A86A-2C5EA3F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B0E8E-DE84-421D-A12D-C58FFAD5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37E86-8894-499B-A124-0282A86A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AB709-815B-41D8-BCBF-4CA63C4E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B1108-E5D4-4CE3-BCE3-CCA78BF8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4DC5B-BDD8-4140-B117-B757A40B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9EE2C-314D-477F-AB24-FEC33535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F1B81-624E-48DB-B974-2F64A67E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E6682-9CFD-4F86-84DF-D550A8A3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ABBEE-1D06-4E50-8396-6B0E8E36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6EAE2-DFB6-4DBD-B661-7881014B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09681-3F09-497E-BB5B-658C8368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7B8FA-7CDB-419D-BF93-DB44B91B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57B53-A5F6-41D2-9467-18C4AD94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4DEC6-F807-4EEB-AA10-C3D2B323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DC310-E98A-426A-B1A6-3319B61D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C5AA4-9D24-48BC-8570-0CBFD1A3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DCCF2-A901-47A4-AA95-4A0986BA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90F92-8381-47F8-9471-E7930443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4B180-6475-4257-9F64-0A4CA3BA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7867B-EFA8-484F-8361-3C78DE1D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EB420-D46E-4190-83D9-C7205EF1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E99B5-6A46-4F19-992E-7AAFDD7E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A1743-88D6-46A6-9081-4E8B1223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DA134-B2C4-44A2-8137-7EA17E3C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ED4CC-37E2-4B14-BF03-57A58BA4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3340A-22E6-4079-88F6-7A51C109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99B-42FA-483F-90BC-574CE2F0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1EC25-1FD1-468C-B522-11ED9A3F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33FBB-ED4D-4750-B374-3799C65B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3A1EF-988F-4F61-A013-C42C3A85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D5736-C056-4993-A60B-46916BCB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A7B04-8DD4-43D3-B517-F8E100CC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4C0D-02F8-47E3-B3F8-767824D9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C647-EC50-4E24-A6B4-1D86C492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94A6-5C08-4EB8-8984-9D303047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F273-A2A5-4AC8-9050-04D5E405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1CAA-CAC1-4DEE-B636-78FB9A96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F73-3263-4DFF-99DF-4E01954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A20C-83AB-45F7-9B70-373326C5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CDD9-643E-4A81-8470-A9B4E6D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AC04-C440-4C72-A502-48AFEAF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83B80-158A-45AB-8AC3-7F59E60F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5C99-3E40-4483-869E-4890C70C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EE08-9923-401C-A71E-390C0B15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FDCE-4018-4543-B8E8-D742EB82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6BF8-7DE2-445D-B126-919EA456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E0E1-18BC-4E43-AC73-DC6DBF8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B1203-5457-4856-BEC1-E90AAE57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2F4-3750-490C-9DB7-6073F6E4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314F4-751B-4959-A3FB-6D3A2D01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D4AA-4447-40CF-8F28-809C6F72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C193-7116-453B-A6C0-7D963D1D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FAC7F-2298-49BC-910A-EBBCFA4B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AA1CE-F839-4904-BE79-78CD471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8FF0-2CF3-49F6-A704-C8476F9A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A1367-E584-49B5-979F-B5E3F616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FCB3-5F29-40AF-AA77-1E9153D7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886CD-9628-4486-9A66-0AB97B8D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E8158-4F2E-4EB2-98B1-248BDE06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D14-A707-41B2-83F9-58ADB978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CAF4E-5110-4791-A738-37530628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5CECD-6FE3-4654-825C-C6E061C7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0DF1F-3F6C-4BFE-B009-4DC48C1C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43725-A4CA-4C28-AE46-7391E880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F69ED-2A1C-4544-A97D-966DCE44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FA693-08E3-43C3-82E0-CB3D969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41586-DA92-45C2-8256-7FD7DCD4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E3B8A-E40B-4AFB-BC36-1178987B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35FE4-894B-451C-81DC-9E01DB41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0A5D5-0745-48C3-95DB-FC8430B9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365-343D-4CBA-946D-E5879437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5EB63-F835-4E3A-9A66-4ECF9443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183C3-B385-4B1D-9990-D1D0D97D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9E0C1-BABE-452C-B07C-35F70F4A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41E85-C00D-4BEE-A49C-3E8C6CA1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F9E5-BBB5-4201-A8A9-22E830F1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E370F-C02B-464A-9CC9-4DEF1674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2C3FB-1CC3-4BAE-BBB4-68542AB5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D03F8-CDB0-4CFA-821C-C3A922D5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5768C-F02F-46BE-9571-EFDD1CB0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109AB-5D69-4D0F-8835-AC87D7E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EF6-90C0-4F83-8EA1-4D47538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23C80-675C-4F54-B906-E5A12AB0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CBDF-443F-4138-B468-85AF46B9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C345-0EF0-461C-A32B-58A921EC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39D67-BAF2-4DEE-8E37-C2C2A53E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E9365-C660-4538-A760-80893E5D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AACB7-916A-48C9-A67E-661E87C5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422B0-5C3F-40E2-98BB-28506F14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72BD1-E874-4E78-9D49-28413A77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E317A-EEEB-4735-95B4-D03621B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2FAF6-DDD5-495B-98C5-C40FC26B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159-8729-474D-8B80-ACA6D817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7F5F6-D19F-40D3-8F07-58859AD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1120B-061E-4A3B-8C8A-0197F72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A3F22-31C1-4CC7-B50A-80A58202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24719-7E3A-44CA-A0C9-1A5330A4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5978D-C2C4-49F8-BA38-DAC204F8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A11A8-7EBA-4C1E-95D5-686292C8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796C4-677F-41D9-B131-5D134954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4D3ED-52F4-4CBB-ACCE-3F858B2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4B6BE-ED69-41E3-8773-E82263D4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E7CCA-7952-4D10-9186-957053B7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FF9-3DEA-4DD6-AE7F-FE67D1D8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619BA-072A-4C10-A5E8-5B468610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729E0-CA49-40C7-BB2F-2DF5F0A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2A66-3ACB-497A-8FA4-9715592F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81B7D-1E83-4C33-849B-28276A2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C2E27-1122-456A-8268-58F9D861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30E9D-E1BC-482C-BBAE-241574FD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88E37-8D03-4530-9F0A-FBA37568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09DEE-8E1C-4643-B19B-53F6E17B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89DD3-2AF4-410B-8740-A35EBECA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5A077-8B95-486A-BBED-A2F4A01A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3ACF-675B-4BD0-88AB-1179E46DA0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E1FA-9421-4DD7-AC0A-4273EC3AD37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0838-E52E-4B91-B39E-FE7ED5F65AD9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E766-C483-4840-BFFB-B63462328F0A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D26B-4B6F-4D1A-AA94-6166503CB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1010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50000">
                  <a:srgbClr val="3a3a6b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7283-E42B-4BB2-B2AA-DFAD5A39E15A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1010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0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50000">
                  <a:srgbClr val="3a3a6b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1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10104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101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F6B7-F902-4247-BA61-D9E63EB019A2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8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46493"/>
                </a:gs>
                <a:gs pos="100000">
                  <a:srgbClr val="5b5b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50000">
                  <a:srgbClr val="0d0d40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c0c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50000">
                  <a:srgbClr val="0f0f49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b5b8d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5000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50000">
                  <a:srgbClr val="0f0f49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5b5b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5b5b8d"/>
                </a:gs>
                <a:gs pos="50000">
                  <a:srgbClr val="5f5f90"/>
                </a:gs>
                <a:gs pos="100000">
                  <a:srgbClr val="5b5b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6ccd4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6ccd4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529a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6ccd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529a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BE31-44E7-4CB8-9162-2A7C0FDE631E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4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46493"/>
                </a:gs>
                <a:gs pos="100000">
                  <a:srgbClr val="5b5b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50000">
                  <a:srgbClr val="0d0d40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c0c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01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50000">
                  <a:srgbClr val="0f0f49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b5b8d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5000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50000">
                  <a:srgbClr val="0f0f49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1010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0104c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5b5b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5b5b8d"/>
                </a:gs>
                <a:gs pos="50000">
                  <a:srgbClr val="5f5f90"/>
                </a:gs>
                <a:gs pos="100000">
                  <a:srgbClr val="5b5b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6ccd4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6ccd4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6433-9BAB-4123-AD24-135D45B33E05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3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0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1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002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002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101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3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101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101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D665-2D84-4CAD-978C-A70EB8031E46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529a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b5b8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6ccd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cc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3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8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8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66"/>
                  </a:gs>
                  <a:gs pos="100000">
                    <a:srgbClr val="002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10104c"/>
                </a:gs>
                <a:gs pos="100000">
                  <a:srgbClr val="09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002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002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101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101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101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6ccd4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A0A5-2047-4ACC-8795-55103C6A340E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ECB3-B207-4B0C-A477-121C7A3C134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12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2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8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8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audio" Target="../media/arrow.wav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195640" y="1484280"/>
            <a:ext cx="57610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We comment               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n some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tuations   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904760" cy="119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5C0-B6C9-447D-84B8-BB9CF88C2E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5003640" y="4581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582-C0DC-4D5E-A9ED-0DC2FC3B53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ECCB-4E3A-441D-8557-6F209A0C6030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IN</a:t>
            </a:r>
            <a:r>
              <a:rPr b="0" lang="en-GB" sz="2800" spc="-1" strike="noStrike">
                <a:solidFill>
                  <a:srgbClr val="800000"/>
                </a:solidFill>
                <a:latin typeface="Verdana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MAX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"/>
          <p:cNvSpPr/>
          <p:nvPr/>
        </p:nvSpPr>
        <p:spPr>
          <a:xfrm>
            <a:off x="3203640" y="213372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8"/>
          <a:stretch/>
        </p:blipFill>
        <p:spPr>
          <a:xfrm>
            <a:off x="3203640" y="2637000"/>
            <a:ext cx="792000" cy="431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6" name="" descr=""/>
          <p:cNvPicPr/>
          <p:nvPr/>
        </p:nvPicPr>
        <p:blipFill>
          <a:blip r:embed="rId9"/>
          <a:stretch/>
        </p:blipFill>
        <p:spPr>
          <a:xfrm>
            <a:off x="3203640" y="4005360"/>
            <a:ext cx="792000" cy="431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7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03640" y="3573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0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5242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500720" y="5445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1" lang="en-GB" sz="3600" spc="-1" strike="noStrike">
                <a:solidFill>
                  <a:srgbClr val="ff5050"/>
                </a:solidFill>
                <a:latin typeface="Arial"/>
              </a:rPr>
              <a:t>FINAL </a:t>
            </a:r>
            <a:r>
              <a:rPr b="1" lang="en-GB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5050"/>
                </a:solidFill>
                <a:latin typeface="Arial"/>
              </a:rPr>
              <a:t>C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1"/>
          <a:stretch/>
        </p:blipFill>
        <p:spPr>
          <a:xfrm>
            <a:off x="3203640" y="5445000"/>
            <a:ext cx="792000" cy="4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75" name=""/>
          <p:cNvSpPr/>
          <p:nvPr/>
        </p:nvSpPr>
        <p:spPr>
          <a:xfrm rot="19995000">
            <a:off x="4284360" y="1988640"/>
            <a:ext cx="1655640" cy="720720"/>
          </a:xfrm>
          <a:prstGeom prst="leftArrow">
            <a:avLst>
              <a:gd name="adj1" fmla="val 50000"/>
              <a:gd name="adj2" fmla="val 57430"/>
            </a:avLst>
          </a:prstGeom>
          <a:solidFill>
            <a:srgbClr val="8de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539640" y="260280"/>
            <a:ext cx="8136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ULTS  from  Simulat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at System 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not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sequent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not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period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not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sa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not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sec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AED-CD01-4249-8F35-826090D051F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324000" y="260280"/>
            <a:ext cx="8496000" cy="51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Open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Questions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fter Simulat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-  are periods possibl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-  can the net be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made saf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-  can the net be </a:t>
            </a:r>
            <a:r>
              <a:rPr b="1" lang="en-GB" sz="3600" spc="-1" strike="noStrike">
                <a:solidFill>
                  <a:srgbClr val="ffff66"/>
                </a:solidFill>
                <a:latin typeface="Arial"/>
              </a:rPr>
              <a:t>“repaired”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Those</a:t>
            </a:r>
            <a:r>
              <a:rPr b="1" lang="en-GB" sz="28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questions</a:t>
            </a:r>
            <a:r>
              <a:rPr b="1" lang="en-GB" sz="28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are</a:t>
            </a:r>
            <a:r>
              <a:rPr b="1" lang="en-GB" sz="28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answered 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</a:rPr>
              <a:t>by</a:t>
            </a:r>
            <a:r>
              <a:rPr b="1" lang="en-GB" sz="2800" spc="-1" strike="noStrike">
                <a:solidFill>
                  <a:srgbClr val="ff99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99"/>
                </a:solidFill>
                <a:latin typeface="Arial"/>
              </a:rPr>
              <a:t>                       </a:t>
            </a: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NET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cc66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588000" y="5300640"/>
            <a:ext cx="255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04000" y="5373720"/>
            <a:ext cx="23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8F6-83A5-4064-B7CF-AD4C5947750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229B-D6A5-4AF5-8B10-37CF5E314791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692360" y="2637000"/>
            <a:ext cx="63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Old discover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 flipH="1">
            <a:off x="6588000" y="3716280"/>
            <a:ext cx="720720" cy="720720"/>
          </a:xfrm>
          <a:prstGeom prst="uturnArrow">
            <a:avLst/>
          </a:prstGeom>
          <a:solidFill>
            <a:srgbClr val="8de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rot="18094800">
            <a:off x="7308000" y="3717000"/>
            <a:ext cx="1008000" cy="43164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de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rot="7311600">
            <a:off x="6335640" y="5481360"/>
            <a:ext cx="936360" cy="432000"/>
          </a:xfrm>
          <a:custGeom>
            <a:avLst/>
            <a:gdLst>
              <a:gd name="textAreaLeft" fmla="*/ 117000 w 936360"/>
              <a:gd name="textAreaRight" fmla="*/ 819360 w 936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de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rot="1759800">
            <a:off x="7524720" y="4581360"/>
            <a:ext cx="1297080" cy="432000"/>
          </a:xfrm>
          <a:custGeom>
            <a:avLst/>
            <a:gdLst>
              <a:gd name="textAreaLeft" fmla="*/ 226800 w 1297080"/>
              <a:gd name="textAreaRight" fmla="*/ 940320 w 12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de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276720" y="260280"/>
            <a:ext cx="36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bc5ff"/>
                </a:solidFill>
                <a:latin typeface="Arial"/>
              </a:rPr>
              <a:t>195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1A6FF-5186-47D0-AE53-17AD43779F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63C5-477A-4FE2-9879-F961213F5BCD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7080" cy="685800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6877080" cy="285264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6948360" y="404640"/>
            <a:ext cx="2195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093080" y="333360"/>
            <a:ext cx="20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9ff"/>
                </a:solidFill>
                <a:latin typeface="Arial"/>
              </a:rPr>
              <a:t>196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020000" y="3573360"/>
            <a:ext cx="21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020000" y="4292640"/>
            <a:ext cx="212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rst fish caught i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 feelings        sett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" descr=""/>
          <p:cNvPicPr/>
          <p:nvPr/>
        </p:nvPicPr>
        <p:blipFill>
          <a:blip r:embed="rId1"/>
          <a:srcRect l="0" t="31868" r="0" b="4312"/>
          <a:stretch/>
        </p:blipFill>
        <p:spPr>
          <a:xfrm>
            <a:off x="1187280" y="907920"/>
            <a:ext cx="6480360" cy="595008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755640" y="26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le 2 in algebraic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2"/>
          <a:srcRect l="0" t="0" r="0" b="51025"/>
          <a:stretch/>
        </p:blipFill>
        <p:spPr>
          <a:xfrm>
            <a:off x="6372360" y="260280"/>
            <a:ext cx="1271520" cy="6476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0" y="0"/>
            <a:ext cx="20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99ff"/>
                </a:solidFill>
                <a:latin typeface="Arial"/>
              </a:rPr>
              <a:t>196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AC7-29B9-4866-929B-964749A2874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6600"/>
                </a:solidFill>
                <a:latin typeface="Arial Black"/>
              </a:rPr>
              <a:t>CONFUSION</a:t>
            </a:r>
            <a:endParaRPr b="0" lang="en-US" sz="6600" spc="-1" strike="noStrike">
              <a:solidFill>
                <a:srgbClr val="e3e3ff"/>
              </a:solidFill>
              <a:latin typeface="Arial Black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s an important phenomenon in Nature    and in most man-made System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rcRect l="17626" t="2965" r="26245" b="53377"/>
          <a:stretch/>
        </p:blipFill>
        <p:spPr>
          <a:xfrm>
            <a:off x="6659640" y="306864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2"/>
          <a:srcRect l="13284" t="50008" r="8953" b="0"/>
          <a:stretch/>
        </p:blipFill>
        <p:spPr>
          <a:xfrm>
            <a:off x="2627280" y="436572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3"/>
          <a:srcRect l="13284" t="50008" r="8953" b="0"/>
          <a:stretch/>
        </p:blipFill>
        <p:spPr>
          <a:xfrm>
            <a:off x="5219640" y="4365720"/>
            <a:ext cx="1656000" cy="136836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2340000" y="4076640"/>
            <a:ext cx="647640" cy="576360"/>
          </a:xfrm>
          <a:prstGeom prst="line">
            <a:avLst/>
          </a:prstGeom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3924360" y="4005000"/>
            <a:ext cx="576360" cy="647640"/>
          </a:xfrm>
          <a:prstGeom prst="line">
            <a:avLst/>
          </a:prstGeom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932360" y="4005360"/>
            <a:ext cx="647640" cy="647640"/>
          </a:xfrm>
          <a:prstGeom prst="line">
            <a:avLst/>
          </a:prstGeom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6443640" y="4076280"/>
            <a:ext cx="649440" cy="576360"/>
          </a:xfrm>
          <a:prstGeom prst="line">
            <a:avLst/>
          </a:prstGeom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rcRect l="17626" t="0" r="28383" b="55040"/>
          <a:stretch/>
        </p:blipFill>
        <p:spPr>
          <a:xfrm>
            <a:off x="4067280" y="2997360"/>
            <a:ext cx="1224000" cy="120780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5"/>
          <a:stretch/>
        </p:blipFill>
        <p:spPr>
          <a:xfrm>
            <a:off x="1042920" y="2492280"/>
            <a:ext cx="1905120" cy="119088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6"/>
          <a:stretch/>
        </p:blipFill>
        <p:spPr>
          <a:xfrm>
            <a:off x="3780000" y="5753160"/>
            <a:ext cx="1657080" cy="110484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7"/>
          <a:stretch/>
        </p:blipFill>
        <p:spPr>
          <a:xfrm>
            <a:off x="4356000" y="2565360"/>
            <a:ext cx="639720" cy="86508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8"/>
          <a:stretch/>
        </p:blipFill>
        <p:spPr>
          <a:xfrm>
            <a:off x="6443640" y="2565360"/>
            <a:ext cx="1513080" cy="94608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9"/>
          <a:stretch/>
        </p:blipFill>
        <p:spPr>
          <a:xfrm>
            <a:off x="250920" y="6093000"/>
            <a:ext cx="1285920" cy="76500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10"/>
          <a:stretch/>
        </p:blipFill>
        <p:spPr>
          <a:xfrm rot="804600">
            <a:off x="5148000" y="6611760"/>
            <a:ext cx="934920" cy="49248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11"/>
          <a:stretch/>
        </p:blipFill>
        <p:spPr>
          <a:xfrm rot="20676600">
            <a:off x="1979280" y="6308640"/>
            <a:ext cx="1224000" cy="54936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/>
          <p:cNvPicPr/>
          <p:nvPr/>
        </p:nvPicPr>
        <p:blipFill>
          <a:blip r:embed="rId12"/>
          <a:stretch/>
        </p:blipFill>
        <p:spPr>
          <a:xfrm rot="881400">
            <a:off x="2771280" y="4076280"/>
            <a:ext cx="1008360" cy="67140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13"/>
          <a:stretch/>
        </p:blipFill>
        <p:spPr>
          <a:xfrm>
            <a:off x="5580000" y="4076640"/>
            <a:ext cx="1079640" cy="487440"/>
          </a:xfrm>
          <a:prstGeom prst="rect">
            <a:avLst/>
          </a:prstGeom>
          <a:ln w="0">
            <a:noFill/>
          </a:ln>
        </p:spPr>
      </p:pic>
      <p:pic>
        <p:nvPicPr>
          <p:cNvPr id="1118" name="" descr=""/>
          <p:cNvPicPr/>
          <p:nvPr/>
        </p:nvPicPr>
        <p:blipFill>
          <a:blip r:embed="rId14"/>
          <a:srcRect l="17626" t="0" r="28383" b="55040"/>
          <a:stretch/>
        </p:blipFill>
        <p:spPr>
          <a:xfrm>
            <a:off x="1476360" y="2997360"/>
            <a:ext cx="1224000" cy="1207800"/>
          </a:xfrm>
          <a:prstGeom prst="rect">
            <a:avLst/>
          </a:prstGeom>
          <a:ln w="0">
            <a:noFill/>
          </a:ln>
        </p:spPr>
      </p:pic>
      <p:sp>
        <p:nvSpPr>
          <p:cNvPr id="1119" name=""/>
          <p:cNvSpPr/>
          <p:nvPr/>
        </p:nvSpPr>
        <p:spPr>
          <a:xfrm>
            <a:off x="0" y="0"/>
            <a:ext cx="16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bc5ff"/>
                </a:solidFill>
                <a:latin typeface="Arial"/>
              </a:rPr>
              <a:t>196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424C8-3D86-443D-9E4C-51BFF8EAAC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6600"/>
                </a:solidFill>
                <a:latin typeface="Arial Black"/>
              </a:rPr>
              <a:t>CONFUSION</a:t>
            </a:r>
            <a:endParaRPr b="0" lang="en-US" sz="6600" spc="-1" strike="noStrike">
              <a:solidFill>
                <a:srgbClr val="e3e3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is an important phenomenon in Nature    and in most man-made System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rcRect l="17626" t="2965" r="26245" b="53377"/>
          <a:stretch/>
        </p:blipFill>
        <p:spPr>
          <a:xfrm>
            <a:off x="6659640" y="306864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2"/>
          <a:srcRect l="13284" t="50008" r="8953" b="0"/>
          <a:stretch/>
        </p:blipFill>
        <p:spPr>
          <a:xfrm>
            <a:off x="2627280" y="436572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3"/>
          <a:srcRect l="13284" t="50008" r="8953" b="0"/>
          <a:stretch/>
        </p:blipFill>
        <p:spPr>
          <a:xfrm>
            <a:off x="5219640" y="4365720"/>
            <a:ext cx="1656000" cy="13683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2340000" y="4076640"/>
            <a:ext cx="647640" cy="576360"/>
          </a:xfrm>
          <a:prstGeom prst="line">
            <a:avLst/>
          </a:prstGeom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924360" y="4005000"/>
            <a:ext cx="576360" cy="647640"/>
          </a:xfrm>
          <a:prstGeom prst="line">
            <a:avLst/>
          </a:prstGeom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932360" y="4005360"/>
            <a:ext cx="647640" cy="647640"/>
          </a:xfrm>
          <a:prstGeom prst="line">
            <a:avLst/>
          </a:prstGeom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443640" y="4076280"/>
            <a:ext cx="649440" cy="576360"/>
          </a:xfrm>
          <a:prstGeom prst="line">
            <a:avLst/>
          </a:prstGeom>
          <a:ln w="7632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4"/>
          <a:srcRect l="17626" t="0" r="28383" b="55040"/>
          <a:stretch/>
        </p:blipFill>
        <p:spPr>
          <a:xfrm>
            <a:off x="4067280" y="2997360"/>
            <a:ext cx="1224000" cy="120780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5"/>
          <a:srcRect l="52117" t="0" r="0" b="23564"/>
          <a:stretch/>
        </p:blipFill>
        <p:spPr>
          <a:xfrm>
            <a:off x="0" y="6013440"/>
            <a:ext cx="793800" cy="84456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6"/>
          <a:srcRect l="17626" t="0" r="28383" b="55040"/>
          <a:stretch/>
        </p:blipFill>
        <p:spPr>
          <a:xfrm>
            <a:off x="1619280" y="306864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1132" name=""/>
          <p:cNvSpPr/>
          <p:nvPr/>
        </p:nvSpPr>
        <p:spPr>
          <a:xfrm>
            <a:off x="826920" y="6308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scription: “Three Hearts, Two Minds” = Con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1E36A-88B4-4B7C-87DB-E7165D3CE99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324000" y="0"/>
            <a:ext cx="85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26920" y="260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( initial state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26920" y="3933720"/>
            <a:ext cx="15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verse   Conflict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68360" y="508464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(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what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happened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previously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 ??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95280" y="19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abled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7BA-93B0-4918-87C1-47028D58B3B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6600"/>
                </a:solidFill>
                <a:latin typeface="Arial"/>
              </a:rPr>
              <a:t>CONFUSION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1471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Confus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ccurs when you are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drawn into a Conflict while you are about to 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it is not clear whether or not your action was influenced by another person - so you are in an awkward position if you  have to justify your action, or to explain it to others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1"/>
          <a:stretch/>
        </p:blipFill>
        <p:spPr>
          <a:xfrm>
            <a:off x="3419640" y="5300640"/>
            <a:ext cx="1081080" cy="133020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3924360" y="6453360"/>
            <a:ext cx="0" cy="404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2"/>
          <a:srcRect l="0" t="0" r="0" b="9677"/>
          <a:stretch/>
        </p:blipFill>
        <p:spPr>
          <a:xfrm>
            <a:off x="5292720" y="6121440"/>
            <a:ext cx="1224000" cy="73656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3"/>
          <a:stretch/>
        </p:blipFill>
        <p:spPr>
          <a:xfrm>
            <a:off x="6300720" y="6378480"/>
            <a:ext cx="719280" cy="4795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39640" y="1341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formal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4"/>
          <a:stretch/>
        </p:blipFill>
        <p:spPr>
          <a:xfrm>
            <a:off x="3059280" y="6093000"/>
            <a:ext cx="50004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91F-BB54-44C8-9EB9-53082FA8B5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6600"/>
                </a:solidFill>
                <a:latin typeface="Arial"/>
              </a:rPr>
              <a:t>CONFUSION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147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an Observer,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Confus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appear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failur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f the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Laws of Causal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is a </a:t>
            </a:r>
            <a:r>
              <a:rPr b="0" lang="en-GB" sz="3600" spc="-1" strike="noStrike">
                <a:solidFill>
                  <a:srgbClr val="00ff00"/>
                </a:solidFill>
                <a:latin typeface="Arial"/>
              </a:rPr>
              <a:t>“</a:t>
            </a:r>
            <a:r>
              <a:rPr b="1" lang="en-GB" sz="3600" spc="-1" strike="noStrike" u="sng">
                <a:solidFill>
                  <a:srgbClr val="00ff00"/>
                </a:solidFill>
                <a:uFillTx/>
                <a:latin typeface="Arial"/>
              </a:rPr>
              <a:t>non-local</a:t>
            </a:r>
            <a:r>
              <a:rPr b="0" lang="en-GB" sz="3600" spc="-1" strike="noStrike">
                <a:solidFill>
                  <a:srgbClr val="00ff00"/>
                </a:solidFill>
                <a:latin typeface="Arial"/>
              </a:rPr>
              <a:t>”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ffec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3419640" y="5300640"/>
            <a:ext cx="1081080" cy="133020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3924360" y="6453360"/>
            <a:ext cx="0" cy="404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2"/>
          <a:srcRect l="0" t="0" r="0" b="9677"/>
          <a:stretch/>
        </p:blipFill>
        <p:spPr>
          <a:xfrm>
            <a:off x="5292720" y="6121440"/>
            <a:ext cx="1224000" cy="73656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3"/>
          <a:stretch/>
        </p:blipFill>
        <p:spPr>
          <a:xfrm>
            <a:off x="6300720" y="6378480"/>
            <a:ext cx="719280" cy="479520"/>
          </a:xfrm>
          <a:prstGeom prst="rect">
            <a:avLst/>
          </a:prstGeom>
          <a:ln w="0">
            <a:noFill/>
          </a:ln>
        </p:spPr>
      </p:pic>
      <p:pic>
        <p:nvPicPr>
          <p:cNvPr id="1147" name="" descr=""/>
          <p:cNvPicPr/>
          <p:nvPr/>
        </p:nvPicPr>
        <p:blipFill>
          <a:blip r:embed="rId4"/>
          <a:stretch/>
        </p:blipFill>
        <p:spPr>
          <a:xfrm>
            <a:off x="6877080" y="6426360"/>
            <a:ext cx="647640" cy="43164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5"/>
          <a:stretch/>
        </p:blipFill>
        <p:spPr>
          <a:xfrm>
            <a:off x="7380360" y="6473880"/>
            <a:ext cx="576360" cy="38412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6"/>
          <a:stretch/>
        </p:blipFill>
        <p:spPr>
          <a:xfrm>
            <a:off x="7885080" y="652464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1150" name=""/>
          <p:cNvSpPr/>
          <p:nvPr/>
        </p:nvSpPr>
        <p:spPr>
          <a:xfrm>
            <a:off x="7164360" y="6858000"/>
            <a:ext cx="19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7"/>
          <a:stretch/>
        </p:blipFill>
        <p:spPr>
          <a:xfrm>
            <a:off x="3059280" y="6093000"/>
            <a:ext cx="50004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D68-611C-4A19-B599-BDC4EE5C69C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6600"/>
                </a:solidFill>
                <a:latin typeface="Arial"/>
              </a:rPr>
              <a:t>CONFUSION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1471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an Observer,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Confus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appear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failur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f the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Laws of Causal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is a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non-loc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ffec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is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onfli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hain,                                                           non-neighbours ar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concurr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3419640" y="5300640"/>
            <a:ext cx="1081080" cy="133020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3924360" y="6453360"/>
            <a:ext cx="0" cy="404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"/>
          <a:srcRect l="0" t="0" r="0" b="9677"/>
          <a:stretch/>
        </p:blipFill>
        <p:spPr>
          <a:xfrm>
            <a:off x="5292720" y="6121440"/>
            <a:ext cx="1224000" cy="73656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3"/>
          <a:stretch/>
        </p:blipFill>
        <p:spPr>
          <a:xfrm>
            <a:off x="6300720" y="6378480"/>
            <a:ext cx="719280" cy="47952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4"/>
          <a:stretch/>
        </p:blipFill>
        <p:spPr>
          <a:xfrm>
            <a:off x="6877080" y="6426360"/>
            <a:ext cx="647640" cy="431640"/>
          </a:xfrm>
          <a:prstGeom prst="rect">
            <a:avLst/>
          </a:prstGeom>
          <a:ln w="0">
            <a:noFill/>
          </a:ln>
        </p:spPr>
      </p:pic>
      <p:pic>
        <p:nvPicPr>
          <p:cNvPr id="1159" name="" descr=""/>
          <p:cNvPicPr/>
          <p:nvPr/>
        </p:nvPicPr>
        <p:blipFill>
          <a:blip r:embed="rId5"/>
          <a:stretch/>
        </p:blipFill>
        <p:spPr>
          <a:xfrm>
            <a:off x="7380360" y="6426360"/>
            <a:ext cx="647640" cy="43164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6"/>
          <a:stretch/>
        </p:blipFill>
        <p:spPr>
          <a:xfrm>
            <a:off x="7885080" y="6521400"/>
            <a:ext cx="504720" cy="33660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5724360" y="4941720"/>
            <a:ext cx="287640" cy="2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300720" y="4941720"/>
            <a:ext cx="287280" cy="2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877080" y="4941720"/>
            <a:ext cx="287280" cy="2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451640" y="4941720"/>
            <a:ext cx="287280" cy="2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8028000" y="4941720"/>
            <a:ext cx="287280" cy="2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012000" y="5445000"/>
            <a:ext cx="3585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88000" y="544500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164360" y="5445000"/>
            <a:ext cx="3589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740720" y="5445000"/>
            <a:ext cx="3585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940360" y="5229360"/>
            <a:ext cx="14436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300720" y="5229000"/>
            <a:ext cx="7164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516720" y="5229360"/>
            <a:ext cx="14292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6877080" y="5229000"/>
            <a:ext cx="7128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093080" y="5229360"/>
            <a:ext cx="14292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7451640" y="5229000"/>
            <a:ext cx="7308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 flipV="1">
            <a:off x="7667280" y="5229000"/>
            <a:ext cx="14436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8028000" y="5229000"/>
            <a:ext cx="7308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8" name="" descr=""/>
          <p:cNvPicPr/>
          <p:nvPr/>
        </p:nvPicPr>
        <p:blipFill>
          <a:blip r:embed="rId7"/>
          <a:stretch/>
        </p:blipFill>
        <p:spPr>
          <a:xfrm>
            <a:off x="3059280" y="6093000"/>
            <a:ext cx="50004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329-54B8-4CB1-9BA9-5963E3E59E9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6600"/>
                </a:solidFill>
                <a:latin typeface="Arial"/>
              </a:rPr>
              <a:t>CONFUSION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finition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99"/>
                </a:solidFill>
                <a:latin typeface="Arial"/>
              </a:rPr>
              <a:t> Confus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ccurs when an enabled Transition  t1  is put </a:t>
            </a: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int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out o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conflic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 t2  by a </a:t>
            </a:r>
            <a:r>
              <a:rPr b="0" lang="en-GB" sz="3200" spc="-1" strike="noStrike">
                <a:solidFill>
                  <a:srgbClr val="00ffcc"/>
                </a:solidFill>
                <a:latin typeface="Arial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ransition  t3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1"/>
          <a:stretch/>
        </p:blipFill>
        <p:spPr>
          <a:xfrm rot="20367000">
            <a:off x="2652480" y="6516720"/>
            <a:ext cx="1035000" cy="5684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564000" y="6597720"/>
            <a:ext cx="287280" cy="2602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2"/>
          <a:srcRect l="0" t="0" r="0" b="9677"/>
          <a:stretch/>
        </p:blipFill>
        <p:spPr>
          <a:xfrm>
            <a:off x="900000" y="6121440"/>
            <a:ext cx="1224000" cy="736560"/>
          </a:xfrm>
          <a:prstGeom prst="rect">
            <a:avLst/>
          </a:prstGeom>
          <a:ln w="0">
            <a:noFill/>
          </a:ln>
        </p:spPr>
      </p:pic>
      <p:sp>
        <p:nvSpPr>
          <p:cNvPr id="1184" name=""/>
          <p:cNvSpPr/>
          <p:nvPr/>
        </p:nvSpPr>
        <p:spPr>
          <a:xfrm>
            <a:off x="7164360" y="6858000"/>
            <a:ext cx="19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971640" y="3716280"/>
            <a:ext cx="86364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284720" y="3716280"/>
            <a:ext cx="863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524720" y="3716280"/>
            <a:ext cx="86364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284720" y="4149720"/>
            <a:ext cx="86364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042920" y="378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356000" y="386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596360" y="3789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96360" y="38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627280" y="4365720"/>
            <a:ext cx="86508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4437000"/>
            <a:ext cx="865080" cy="79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6533400">
            <a:off x="6803640" y="4113000"/>
            <a:ext cx="868680" cy="54144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5148360" y="4292640"/>
            <a:ext cx="863640" cy="3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492360" y="4292280"/>
            <a:ext cx="792360" cy="3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35280" y="4292640"/>
            <a:ext cx="792000" cy="3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9" name="" descr=""/>
          <p:cNvPicPr/>
          <p:nvPr/>
        </p:nvPicPr>
        <p:blipFill>
          <a:blip r:embed="rId3"/>
          <a:srcRect l="0" t="0" r="0" b="9677"/>
          <a:stretch/>
        </p:blipFill>
        <p:spPr>
          <a:xfrm>
            <a:off x="0" y="6381720"/>
            <a:ext cx="792000" cy="4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68E-4E13-43A9-A514-9EEDAB6AA0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6600"/>
                </a:solidFill>
                <a:latin typeface="Arial"/>
              </a:rPr>
              <a:t>CONFUSION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471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Conflict              In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 rot="20367000">
            <a:off x="2652480" y="6516720"/>
            <a:ext cx="1035000" cy="5684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3564000" y="6597720"/>
            <a:ext cx="287280" cy="2602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2"/>
          <a:srcRect l="38273" t="-3478" r="0" b="9677"/>
          <a:stretch/>
        </p:blipFill>
        <p:spPr>
          <a:xfrm>
            <a:off x="0" y="6093000"/>
            <a:ext cx="755640" cy="76500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7164360" y="6858000"/>
            <a:ext cx="19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971640" y="3716280"/>
            <a:ext cx="86364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284720" y="3716280"/>
            <a:ext cx="863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524720" y="3716280"/>
            <a:ext cx="86364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284720" y="4149720"/>
            <a:ext cx="86364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042920" y="378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356000" y="386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6360" y="3789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96360" y="38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627280" y="4365720"/>
            <a:ext cx="86508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940360" y="4437000"/>
            <a:ext cx="865080" cy="79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rot="6533400">
            <a:off x="6784920" y="4096800"/>
            <a:ext cx="868320" cy="54144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8360" y="4292640"/>
            <a:ext cx="863640" cy="3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492360" y="4292280"/>
            <a:ext cx="792360" cy="3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835280" y="4292640"/>
            <a:ext cx="792000" cy="3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1763640" y="1628640"/>
            <a:ext cx="1656000" cy="432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476360" y="2060640"/>
            <a:ext cx="287280" cy="1008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4360" y="1628640"/>
            <a:ext cx="1511640" cy="287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236000" y="1916280"/>
            <a:ext cx="431640" cy="1008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124000" y="3141720"/>
            <a:ext cx="503280" cy="43164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3141720"/>
            <a:ext cx="431640" cy="50328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364000" y="3141720"/>
            <a:ext cx="503280" cy="43164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877080" y="3141720"/>
            <a:ext cx="431640" cy="50328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435-305B-4F55-9CA9-DBE8FC6AB2A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6600"/>
                </a:solidFill>
                <a:latin typeface="Arial"/>
              </a:rPr>
              <a:t>CONFUSION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an be avoided systematical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per use of “Noisy Channels”,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at is, by 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hannelling Information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7164360" y="6858000"/>
            <a:ext cx="19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971640" y="3716280"/>
            <a:ext cx="86364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284720" y="3716280"/>
            <a:ext cx="863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524720" y="3716280"/>
            <a:ext cx="863640" cy="792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284720" y="4149720"/>
            <a:ext cx="86364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042920" y="378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292929"/>
                </a:solidFill>
                <a:latin typeface="Arial"/>
              </a:rPr>
              <a:t>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356000" y="386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596360" y="37893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596360" y="38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627280" y="4365720"/>
            <a:ext cx="86508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940360" y="4437000"/>
            <a:ext cx="865080" cy="792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6533400">
            <a:off x="6803640" y="4113000"/>
            <a:ext cx="868680" cy="54144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148360" y="4292640"/>
            <a:ext cx="863640" cy="3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3492360" y="4292280"/>
            <a:ext cx="792360" cy="36036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835280" y="4292640"/>
            <a:ext cx="792000" cy="36036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rot="1114200">
            <a:off x="1893600" y="3941280"/>
            <a:ext cx="5481720" cy="648000"/>
          </a:xfrm>
          <a:custGeom>
            <a:avLst/>
            <a:gdLst>
              <a:gd name="textAreaLeft" fmla="*/ 0 w 5481720"/>
              <a:gd name="textAreaRight" fmla="*/ 5482080 w 5481720"/>
              <a:gd name="textAreaTop" fmla="*/ 83880 h 648000"/>
              <a:gd name="textAreaBottom" fmla="*/ 564120 h 6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rot="20275800">
            <a:off x="1899720" y="4059360"/>
            <a:ext cx="5415120" cy="647640"/>
          </a:xfrm>
          <a:custGeom>
            <a:avLst/>
            <a:gdLst>
              <a:gd name="textAreaLeft" fmla="*/ 0 w 5415120"/>
              <a:gd name="textAreaRight" fmla="*/ 5415480 w 541512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971640" y="623736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116000" y="6381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a way  to be explained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400-B9CF-415D-B48D-A7E182FCB15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amples of Basic Situations I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403280" y="1268280"/>
            <a:ext cx="287280" cy="28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403280" y="3141720"/>
            <a:ext cx="287280" cy="288720"/>
          </a:xfrm>
          <a:prstGeom prst="rect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443640" y="1268280"/>
            <a:ext cx="287280" cy="289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995640" y="4941720"/>
            <a:ext cx="287280" cy="2890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43640" y="3141720"/>
            <a:ext cx="287280" cy="288720"/>
          </a:xfrm>
          <a:prstGeom prst="rect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39640" y="90792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39640" y="1628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195640" y="90792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195640" y="1628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203640" y="458136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203640" y="5300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716360" y="5300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16360" y="458136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195640" y="350028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350028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195640" y="2781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39640" y="2781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651640" y="90792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651640" y="1628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164360" y="90792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651640" y="2781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164360" y="1628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651640" y="350028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164360" y="350028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164360" y="2781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11280" y="285264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11280" y="357336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268360" y="3573360"/>
            <a:ext cx="21600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788000" y="537372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276720" y="465300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236000" y="98100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11280" y="170028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11280" y="98100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573360"/>
            <a:ext cx="21600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7236000" y="170028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7236000" y="357336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68360" y="4292640"/>
            <a:ext cx="806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236000" y="285264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95280" y="2349360"/>
            <a:ext cx="8209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900000" y="1125360"/>
            <a:ext cx="503280" cy="2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900000" y="1483920"/>
            <a:ext cx="503280" cy="28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692360" y="1125360"/>
            <a:ext cx="503280" cy="2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1484280"/>
            <a:ext cx="503280" cy="28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012000" y="1197000"/>
            <a:ext cx="431640" cy="14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6012000" y="1484280"/>
            <a:ext cx="431640" cy="2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6732720" y="1196640"/>
            <a:ext cx="431640" cy="14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732720" y="1484280"/>
            <a:ext cx="431640" cy="2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900000" y="2997360"/>
            <a:ext cx="50328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900000" y="3357720"/>
            <a:ext cx="50328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1692360" y="2997000"/>
            <a:ext cx="50328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692360" y="3357720"/>
            <a:ext cx="50328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012000" y="2997360"/>
            <a:ext cx="43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6012000" y="3357720"/>
            <a:ext cx="43164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732720" y="2997000"/>
            <a:ext cx="43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732720" y="3357720"/>
            <a:ext cx="43164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564000" y="4869000"/>
            <a:ext cx="431640" cy="14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564000" y="5157720"/>
            <a:ext cx="43164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284720" y="5157720"/>
            <a:ext cx="431640" cy="2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4284720" y="4797360"/>
            <a:ext cx="431640" cy="2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843280" y="907920"/>
            <a:ext cx="208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c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  is 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enab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8405640" y="1413000"/>
            <a:ext cx="14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667640" y="1125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verse  conc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916360" y="285264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et is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not s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812000" y="299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verse cont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755640" y="4869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j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580000" y="486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et  is  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not se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B8E-B52D-4B22-B892-B0164C2E315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Examples of Basic Situations Il: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476360" y="1052640"/>
            <a:ext cx="287280" cy="288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403280" y="2852640"/>
            <a:ext cx="287280" cy="289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300720" y="1052640"/>
            <a:ext cx="287280" cy="288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24000" y="4653000"/>
            <a:ext cx="287280" cy="288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227640" y="4653000"/>
            <a:ext cx="287640" cy="288720"/>
          </a:xfrm>
          <a:prstGeom prst="rect">
            <a:avLst/>
          </a:prstGeom>
          <a:solidFill>
            <a:srgbClr val="43f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39640" y="90792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39640" y="1628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340000" y="126828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684360" y="5229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564000" y="5229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867280" y="5229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356000" y="5229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740720" y="465300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95640" y="350028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39640" y="350028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195640" y="2852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39640" y="2781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364000" y="1268280"/>
            <a:ext cx="360360" cy="360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619280" y="5229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164360" y="90792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388360" y="342900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164360" y="1628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8459640" y="465300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093080" y="465300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148360" y="5229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1280" y="285264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11280" y="357336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084720" y="2924280"/>
            <a:ext cx="216000" cy="21564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164360" y="4724280"/>
            <a:ext cx="21600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435640" y="1341360"/>
            <a:ext cx="21600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11280" y="170028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11280" y="98100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084720" y="2924280"/>
            <a:ext cx="216000" cy="21564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95280" y="4076640"/>
            <a:ext cx="489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812000" y="4724280"/>
            <a:ext cx="21600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95280" y="2349360"/>
            <a:ext cx="8209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900000" y="1125360"/>
            <a:ext cx="576360" cy="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900000" y="1628640"/>
            <a:ext cx="576360" cy="1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763640" y="1483920"/>
            <a:ext cx="576360" cy="14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763640" y="1197000"/>
            <a:ext cx="576360" cy="14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724360" y="1196640"/>
            <a:ext cx="576360" cy="14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724360" y="1557360"/>
            <a:ext cx="576360" cy="1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588000" y="1125000"/>
            <a:ext cx="576360" cy="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588000" y="1700280"/>
            <a:ext cx="576360" cy="73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900000" y="2997360"/>
            <a:ext cx="503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900000" y="3645000"/>
            <a:ext cx="503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692360" y="2997360"/>
            <a:ext cx="503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692360" y="3645000"/>
            <a:ext cx="503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08000" y="5516640"/>
            <a:ext cx="21600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476360" y="4941720"/>
            <a:ext cx="21600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68360" y="4869000"/>
            <a:ext cx="28728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3851280" y="4941720"/>
            <a:ext cx="21600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348000" y="4941720"/>
            <a:ext cx="28728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899640" y="4941720"/>
            <a:ext cx="35892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643280" y="4941720"/>
            <a:ext cx="21600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11640" y="4941720"/>
            <a:ext cx="21600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476360" y="1484280"/>
            <a:ext cx="287280" cy="28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300720" y="1557360"/>
            <a:ext cx="287280" cy="289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276720" y="112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fl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403280" y="3500280"/>
            <a:ext cx="287280" cy="2890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508720" y="4653000"/>
            <a:ext cx="287280" cy="288720"/>
          </a:xfrm>
          <a:prstGeom prst="rect">
            <a:avLst/>
          </a:prstGeom>
          <a:solidFill>
            <a:srgbClr val="43f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995640" y="4653000"/>
            <a:ext cx="287280" cy="288720"/>
          </a:xfrm>
          <a:prstGeom prst="rect">
            <a:avLst/>
          </a:prstGeom>
          <a:solidFill>
            <a:srgbClr val="43f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788000" y="4653000"/>
            <a:ext cx="287280" cy="288720"/>
          </a:xfrm>
          <a:prstGeom prst="rect">
            <a:avLst/>
          </a:prstGeom>
          <a:solidFill>
            <a:srgbClr val="43f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203640" y="4653000"/>
            <a:ext cx="287280" cy="288720"/>
          </a:xfrm>
          <a:prstGeom prst="rect">
            <a:avLst/>
          </a:prstGeom>
          <a:solidFill>
            <a:srgbClr val="43f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187280" y="4653000"/>
            <a:ext cx="287640" cy="288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050920" y="5877000"/>
            <a:ext cx="287640" cy="288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916360" y="306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5292720" y="234936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258920" y="6308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Some Forms of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451640" y="5300640"/>
            <a:ext cx="287280" cy="289080"/>
          </a:xfrm>
          <a:prstGeom prst="rect">
            <a:avLst/>
          </a:prstGeom>
          <a:solidFill>
            <a:srgbClr val="43f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604360" y="4005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8172360" y="5300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003640" y="4941720"/>
            <a:ext cx="21600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724360" y="4941720"/>
            <a:ext cx="21600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7596000" y="5013360"/>
            <a:ext cx="21564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7380360" y="5013360"/>
            <a:ext cx="21600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5435280" y="4941720"/>
            <a:ext cx="14436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6084720" y="4941720"/>
            <a:ext cx="21600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7236000" y="2781360"/>
            <a:ext cx="360360" cy="358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6012000" y="285264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7885080" y="3068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659640" y="2781360"/>
            <a:ext cx="287280" cy="288720"/>
          </a:xfrm>
          <a:prstGeom prst="rect">
            <a:avLst/>
          </a:prstGeom>
          <a:solidFill>
            <a:srgbClr val="43fd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084720" y="2924280"/>
            <a:ext cx="216000" cy="21564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8028000" y="5013360"/>
            <a:ext cx="21600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8675280" y="4292640"/>
            <a:ext cx="73080" cy="360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8388360" y="4941720"/>
            <a:ext cx="216000" cy="358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203640" y="4292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1                                            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8604360" y="3716280"/>
            <a:ext cx="144360" cy="28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172360" y="3357720"/>
            <a:ext cx="28728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596360" y="3068640"/>
            <a:ext cx="288720" cy="14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6372360" y="2852640"/>
            <a:ext cx="287280" cy="1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948360" y="2924280"/>
            <a:ext cx="287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692360" y="5300640"/>
            <a:ext cx="215640" cy="21600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57C-D8FA-437C-AA18-451D0887CF3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3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73BE0-E635-48CF-8B6A-9719534A875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3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7CB91-E636-4EAD-8F6D-910F067025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5003640" y="458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826920" y="39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24000" y="4653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 what </a:t>
            </a: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wil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happen ?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470-89B8-4230-B832-4F0DF72D677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3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9CE2D-AF7A-4B8A-80C5-AE4CE67642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3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DA76-B759-44CA-A7D5-A86A6FD497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3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BFA55-5A30-4F81-A005-19044912D1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37B0-158F-4649-9D33-656BF80BBE5B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24000" y="260280"/>
            <a:ext cx="835164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onfus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ccurs when </a:t>
            </a:r>
            <a:r>
              <a:rPr b="0" lang="en-GB" sz="3200" spc="-1" strike="noStrike">
                <a:solidFill>
                  <a:srgbClr val="00ff00"/>
                </a:solidFill>
                <a:latin typeface="Arial"/>
              </a:rPr>
              <a:t>Concurrency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is "poured together" with 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Confli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usion demonstrates the mutual influence    of transition occurrences which are not linked by a directed causal ch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effect is not formulated in classical systems theories;  it is particular to combinatorial mod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voidance of Confusion                          is one key to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 rot="321600">
            <a:off x="6587640" y="4889520"/>
            <a:ext cx="2082960" cy="19684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 rot="414000">
            <a:off x="7030800" y="4724280"/>
            <a:ext cx="1189080" cy="217440"/>
          </a:xfrm>
          <a:custGeom>
            <a:avLst/>
            <a:gdLst/>
            <a:ahLst/>
            <a:rect l="l" t="t" r="r" b="b"/>
            <a:pathLst>
              <a:path w="749" h="257">
                <a:moveTo>
                  <a:pt x="227" y="15"/>
                </a:moveTo>
                <a:cubicBezTo>
                  <a:pt x="113" y="64"/>
                  <a:pt x="0" y="113"/>
                  <a:pt x="0" y="151"/>
                </a:cubicBezTo>
                <a:cubicBezTo>
                  <a:pt x="0" y="189"/>
                  <a:pt x="144" y="227"/>
                  <a:pt x="227" y="242"/>
                </a:cubicBezTo>
                <a:cubicBezTo>
                  <a:pt x="310" y="257"/>
                  <a:pt x="423" y="250"/>
                  <a:pt x="499" y="242"/>
                </a:cubicBezTo>
                <a:cubicBezTo>
                  <a:pt x="575" y="234"/>
                  <a:pt x="643" y="220"/>
                  <a:pt x="681" y="197"/>
                </a:cubicBezTo>
                <a:cubicBezTo>
                  <a:pt x="719" y="174"/>
                  <a:pt x="749" y="136"/>
                  <a:pt x="726" y="106"/>
                </a:cubicBezTo>
                <a:cubicBezTo>
                  <a:pt x="703" y="76"/>
                  <a:pt x="605" y="30"/>
                  <a:pt x="545" y="15"/>
                </a:cubicBezTo>
                <a:cubicBezTo>
                  <a:pt x="485" y="0"/>
                  <a:pt x="408" y="0"/>
                  <a:pt x="363" y="15"/>
                </a:cubicBezTo>
                <a:cubicBezTo>
                  <a:pt x="318" y="30"/>
                  <a:pt x="257" y="83"/>
                  <a:pt x="272" y="106"/>
                </a:cubicBezTo>
                <a:cubicBezTo>
                  <a:pt x="287" y="129"/>
                  <a:pt x="409" y="151"/>
                  <a:pt x="454" y="151"/>
                </a:cubicBezTo>
                <a:cubicBezTo>
                  <a:pt x="499" y="151"/>
                  <a:pt x="530" y="113"/>
                  <a:pt x="545" y="10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804000" y="4869000"/>
            <a:ext cx="360360" cy="288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812000" y="4581360"/>
            <a:ext cx="360360" cy="289080"/>
          </a:xfrm>
          <a:prstGeom prst="star5">
            <a:avLst/>
          </a:prstGeom>
          <a:solidFill>
            <a:srgbClr val="8de4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8101080" y="5013360"/>
            <a:ext cx="360360" cy="288720"/>
          </a:xfrm>
          <a:prstGeom prst="star5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2"/>
          <a:stretch/>
        </p:blipFill>
        <p:spPr>
          <a:xfrm rot="2193600">
            <a:off x="7236000" y="5660640"/>
            <a:ext cx="722160" cy="9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BE25-7496-49C2-9D1B-39C37C10F33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39640" y="404640"/>
            <a:ext cx="799308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Simulation,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urrency is often   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replaced by  random  sequ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en conflicts are also resolved at random,         confusion 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appear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as a probabilistic fe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at is mislea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fusion is a 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basic combinatorial feature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;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it is objective and does not depend on the way in which conflicts are res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1"/>
          <a:stretch/>
        </p:blipFill>
        <p:spPr>
          <a:xfrm>
            <a:off x="250920" y="5027760"/>
            <a:ext cx="2089080" cy="183024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2"/>
          <a:stretch/>
        </p:blipFill>
        <p:spPr>
          <a:xfrm>
            <a:off x="1908000" y="4797360"/>
            <a:ext cx="6494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3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7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2433A-7FF1-4403-B67C-B97ED81238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" descr=""/>
          <p:cNvPicPr/>
          <p:nvPr/>
        </p:nvPicPr>
        <p:blipFill>
          <a:blip r:embed="rId1"/>
          <a:srcRect l="0" t="0" r="0" b="13192"/>
          <a:stretch/>
        </p:blipFill>
        <p:spPr>
          <a:xfrm>
            <a:off x="0" y="6138720"/>
            <a:ext cx="2921040" cy="719280"/>
          </a:xfrm>
          <a:prstGeom prst="rect">
            <a:avLst/>
          </a:prstGeom>
          <a:ln w="0">
            <a:noFill/>
          </a:ln>
        </p:spPr>
      </p:pic>
      <p:sp>
        <p:nvSpPr>
          <p:cNvPr id="1429" name=""/>
          <p:cNvSpPr/>
          <p:nvPr/>
        </p:nvSpPr>
        <p:spPr>
          <a:xfrm>
            <a:off x="250920" y="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:   Maximal non-class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95280" y="981000"/>
            <a:ext cx="360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971640" y="981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547640" y="981000"/>
            <a:ext cx="360360" cy="360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2124000" y="981000"/>
            <a:ext cx="36036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84360" y="1773360"/>
            <a:ext cx="431640" cy="431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258920" y="1773360"/>
            <a:ext cx="431640" cy="431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564000" y="4221000"/>
            <a:ext cx="431640" cy="43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003640" y="2276640"/>
            <a:ext cx="432000" cy="431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572000" y="2276640"/>
            <a:ext cx="431640" cy="431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995640" y="4221000"/>
            <a:ext cx="432000" cy="43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093080" y="4221000"/>
            <a:ext cx="431640" cy="43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35640" y="2276640"/>
            <a:ext cx="431640" cy="431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132000" y="4221000"/>
            <a:ext cx="432000" cy="43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835280" y="1773360"/>
            <a:ext cx="431640" cy="431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971280" y="1341360"/>
            <a:ext cx="14436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12720" y="1341360"/>
            <a:ext cx="21420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835280" y="1341360"/>
            <a:ext cx="14436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58920" y="1341360"/>
            <a:ext cx="14436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1547640" y="1341360"/>
            <a:ext cx="14472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123640" y="1341360"/>
            <a:ext cx="14436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1" name="" descr=""/>
          <p:cNvPicPr/>
          <p:nvPr/>
        </p:nvPicPr>
        <p:blipFill>
          <a:blip r:embed="rId2"/>
          <a:stretch/>
        </p:blipFill>
        <p:spPr>
          <a:xfrm>
            <a:off x="7164360" y="4292640"/>
            <a:ext cx="289080" cy="24768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6659640" y="4221000"/>
            <a:ext cx="431640" cy="43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227640" y="4221000"/>
            <a:ext cx="432000" cy="43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289080" cy="24768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/>
          <p:cNvPicPr/>
          <p:nvPr/>
        </p:nvPicPr>
        <p:blipFill>
          <a:blip r:embed="rId4"/>
          <a:stretch/>
        </p:blipFill>
        <p:spPr>
          <a:xfrm>
            <a:off x="4067280" y="4292640"/>
            <a:ext cx="288720" cy="24768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5"/>
          <a:stretch/>
        </p:blipFill>
        <p:spPr>
          <a:xfrm>
            <a:off x="3635280" y="4292640"/>
            <a:ext cx="289080" cy="24768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/>
          <p:cNvPicPr/>
          <p:nvPr/>
        </p:nvPicPr>
        <p:blipFill>
          <a:blip r:embed="rId6"/>
          <a:stretch/>
        </p:blipFill>
        <p:spPr>
          <a:xfrm>
            <a:off x="3203640" y="4292640"/>
            <a:ext cx="288720" cy="2476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 rot="8531400">
            <a:off x="5724000" y="2852640"/>
            <a:ext cx="648000" cy="1260720"/>
          </a:xfrm>
          <a:prstGeom prst="upArrow">
            <a:avLst>
              <a:gd name="adj1" fmla="val 50000"/>
              <a:gd name="adj2" fmla="val 4863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rot="12879600">
            <a:off x="3634920" y="2781000"/>
            <a:ext cx="647640" cy="1260360"/>
          </a:xfrm>
          <a:prstGeom prst="upArrow">
            <a:avLst>
              <a:gd name="adj1" fmla="val 50000"/>
              <a:gd name="adj2" fmla="val 4865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rot="12879600">
            <a:off x="4211280" y="2852640"/>
            <a:ext cx="647640" cy="1260720"/>
          </a:xfrm>
          <a:prstGeom prst="upArrow">
            <a:avLst>
              <a:gd name="adj1" fmla="val 50000"/>
              <a:gd name="adj2" fmla="val 4866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500720" y="5229360"/>
            <a:ext cx="215640" cy="215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995640" y="3141720"/>
            <a:ext cx="216000" cy="2160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4572000" y="314172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4356000" y="3429000"/>
            <a:ext cx="21600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796000" y="3213000"/>
            <a:ext cx="21600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084720" y="3500280"/>
            <a:ext cx="21600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780000" y="3429000"/>
            <a:ext cx="21564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203640" y="5229360"/>
            <a:ext cx="216000" cy="2156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300720" y="5229360"/>
            <a:ext cx="216000" cy="2156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80360" y="5229360"/>
            <a:ext cx="216000" cy="215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2195640" y="486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484360" y="508464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#     ==  #                #     = 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851280" y="5157720"/>
            <a:ext cx="0" cy="35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851280" y="1413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king  Grap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24000" y="234936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227664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 Net  in  Conf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116000" y="3068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Arial"/>
              </a:rPr>
              <a:t>Maximal  Ste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826920" y="4221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Final  Ca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268360" y="5661000"/>
            <a:ext cx="64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  TWO Processes                  in ON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50920" y="5157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umber of T-Occur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987640" y="63086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Negative  Corre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6A1-FD0E-49C2-947F-DF35B3637DF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" descr=""/>
          <p:cNvPicPr/>
          <p:nvPr/>
        </p:nvPicPr>
        <p:blipFill>
          <a:blip r:embed="rId1"/>
          <a:srcRect l="11706" t="17011" r="11706" b="12790"/>
          <a:stretch/>
        </p:blipFill>
        <p:spPr>
          <a:xfrm>
            <a:off x="4464000" y="0"/>
            <a:ext cx="4680000" cy="429732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2124000" y="59500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 . . to be continued 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69976-9CF1-4DE1-AFD8-EC5FF798A916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00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95280" y="4437000"/>
            <a:ext cx="388944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ontact 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t is not saf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300720" y="2924280"/>
            <a:ext cx="284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372360" y="306864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&lt;  bl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48360" y="1268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&lt;   in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6D4-9A0D-4218-A750-528A096BDD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2484360" y="2060640"/>
            <a:ext cx="2951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&lt;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wo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curr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itions       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8D3-5C86-4023-85CB-E188389A867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968" name="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4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270036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Arial"/>
              </a:rPr>
              <a:t>DEADLO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003640" y="26028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( a final state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9B4-448F-421F-94A5-05BD8E94BE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395280" y="260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t us try BACKWARD Simulation now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24000" y="3933720"/>
            <a:ext cx="216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it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B02-602A-4BF0-A3B5-1F58106B6C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0C78-19AC-4821-BD3A-2CC2E10ED0FF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c6ccd4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IN</a:t>
            </a:r>
            <a:r>
              <a:rPr b="0" lang="en-GB" sz="2800" spc="-1" strike="noStrike">
                <a:solidFill>
                  <a:srgbClr val="800000"/>
                </a:solidFill>
                <a:latin typeface="Verdana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MAX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"/>
          <p:cNvSpPr/>
          <p:nvPr/>
        </p:nvSpPr>
        <p:spPr>
          <a:xfrm>
            <a:off x="3203640" y="220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8"/>
          <a:stretch/>
        </p:blipFill>
        <p:spPr>
          <a:xfrm>
            <a:off x="3203640" y="263700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4" name="" descr=""/>
          <p:cNvPicPr/>
          <p:nvPr/>
        </p:nvPicPr>
        <p:blipFill>
          <a:blip r:embed="rId9"/>
          <a:stretch/>
        </p:blipFill>
        <p:spPr>
          <a:xfrm>
            <a:off x="3203640" y="4005360"/>
            <a:ext cx="792000" cy="431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5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3640" y="3573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0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003640" y="544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en-GB" sz="3200" spc="-1" strike="noStrike">
                <a:solidFill>
                  <a:srgbClr val="ff5050"/>
                </a:solidFill>
                <a:latin typeface="Arial"/>
              </a:rPr>
              <a:t>N E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1"/>
          <a:stretch/>
        </p:blipFill>
        <p:spPr>
          <a:xfrm>
            <a:off x="3203640" y="5373720"/>
            <a:ext cx="792000" cy="431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3" name=""/>
          <p:cNvSpPr/>
          <p:nvPr/>
        </p:nvSpPr>
        <p:spPr>
          <a:xfrm rot="19995000">
            <a:off x="4284360" y="1988640"/>
            <a:ext cx="1655640" cy="720720"/>
          </a:xfrm>
          <a:prstGeom prst="leftArrow">
            <a:avLst>
              <a:gd name="adj1" fmla="val 50000"/>
              <a:gd name="adj2" fmla="val 5743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700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126-C3E3-490C-BAA2-539CC94BBC8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15:28:57Z</dcterms:created>
  <dc:creator>C.A.Petri</dc:creator>
  <dc:description/>
  <dc:language>en-US</dc:language>
  <cp:lastModifiedBy>Petri</cp:lastModifiedBy>
  <dcterms:modified xsi:type="dcterms:W3CDTF">2004-09-26T15:42:17Z</dcterms:modified>
  <cp:revision>112</cp:revision>
  <dc:subject/>
  <dc:title>Net Modelling</dc:title>
</cp:coreProperties>
</file>